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C3C4-D259-4CF4-B3D6-DE88060129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 Westw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9er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to Californi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ove Westward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are attacked by groups called “nativis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hood for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omes a state in 18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enters as a free state in the 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atehood for Califor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is discovered in 1848 on Sutter’s sawmi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easons for the Gold Rush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s believe in Manifest Desti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ypical miner locates gold flakes not gold nug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49er’s arrived to California they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 from criminals, Indian attacks and dangerou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 work and exhau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omfortable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s have to contend with high prices, gamblers and cri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come are from South America, Mexico, Europe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875-664E-4B90-A5C1-6EB97986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C6D-C2BF-4067-9672-79487DAB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5B8-D0CB-4469-90B9-66B05834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B57-6D81-4755-A7C5-D31885A6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EB0A-7640-458A-9800-4921C11B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D72E-C21E-4577-9EA8-1D945A2F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775D-F77A-44CF-B749-6DDA34A2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481E-1778-42A6-80D7-9B7C3F84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7AD1-E4BF-4A0A-AEF2-E32B275A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8E1A-9676-4E8E-96C1-DF76D662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4926-357A-4FC9-8D7D-0E11DCDF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72E-5839-4EFC-8C54-12C4FAAB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A7EA-EEBB-490E-9147-3501C397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F424-77AC-46BA-9B90-63ABDD59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05A2-8FB2-4D4E-B902-84E090BE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712F-24B8-4207-981B-948A0780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D8EA-B259-44AC-9441-7A32DD03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7E0-C6F0-406F-8339-582071BA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939-9223-4C57-A05A-9D3228EB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C24-E352-4650-BA33-CA8928F1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0A4-BD8F-4576-96F6-C936B35B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9A5-0BE3-4E3F-83FE-85DA3325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781-8E0B-4EC1-8C79-6112E1F3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83C-ABFF-4E49-B943-3CBE4038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A10D-2575-44D4-AB6F-1164DA60C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6C23-BE94-41FB-BE91-6F596846BB9D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ove Westwar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Picture 11" descr="http://www.pbs.org/weta/thewest/resources/archives/images/wimg630/oc52mnrs.gif"/>
          <p:cNvPicPr/>
          <p:nvPr/>
        </p:nvPicPr>
        <p:blipFill>
          <a:blip r:embed="rId1"/>
          <a:stretch/>
        </p:blipFill>
        <p:spPr>
          <a:xfrm>
            <a:off x="4876920" y="2057400"/>
            <a:ext cx="3581280" cy="373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438200" y="1166760"/>
            <a:ext cx="6269040" cy="4525920"/>
            <a:chOff x="1438200" y="1166760"/>
            <a:chExt cx="6269040" cy="4525920"/>
          </a:xfrm>
        </p:grpSpPr>
        <p:sp>
          <p:nvSpPr>
            <p:cNvPr id="206" name="Rectangle 5"/>
            <p:cNvSpPr/>
            <p:nvPr/>
          </p:nvSpPr>
          <p:spPr>
            <a:xfrm>
              <a:off x="1438200" y="116676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1438200" y="116676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1436760" y="1165320"/>
            <a:ext cx="6269040" cy="4525920"/>
            <a:chOff x="1436760" y="1165320"/>
            <a:chExt cx="6269040" cy="4525920"/>
          </a:xfrm>
        </p:grpSpPr>
        <p:sp>
          <p:nvSpPr>
            <p:cNvPr id="209" name="Rectangle 9"/>
            <p:cNvSpPr/>
            <p:nvPr/>
          </p:nvSpPr>
          <p:spPr>
            <a:xfrm>
              <a:off x="1436760" y="116532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1436760" y="116532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11" name="Picture 11" descr="http://immigrants.harpweek.com/ChineseAmericans/Illustrations/images/0219w500.jpg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425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3526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9" descr="http://immigrants.harpweek.com/ChineseAmericans/Illustrations/images/1221w775.jpg"/>
          <p:cNvPicPr/>
          <p:nvPr/>
        </p:nvPicPr>
        <p:blipFill>
          <a:blip r:embed="rId1"/>
          <a:stretch/>
        </p:blipFill>
        <p:spPr>
          <a:xfrm>
            <a:off x="4952880" y="304920"/>
            <a:ext cx="3810240" cy="632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Picture 12" descr="http://immigrants.harpweek.com/ChineseAmericans/Illustrations/images/1600w500.jpg"/>
          <p:cNvPicPr/>
          <p:nvPr/>
        </p:nvPicPr>
        <p:blipFill>
          <a:blip r:embed="rId2"/>
          <a:stretch/>
        </p:blipFill>
        <p:spPr>
          <a:xfrm>
            <a:off x="457200" y="304920"/>
            <a:ext cx="4114800" cy="631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tehood for Californ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7" descr="http://rds.yahoo.com/S=96062883/K=california+flag/v=2/SID=e/l=IVS/SIG=122dnipd7/EXP=1112164871/*-http%3A//www.workmall.com/amazon/california3.jpg"/>
          <p:cNvPicPr/>
          <p:nvPr/>
        </p:nvPicPr>
        <p:blipFill>
          <a:blip r:embed="rId1"/>
          <a:srcRect l="0" t="0" r="0" b="6002"/>
          <a:stretch/>
        </p:blipFill>
        <p:spPr>
          <a:xfrm>
            <a:off x="4572000" y="20574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7" descr="http://rds.yahoo.com/S=96062883/K=sutter%27s+mill/v=2/SID=e/l=IVS/SIG=12spr2q3q/EXP=1112161566/*-http%3A//www.books-about-california.com/Images/California_Romantic/Sutter's_Mill.jpg"/>
          <p:cNvPicPr/>
          <p:nvPr/>
        </p:nvPicPr>
        <p:blipFill>
          <a:blip r:embed="rId1"/>
          <a:srcRect l="4000" t="1774" r="4000" b="13212"/>
          <a:stretch/>
        </p:blipFill>
        <p:spPr>
          <a:xfrm>
            <a:off x="4800600" y="2133720"/>
            <a:ext cx="373392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7" descr="California Gold Rush"/>
          <p:cNvPicPr/>
          <p:nvPr/>
        </p:nvPicPr>
        <p:blipFill>
          <a:blip r:embed="rId1"/>
          <a:stretch/>
        </p:blipFill>
        <p:spPr>
          <a:xfrm>
            <a:off x="4952880" y="2057400"/>
            <a:ext cx="36576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7" descr="http://www.goldrush.com/~joann/women1.jpg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http://rds.yahoo.com/S=96062883/K=california+gold+rush+pictures/v=2/SID=e/l=IVI/SIG=121f91lv7/EXP=1112163156/*-http%3A//www.quiknet.com/~class/sundaymines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48320" y="2133720"/>
            <a:ext cx="38098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7" descr="http://rds.yahoo.com/S=96062883/K=old+panning/v=2/SID=e/l=IVS/SIG=12g0rhktv/EXP=1112163584/*-http%3A//homepages.wmich.edu/~r6bigelo/old%20boy%20panning.jpg"/>
          <p:cNvPicPr/>
          <p:nvPr/>
        </p:nvPicPr>
        <p:blipFill>
          <a:blip r:embed="rId1"/>
          <a:stretch/>
        </p:blipFill>
        <p:spPr>
          <a:xfrm>
            <a:off x="5089680" y="1981080"/>
            <a:ext cx="2925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6" descr="http://www.legendsofamerica.com/photos-oldwest/CaliforniaGambling1894.jpg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Picture 7" descr="Chinese Census"/>
          <p:cNvPicPr/>
          <p:nvPr/>
        </p:nvPicPr>
        <p:blipFill>
          <a:blip r:embed="rId1"/>
          <a:stretch/>
        </p:blipFill>
        <p:spPr>
          <a:xfrm>
            <a:off x="4876920" y="2133720"/>
            <a:ext cx="365760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11" descr="http://www.newton.mec.edu/Angier/DimSum/dimsumimages/newphotos/2chinese_panner400.jpg"/>
          <p:cNvPicPr/>
          <p:nvPr/>
        </p:nvPicPr>
        <p:blipFill>
          <a:blip r:embed="rId1"/>
          <a:srcRect l="8001" t="3963" r="3997" b="4953"/>
          <a:stretch/>
        </p:blipFill>
        <p:spPr>
          <a:xfrm>
            <a:off x="4952880" y="2209680"/>
            <a:ext cx="365760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3:08:41Z</dcterms:created>
  <dc:creator>Preferred Customer</dc:creator>
  <dc:description/>
  <dc:language>en-US</dc:language>
  <cp:lastModifiedBy>Legion</cp:lastModifiedBy>
  <dcterms:modified xsi:type="dcterms:W3CDTF">2017-07-05T13:22:14Z</dcterms:modified>
  <cp:revision>17</cp:revision>
  <dc:subject/>
  <dc:title>The Move Westward</dc:title>
</cp:coreProperties>
</file>