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8A7F-8C14-42FF-9F6A-E07DE75DC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F9D-3716-4CAB-AF2C-28E2B6C0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B40-45C3-4582-9EE1-D5F59668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590-47AE-460E-9822-5A790CA1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A949-DF6C-4FCD-827D-F3692B5C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7F3-1EB0-4567-82C2-2B2D791D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2F8-FBF2-4AFB-ABEC-0EBF8E3D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B22-396B-40F7-9A20-4D9C5231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761-1609-41B1-84A9-EC8E189A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248-FB34-4AC6-AE5B-AF144190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627-6510-425B-9AFA-0723682B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429-7479-4EA7-B5D8-8D59033C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7A5-DFE1-42E5-9F01-E2A99BB3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F943-A927-4857-9D64-D2CBED6B1AC8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463634"/>
                </a:solidFill>
                <a:latin typeface="Tempus Sans ITC"/>
              </a:rPr>
              <a:t>The Iroquois</a:t>
            </a:r>
            <a:br>
              <a:rPr sz="6900"/>
            </a:br>
            <a:endParaRPr b="0" i="1" lang="en-US" sz="69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82C9-C418-42AC-9DD0-380426ADC83F}" type="datetime3"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July 29, 2026</a:t>
            </a:fld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676520"/>
          <a:ext cx="7772400" cy="39924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Childr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1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Tools for hunt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ampum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arved bowls, cups and pipe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Sports equipment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usical instrument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ay po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Baske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radleboard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oth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occasi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Elaborate decoratio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ould help their mothers and fathers as much as they could with gathering of materials and other thing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Gam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re were many team games with about 6-8 players on each team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Running was also a sport and there were those who competed at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lso played games of chanc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peach-stone game was often played on the Green Corn Harvest and New Year’s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uring winter, they would play the “snake” game,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For More Information on the Iroquoi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aper doll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loring pag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National Geographic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cation and Nam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known as the Haudenosaunee, the people of the longhouses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part of the Great Iroquois Leagu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ir location was from eastern New York to northeastern Ohio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Sometimes they traveled as far as the Mississippi River, Tennessee and the Hudson Bay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172200" y="5791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nghous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lived in a village surrounded by a stockad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nside the stockade were longhouse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t had a fire hole in the middle to let the cooking smoke out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between 15-20 ft. high, 25ft. wide and between 50-150 ft. lo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Many families lived in a longhous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longhouse"/>
          <p:cNvPicPr/>
          <p:nvPr/>
        </p:nvPicPr>
        <p:blipFill>
          <a:blip r:embed="rId6"/>
          <a:stretch/>
        </p:blipFill>
        <p:spPr>
          <a:xfrm>
            <a:off x="2362320" y="5338800"/>
            <a:ext cx="4343400" cy="1519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Inside the Longhous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kins from animals or tree bark were used to make compartments for each family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ome compartments were used for storag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You lived with your “fireside family”-parents, brothers and sister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oldest women of the longhouse, was the head of the family and everyone was related to her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07520" y="60199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igure3interiorlg"/>
          <p:cNvPicPr/>
          <p:nvPr/>
        </p:nvPicPr>
        <p:blipFill>
          <a:blip r:embed="rId1"/>
          <a:stretch/>
        </p:blipFill>
        <p:spPr>
          <a:xfrm>
            <a:off x="380880" y="533520"/>
            <a:ext cx="6782040" cy="5722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7241040" y="380880"/>
            <a:ext cx="4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317360" y="365760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849800" y="990720"/>
            <a:ext cx="41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lothing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kilt like skirts almost to their kne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corated deerskin blouses or ves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Wo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long skirts almost to their ankles, decorated with bead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erskin vest or blous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Sho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EVERYD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Everyone wore moccasins, made of one piece of deersk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moccasin was sewn at the heel and the top for comfort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comfortable and were sewn with sinew (thread) from the deer.</a:t>
            </a: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WIN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During the winter they wore special shoes known as snowshoes.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snowshoe was worn along with the moccas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made of pieces of hickory wood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used for hunting trip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5" name="Picture 17" descr="moccasin"/>
          <p:cNvPicPr/>
          <p:nvPr/>
        </p:nvPicPr>
        <p:blipFill>
          <a:blip r:embed="rId1"/>
          <a:stretch/>
        </p:blipFill>
        <p:spPr>
          <a:xfrm>
            <a:off x="304920" y="152280"/>
            <a:ext cx="2993760" cy="181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moc"/>
          <p:cNvPicPr/>
          <p:nvPr/>
        </p:nvPicPr>
        <p:blipFill>
          <a:blip r:embed="rId2"/>
          <a:stretch/>
        </p:blipFill>
        <p:spPr>
          <a:xfrm>
            <a:off x="5562720" y="228600"/>
            <a:ext cx="3276360" cy="18111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Foo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Food was attained by farming and hunti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te a lot of vegetables, fruits, nuts and different kinds of meat and fish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main vegetables were known as the “Three Sister” and they were corn, squash and bean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0" name="Picture 4" descr="corn"/>
          <p:cNvPicPr/>
          <p:nvPr/>
        </p:nvPicPr>
        <p:blipFill>
          <a:blip r:embed="rId4"/>
          <a:stretch/>
        </p:blipFill>
        <p:spPr>
          <a:xfrm>
            <a:off x="685800" y="4343400"/>
            <a:ext cx="2057400" cy="182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eans"/>
          <p:cNvPicPr/>
          <p:nvPr/>
        </p:nvPicPr>
        <p:blipFill>
          <a:blip r:embed="rId5"/>
          <a:stretch/>
        </p:blipFill>
        <p:spPr>
          <a:xfrm>
            <a:off x="6400800" y="4343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quash"/>
          <p:cNvPicPr/>
          <p:nvPr/>
        </p:nvPicPr>
        <p:blipFill>
          <a:blip r:embed="rId6"/>
          <a:stretch/>
        </p:blipFill>
        <p:spPr>
          <a:xfrm>
            <a:off x="3657600" y="4724280"/>
            <a:ext cx="1792440" cy="19368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or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76520"/>
          <a:ext cx="7772400" cy="47005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was shelled and cooked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powder with syrup was carried by hunter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Dried kernels were used for decoration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stalks were used to hold medicine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Husks were used to make mats, baskets, medicine masks and doll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Green corn leaves were sometimes used as bandage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54" descr="cor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486400" y="0"/>
            <a:ext cx="1344600" cy="163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5" descr="corn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66880" y="0"/>
            <a:ext cx="1344600" cy="1639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51:49Z</dcterms:created>
  <dc:creator>college education</dc:creator>
  <dc:description/>
  <dc:language>en-US</dc:language>
  <cp:lastModifiedBy>Legion</cp:lastModifiedBy>
  <dcterms:modified xsi:type="dcterms:W3CDTF">2017-07-05T13:20:40Z</dcterms:modified>
  <cp:revision>51</cp:revision>
  <dc:subject/>
  <dc:title>PowerPoint Presentation</dc:title>
</cp:coreProperties>
</file>