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1F3E-4B65-44BB-A4A9-632A45E59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Iroquois</a:t>
            </a:r>
            <a:br>
              <a:rPr sz="1200"/>
            </a:b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July 5, 2017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quoi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5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Gam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re were many team games with about 6-8 players on each team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Running was also a sport and there were those who competed at festival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also played games of chanc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peach-stone game was often played on the Green Corn Harvest and New Year’s Festival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uring winter, they would play the “snake” game,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many team games with about 6-8 players on each t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ning was also a sport and there were those who competed at festi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played games of ch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ach-stone game was often played on the Green Corn Harvest and New Year’s Festi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winter, they would play the “snake” ga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Information on the Iroquo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do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ing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Geogra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For More Information on the Iroquoi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Paper doll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Coloring pag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National Geographic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tandard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ocation and Nam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known as the Haudenosaunee, the people of the longhouses.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part of the Great Iroquois Leagu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ir location was from eastern New York to northeastern Ohio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ometimes they traveled as far as the Mississippi River, Tennessee and the Hudson Bay.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and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known as the Haudenosaunee, the people of the longhou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part of the Great Iroquois Le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location was from eastern New York to northeastern Oh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they traveled as far as the Mississippi River, Tennessee and the Hudson B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onghous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lived in a village surrounded by a stockad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nside the stockade were longhouse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t had a fire hole in the middle to let the cooking smoke out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between 15-20 ft. high, 25ft. wide and between 50-150 ft. long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Many families lived in a longhous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lived in a village surrounded by a stock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the stockade were longho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d a fire hole in the middle to let the cooking smoke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between 15-20 ft. high, 25ft. wide and between 50-150 ft.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families lived in a longho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nside the Longhous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kins from animals or tree bark were used to make compartments for each family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ome compartments were used for storag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You lived with your “fireside family”-parents, brothers and sister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oldest women of the longhouse, was the head of the family and everyone was related to her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nsid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the Long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s from animals or tree bark were used to make compartments for each fam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compartments were used for sto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lived with your “fireside family”-parents, brothers and sis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ldest women of the longhouse, was the head of the family and everyone was related to 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Me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re kilt like skirts almost to their kne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ecorated deerskin blouses or vest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re long skirts almost to their ankles, decorated with bead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eerskin vest or blous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e kilt like skirts almost to their kn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rated deerskin blouses or v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e long skirts almost to their ankles, decorated with b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rskin vest or bl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ho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VERYDAY</a:t>
            </a: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veryone wore moccasins, made of one piece of deerskin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moccasin was sewn at the heel and the top for comfort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comfortable and were sewn with sinew (thread) from the deer.</a:t>
            </a: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uring the winter they wore special shoes known as snowshoes. 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snowshoe was worn along with the moccasin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made of pieces of hickory wood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used for hunting trip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DA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wore moccasins, made of one piece of deers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ccasin was sewn at the heel and the top for comf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comfortable and were sewn with sinew (thread) from the deer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the winter they wore special shoes known as snowsho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nowshoe was worn along with the mocc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made of pieces of hickory w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used for hunting tri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Food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Food was attained by farming and hunting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ate a lot of vegetables, fruits, nuts and different kinds of meat and fish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main vegetables were known as the “Three Sister” and they were corn, squash and bean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was attained by farming and hun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te a lot of vegetables, fruits, nuts and different kinds of meat and f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vegetables were known as the “Three Sister” and they were corn, squash and be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Cor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7C42-F0F9-4419-8BD6-308C2FF55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0490-023B-4664-A176-B30027AE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CE0B-22F7-4931-9C4F-6CCA8B4B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783F-C433-4CAC-B928-8C2C1E9D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C536-5189-482A-B790-B854A8B4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BF7B-E7C1-42B1-9990-BD63B98F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0496-C80E-4144-92CC-B60EABD3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80A2-7644-4F24-8F35-89A654B9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C597-4A0A-41ED-A919-33696604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DEF6-840F-461C-810C-F89DEE7A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7970-BB98-4811-BF3D-B166A2B0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00B4-EF0E-4BAF-8D69-E2DCD58D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8BC6-44A8-4053-88E5-2160C09C72C6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463634"/>
                </a:solidFill>
                <a:latin typeface="Tempus Sans ITC"/>
              </a:rPr>
              <a:t>The Iroquois</a:t>
            </a:r>
            <a:br>
              <a:rPr sz="6900"/>
            </a:br>
            <a:endParaRPr b="0" i="1" lang="en-US" sz="69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2BC5-2953-4020-A018-A886968FB66C}" type="datetime3"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July 30, 2026</a:t>
            </a:fld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Work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5800" y="1676520"/>
          <a:ext cx="7772400" cy="39924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63634"/>
                          </a:solidFill>
                          <a:uFillTx/>
                          <a:latin typeface="Tempus Sans ITC"/>
                        </a:rPr>
                        <a:t>Men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63634"/>
                          </a:solidFill>
                          <a:uFillTx/>
                          <a:latin typeface="Tempus Sans ITC"/>
                        </a:rPr>
                        <a:t>Women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63634"/>
                          </a:solidFill>
                          <a:uFillTx/>
                          <a:latin typeface="Tempus Sans ITC"/>
                        </a:rPr>
                        <a:t>Children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13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Tools for hunting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Wampum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arved bowls, cups and pipe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Sports equipment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Musical instruments.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lay pot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Basket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radleboard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lothing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Moccasin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Elaborate decoration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Would help their mothers and fathers as much as they could with gathering of materials and other things.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Game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re were many team games with about 6-8 players on each team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Running was also a sport and there were those who competed at festival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also played games of chanc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 peach-stone game was often played on the Green Corn Harvest and New Year’s Festival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During winter, they would play the “snake” game,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For More Information on the Iroquoi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Paper doll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oloring page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National Geographic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tandard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Location and Nam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were known as the Haudenosaunee, the people of the longhouses.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were part of the Great Iroquois League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ir location was from eastern New York to northeastern Ohio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Sometimes they traveled as far as the Mississippi River, Tennessee and the Hudson Bay.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6172200" y="57913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Longhouse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lived in a village surrounded by a stockad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Inside the stockade were longhouse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It had a fire hole in the middle to let the cooking smoke out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were between 15-20 ft. high, 25ft. wide and between 50-150 ft. long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Many families lived in a longhous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7" name="Picture 7" descr="longhouse"/>
          <p:cNvPicPr/>
          <p:nvPr/>
        </p:nvPicPr>
        <p:blipFill>
          <a:blip r:embed="rId6"/>
          <a:stretch/>
        </p:blipFill>
        <p:spPr>
          <a:xfrm>
            <a:off x="2362320" y="5338800"/>
            <a:ext cx="4343400" cy="15192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Inside the Longhous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kins from animals or tree bark were used to make compartments for each family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ome compartments were used for storag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You lived with your “fireside family”-parents, brothers and sister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he oldest women of the longhouse, was the head of the family and everyone was related to her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707520" y="601992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Arial"/>
              </a:rPr>
              <a:t>Insid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figure3interiorlg"/>
          <p:cNvPicPr/>
          <p:nvPr/>
        </p:nvPicPr>
        <p:blipFill>
          <a:blip r:embed="rId1"/>
          <a:stretch/>
        </p:blipFill>
        <p:spPr>
          <a:xfrm>
            <a:off x="380880" y="533520"/>
            <a:ext cx="6782040" cy="5722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7241040" y="380880"/>
            <a:ext cx="40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7317360" y="3657600"/>
            <a:ext cx="4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849800" y="990720"/>
            <a:ext cx="418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Clothing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63634"/>
                </a:solidFill>
                <a:uFillTx/>
                <a:latin typeface="Tempus Sans ITC"/>
              </a:rPr>
              <a:t>Men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Wore kilt like skirts almost to their knee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Legging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Decorated deerskin blouses or vest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884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63634"/>
                </a:solidFill>
                <a:uFillTx/>
                <a:latin typeface="Tempus Sans ITC"/>
              </a:rPr>
              <a:t>Women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Wore long skirts almost to their ankles, decorated with bead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Legging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Deerskin vest or blouse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Shoe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empus Sans ITC"/>
              </a:rPr>
              <a:t>EVERYDA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Everyone wore moccasins, made of one piece of deerskin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 moccasin was sewn at the heel and the top for comfort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y were comfortable and were sewn with sinew (thread) from the deer.</a:t>
            </a: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	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empus Sans ITC"/>
              </a:rPr>
              <a:t>WINTER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During the winter they wore special shoes known as snowshoes.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 snowshoe was worn along with the moccasin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y were made of pieces of hickory wood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y were used for hunting trips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5" name="Picture 17" descr="moccasin"/>
          <p:cNvPicPr/>
          <p:nvPr/>
        </p:nvPicPr>
        <p:blipFill>
          <a:blip r:embed="rId1"/>
          <a:stretch/>
        </p:blipFill>
        <p:spPr>
          <a:xfrm>
            <a:off x="304920" y="152280"/>
            <a:ext cx="2993760" cy="1811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moc"/>
          <p:cNvPicPr/>
          <p:nvPr/>
        </p:nvPicPr>
        <p:blipFill>
          <a:blip r:embed="rId2"/>
          <a:stretch/>
        </p:blipFill>
        <p:spPr>
          <a:xfrm>
            <a:off x="5562720" y="228600"/>
            <a:ext cx="3276360" cy="181116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Food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Food was attained by farming and hunting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ate a lot of vegetables, fruits, nuts and different kinds of meat and fish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 main vegetables were known as the “Three Sister” and they were corn, squash and bean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0" name="Picture 4" descr="corn"/>
          <p:cNvPicPr/>
          <p:nvPr/>
        </p:nvPicPr>
        <p:blipFill>
          <a:blip r:embed="rId4"/>
          <a:stretch/>
        </p:blipFill>
        <p:spPr>
          <a:xfrm>
            <a:off x="685800" y="4343400"/>
            <a:ext cx="2057400" cy="1820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beans"/>
          <p:cNvPicPr/>
          <p:nvPr/>
        </p:nvPicPr>
        <p:blipFill>
          <a:blip r:embed="rId5"/>
          <a:stretch/>
        </p:blipFill>
        <p:spPr>
          <a:xfrm>
            <a:off x="6400800" y="43434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squash"/>
          <p:cNvPicPr/>
          <p:nvPr/>
        </p:nvPicPr>
        <p:blipFill>
          <a:blip r:embed="rId6"/>
          <a:stretch/>
        </p:blipFill>
        <p:spPr>
          <a:xfrm>
            <a:off x="3657600" y="4724280"/>
            <a:ext cx="1792440" cy="19368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Cor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676520"/>
          <a:ext cx="7772400" cy="47005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4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orn was shelled and cooked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orn powder with syrup was carried by hunters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Dried kernels were used for decoration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ornstalks were used to hold medicine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Husks were used to make mats, baskets, medicine masks and dolls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Green corn leaves were sometimes used as bandages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Picture 54" descr="cor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486400" y="0"/>
            <a:ext cx="1344600" cy="1639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5" descr="corn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666880" y="0"/>
            <a:ext cx="1344600" cy="16398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02:51:49Z</dcterms:created>
  <dc:creator>college education</dc:creator>
  <dc:description/>
  <dc:language>en-US</dc:language>
  <cp:lastModifiedBy>Legion</cp:lastModifiedBy>
  <dcterms:modified xsi:type="dcterms:W3CDTF">2017-07-05T13:20:40Z</dcterms:modified>
  <cp:revision>51</cp:revision>
  <dc:subject/>
  <dc:title>PowerPoint Presentation</dc:title>
</cp:coreProperties>
</file>