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B065-B158-4313-9588-EE2447E0D3A5}" type="slidenum">
              <a:rPr b="0" lang="uk-U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uit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Inuit Trib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an from below the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 father mistreated 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was a human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egen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woman from below the ocea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er father mistreated h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he was a human being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p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rs traded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d weap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animals 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uropea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plorers traded fu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raded weap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ade animals endanger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yed cats cra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re told s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ed for by everyone in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hildre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layed cats crad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re told stori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red for by everyone in trib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uit Sing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an Agluk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a Song wr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ts with s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 music blends with pop mu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uit Singer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san Aglukar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as a Song writ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hants with soun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er music blends with pop music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navut is a territory run by the In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important to the Inuit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da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unavut is a territory run by the Inui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t is important to the Inuit cultu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Gray-KanaTiosh, Barbara.  Inuit. ABDO Publishing Company, 2004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http://www.ih.k12.oh.us/ps/Inuit/Maininuit.ht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http://nativeamericans.mrdonn.org/arctic/inuit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IBLIOGRAPHY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~Gray-KanaTiosh, Barbara.  Inuit. ABDO Publishing Company, 2004.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~http://www.ih.k12.oh.us/ps/Inuit/Maininuit.htm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~http://nativeamericans.mrdonn.org/arctic/inuit.html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made clothing out of polar bear,  fox and wolf f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goggles out of whale b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lothing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omen made clothing out of polar bear,  fox and wolf fu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ade goggles out of whale bon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y was very important to the In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ed living in harsh clim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always built sl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amily was very important to the Inui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rvived living in harsh clima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en always built sle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amil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a ceremony befor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shared m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pooned seals for m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oo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ad a ceremony before hunting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ways shared m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arpooned seals for m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sing songs for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en would face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almost never happened near the Inuit tri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a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ould sing songs for wa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wo men would face off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ar almost never happened near the Inuit trib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berries and small shru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days were very cold and d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in Greenland  and coast of Ala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melan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ots of berries and small shrub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me days were very cold and dar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ved in Greenland  and coast of Alaska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group had a 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group had a whale cr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settlements from 40 to 100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ciet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ach group had a lead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ach group had a whale cre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ad settlements from 40 to 100 peop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ved with knif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ved on soap 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orated clothes and weap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raf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rved with knif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rved on soap ston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corated clothes and weap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in a snow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in sod hom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in a hide 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m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ved in a snow hou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ved in sod home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ved in a hide ten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640F-6E71-4A36-A080-A195ACCF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395-05CB-4C7E-8C03-C32B3333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A6A-2111-42C4-96BB-7D3C3708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D1A-DD06-4693-BDB3-60A49819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263B-7C65-4167-B133-948D69A9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9369-E99B-4BFC-A917-E10F0C16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D54E-C8AA-4045-B69F-B542ACE8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1151-A103-496C-BDA4-459E658D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3240-1ECF-4FDD-A087-136DA089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FA8E-F608-4C89-AEFE-8619B981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B28D-DB8C-49AA-8909-2A06D72F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B51-A349-4F06-9D3C-C0FAC43B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ABD4-E1C9-4B2C-930E-4DE6503B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C08D-62C7-4BC4-8363-72C7EC62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612F-3179-4D06-8259-FE4F60B8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BCBF-27A0-4B00-825F-1ABAD2F0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3BAB-04D3-43D4-9902-C5F4EB5C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F29-34C7-4A6A-9A15-2F8BDB2A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873-5095-48C3-84C3-00D3E4B1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D6D-2675-4377-B822-C30C0F01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8D1-01DF-4716-B0CA-DC06BFE4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59D-E5C9-4ECE-8077-8DB65D5B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4EB-E93D-45C0-9C55-7625B238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9E4-F0E8-4895-A1E6-8C199801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7BD9-1639-453A-B6F5-424C32F86B74}" type="datetime">
              <a:rPr b="0" lang="en-US" sz="1400" spc="-1" strike="noStrike">
                <a:solidFill>
                  <a:srgbClr val="000000"/>
                </a:solidFill>
                <a:latin typeface="Arial Black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EEAB-1A36-4701-AA84-F328B8BD01DC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7880-5160-42DB-9B8E-8C1A0EEA18AE}" type="datetime">
              <a:rPr b="0" lang="en-US" sz="1400" spc="-1" strike="noStrike">
                <a:solidFill>
                  <a:srgbClr val="ffcc00"/>
                </a:solidFill>
                <a:latin typeface="Arial Black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3619-11D0-431B-A717-C774EA3386A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h.k12.oh.us/ps/Inuit/Maininuit.htm" TargetMode="External"/><Relationship Id="rId2" Type="http://schemas.openxmlformats.org/officeDocument/2006/relationships/hyperlink" Target="http://nativeamericans.mrdonn.org/arctic/inuit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Inuit Trib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8" name="Picture 8" descr="dogs"/>
          <p:cNvPicPr/>
          <p:nvPr/>
        </p:nvPicPr>
        <p:blipFill>
          <a:blip r:embed="rId1"/>
          <a:stretch/>
        </p:blipFill>
        <p:spPr>
          <a:xfrm>
            <a:off x="1828800" y="3282840"/>
            <a:ext cx="5791320" cy="3194280"/>
          </a:xfrm>
          <a:prstGeom prst="rect">
            <a:avLst/>
          </a:prstGeom>
          <a:ln w="0">
            <a:noFill/>
          </a:ln>
        </p:spPr>
      </p:pic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987640" y="379080"/>
            <a:ext cx="54705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gen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woman from below the oce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r father mistreated 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he was a human be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Picture 6" descr="wolf"/>
          <p:cNvPicPr/>
          <p:nvPr/>
        </p:nvPicPr>
        <p:blipFill>
          <a:blip r:embed="rId1"/>
          <a:stretch/>
        </p:blipFill>
        <p:spPr>
          <a:xfrm>
            <a:off x="5105520" y="3581280"/>
            <a:ext cx="2997000" cy="222264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0040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uropea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66320" y="18288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plorers traded fu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raded weap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de animals endanger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Picture 6" descr="qamutik"/>
          <p:cNvPicPr/>
          <p:nvPr/>
        </p:nvPicPr>
        <p:blipFill>
          <a:blip r:embed="rId1"/>
          <a:stretch/>
        </p:blipFill>
        <p:spPr>
          <a:xfrm>
            <a:off x="4343400" y="2743200"/>
            <a:ext cx="4495680" cy="363204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ildre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layed cats crad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ere told stor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red for by everyone in trib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Picture 6" descr="wolf"/>
          <p:cNvPicPr/>
          <p:nvPr/>
        </p:nvPicPr>
        <p:blipFill>
          <a:blip r:embed="rId1"/>
          <a:stretch/>
        </p:blipFill>
        <p:spPr>
          <a:xfrm>
            <a:off x="4419720" y="1828800"/>
            <a:ext cx="4724280" cy="464832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uit Sing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san Agluka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as a Song wri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ants with soun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r music blends with pop music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7" name="Picture 7" descr="MCj04414470000[1]"/>
          <p:cNvPicPr/>
          <p:nvPr/>
        </p:nvPicPr>
        <p:blipFill>
          <a:blip r:embed="rId1"/>
          <a:stretch/>
        </p:blipFill>
        <p:spPr>
          <a:xfrm>
            <a:off x="4114800" y="22096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oda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unavut is a territory run by the Inui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is important to the Inuit cultu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1" name="Picture 6" descr="work"/>
          <p:cNvPicPr/>
          <p:nvPr/>
        </p:nvPicPr>
        <p:blipFill>
          <a:blip r:embed="rId1"/>
          <a:stretch/>
        </p:blipFill>
        <p:spPr>
          <a:xfrm>
            <a:off x="4572000" y="2209680"/>
            <a:ext cx="2590920" cy="1997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hunt"/>
          <p:cNvPicPr/>
          <p:nvPr/>
        </p:nvPicPr>
        <p:blipFill>
          <a:blip r:embed="rId2"/>
          <a:stretch/>
        </p:blipFill>
        <p:spPr>
          <a:xfrm>
            <a:off x="3200400" y="4876920"/>
            <a:ext cx="5486400" cy="198108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IBLIOGRAPHY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~Gray-KanaTiosh, Barbara.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ui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ABDO Publishing Company, 2004.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~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http://www.ih.k12.oh.us/ps/Inuit/Maininuit.htm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~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http://nativeamericans.mrdonn.org/arctic/inuit.htm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oth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Women made clothing out of polar bear,  fox and wolf fur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Made goggles out of whale bones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6" descr="parkam2a"/>
          <p:cNvPicPr/>
          <p:nvPr/>
        </p:nvPicPr>
        <p:blipFill>
          <a:blip r:embed="rId1"/>
          <a:stretch/>
        </p:blipFill>
        <p:spPr>
          <a:xfrm>
            <a:off x="304920" y="4876920"/>
            <a:ext cx="1222200" cy="1981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lothes"/>
          <p:cNvPicPr/>
          <p:nvPr/>
        </p:nvPicPr>
        <p:blipFill>
          <a:blip r:embed="rId2"/>
          <a:stretch/>
        </p:blipFill>
        <p:spPr>
          <a:xfrm>
            <a:off x="7300800" y="4495680"/>
            <a:ext cx="1393920" cy="236232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amily was very important to the Inuit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urvived living in harsh climate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Men always built sleds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amil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Picture 6" descr="dogs"/>
          <p:cNvPicPr/>
          <p:nvPr/>
        </p:nvPicPr>
        <p:blipFill>
          <a:blip r:embed="rId1"/>
          <a:stretch/>
        </p:blipFill>
        <p:spPr>
          <a:xfrm rot="19991400">
            <a:off x="3580920" y="456840"/>
            <a:ext cx="2286000" cy="150984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504960" y="609480"/>
            <a:ext cx="51814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o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d a ceremony before hunt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ways shared me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rpooned seals for me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6" descr="caribui"/>
          <p:cNvPicPr/>
          <p:nvPr/>
        </p:nvPicPr>
        <p:blipFill>
          <a:blip r:embed="rId1"/>
          <a:stretch/>
        </p:blipFill>
        <p:spPr>
          <a:xfrm>
            <a:off x="5029200" y="3200400"/>
            <a:ext cx="3530520" cy="30621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97080" y="469800"/>
            <a:ext cx="446076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a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ould sing songs for w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wo men would face of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ar almost never happened near the Inuit trib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6" descr="knife"/>
          <p:cNvPicPr/>
          <p:nvPr/>
        </p:nvPicPr>
        <p:blipFill>
          <a:blip r:embed="rId1"/>
          <a:stretch/>
        </p:blipFill>
        <p:spPr>
          <a:xfrm>
            <a:off x="4572000" y="2576520"/>
            <a:ext cx="4572000" cy="214776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00400" y="5335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la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ts of berries and small shrub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 days were very cold and dar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ved in Greenland  and coast of Alask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Picture 6" descr="inuits1"/>
          <p:cNvPicPr/>
          <p:nvPr/>
        </p:nvPicPr>
        <p:blipFill>
          <a:blip r:embed="rId1"/>
          <a:stretch/>
        </p:blipFill>
        <p:spPr>
          <a:xfrm>
            <a:off x="4705200" y="2133720"/>
            <a:ext cx="4438800" cy="472428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00400" y="685800"/>
            <a:ext cx="5486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cie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ach group had a lead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ach group had a whale cre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d settlements from 40 to 100 peop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Picture 6" descr="attack2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472428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71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raf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rved with knif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rved on soap st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orated clothes and weap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7" name="Picture 7" descr="jagged knife"/>
          <p:cNvPicPr/>
          <p:nvPr/>
        </p:nvPicPr>
        <p:blipFill>
          <a:blip r:embed="rId1"/>
          <a:stretch/>
        </p:blipFill>
        <p:spPr>
          <a:xfrm>
            <a:off x="5943600" y="3505320"/>
            <a:ext cx="1770120" cy="3047760"/>
          </a:xfrm>
          <a:prstGeom prst="rect">
            <a:avLst/>
          </a:prstGeom>
          <a:ln w="0">
            <a:noFill/>
          </a:ln>
        </p:spPr>
      </p:pic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200400" y="685800"/>
            <a:ext cx="5486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ved in a snow hou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ved in sod home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ved in a hide ten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1" name="Picture 7" descr="igloo"/>
          <p:cNvPicPr/>
          <p:nvPr/>
        </p:nvPicPr>
        <p:blipFill>
          <a:blip r:embed="rId1"/>
          <a:stretch/>
        </p:blipFill>
        <p:spPr>
          <a:xfrm>
            <a:off x="4572000" y="3505320"/>
            <a:ext cx="2514600" cy="144144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2:38:47Z</dcterms:created>
  <dc:creator>Mohawk School</dc:creator>
  <dc:description/>
  <dc:language>en-US</dc:language>
  <cp:lastModifiedBy>Legion</cp:lastModifiedBy>
  <dcterms:modified xsi:type="dcterms:W3CDTF">2017-07-05T13:16:09Z</dcterms:modified>
  <cp:revision>15</cp:revision>
  <dc:subject/>
  <dc:title>The Inuit Tribe</dc:title>
</cp:coreProperties>
</file>