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5314-1127-4353-8BFA-4456F7E2D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E8BA-AC24-40D1-8C1A-17AB2E30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C67-4BD8-40F2-9586-8C6867AC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278-45B5-4A38-B8AB-EB52ECD4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774-CA44-421F-B215-E81290AB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DC51-F28A-4DBF-8DA8-6A83092C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BC53-8D19-4525-9468-C890F696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1FC3-F093-4199-ACE0-0FFB73A2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E1C2-02F8-4AB0-B812-49A45806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6C7A-8955-4126-9CAC-04C95FB0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B64C-49FB-4303-A44C-C9EC66D5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9E11-5DCE-4093-A073-D44ED488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DD0-2F03-4443-A52A-F22AC510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F558-F2E8-45BE-BC94-5BCEC169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4087-0EAD-4FC0-949F-F667D490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9A06-2A57-4613-BD18-01F4B3BE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0A53-68B3-4EDF-9A37-63206A4D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2A34-44D9-4ED2-85F0-CCC55407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7A8-6742-467E-911E-B5684AE8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5AA-BA22-4A74-9030-B861862D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6E3-3088-4444-8626-E85A4EA3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E8D-BFDF-4C9C-8A28-F1F1714F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5035-960B-43DF-86C7-71273E42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579-58F7-4063-A4D4-34147869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288-9E62-4272-8EC1-CB1AB281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CFC3-6E01-415B-BF65-7DC9E3ED3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70E3-CFAB-4069-96C3-9B3B2793C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17.png"/><Relationship Id="rId6" Type="http://schemas.openxmlformats.org/officeDocument/2006/relationships/image" Target="../media/image1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Dutch and French Colonies in the New Worl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.S. History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669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nglish Conques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266720" y="9144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ter Stuyves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came governor in 164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tled Conn. Boundary &amp; conquered Swedish colony to the sou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hed with local elit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ing Charles I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ranted land to his broth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mes, Duke of York &amp;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yvesant forced to surrender to English in 1664 without a f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s &amp; New Amsterdam became New York, and Ft. Orange became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tuyvesant"/>
          <p:cNvPicPr/>
          <p:nvPr/>
        </p:nvPicPr>
        <p:blipFill>
          <a:blip r:embed="rId7"/>
          <a:stretch/>
        </p:blipFill>
        <p:spPr>
          <a:xfrm>
            <a:off x="304920" y="990720"/>
            <a:ext cx="2057400" cy="270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StuyvesantSurrender.jpg"/>
          <p:cNvPicPr/>
          <p:nvPr/>
        </p:nvPicPr>
        <p:blipFill>
          <a:blip r:embed="rId8"/>
          <a:stretch/>
        </p:blipFill>
        <p:spPr>
          <a:xfrm>
            <a:off x="0" y="3782880"/>
            <a:ext cx="4343400" cy="30751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611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French Colonizat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cques Carti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America 1536-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ted cross on Gaspé Peninsula in 15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ited Stadacona (Quebec) &amp; Hochelaga (Montreal) in 1535-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. short-lived colony of "Charlesbourg- Royal," near Stadacona, 1541-4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rmoil in France prevented follow-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muel de Champl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de several voyages beginning in 16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ed est. settlements at Ste. Croix &amp; Port Roy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nded first permanent French settlement at Quebec in 16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ied with Hurons against Iriquo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6" descr="Cartier(color)"/>
          <p:cNvPicPr/>
          <p:nvPr/>
        </p:nvPicPr>
        <p:blipFill>
          <a:blip r:embed="rId10"/>
          <a:stretch/>
        </p:blipFill>
        <p:spPr>
          <a:xfrm>
            <a:off x="7010280" y="990720"/>
            <a:ext cx="1724040" cy="2361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Champlain(color)"/>
          <p:cNvPicPr/>
          <p:nvPr/>
        </p:nvPicPr>
        <p:blipFill>
          <a:blip r:embed="rId11"/>
          <a:stretch/>
        </p:blipFill>
        <p:spPr>
          <a:xfrm>
            <a:off x="7010280" y="3809880"/>
            <a:ext cx="1764000" cy="23623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8"/>
          <p:cNvSpPr/>
          <p:nvPr/>
        </p:nvSpPr>
        <p:spPr>
          <a:xfrm>
            <a:off x="7167240" y="335268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6863040" y="624852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Franc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6" name="Content Placeholder 7" descr=""/>
          <p:cNvPicPr/>
          <p:nvPr/>
        </p:nvPicPr>
        <p:blipFill>
          <a:blip r:embed="rId1"/>
          <a:stretch/>
        </p:blipFill>
        <p:spPr>
          <a:xfrm>
            <a:off x="0" y="1219320"/>
            <a:ext cx="4916520" cy="3276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876560" y="990720"/>
            <a:ext cx="41907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ny of New Fra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00 Associates) owned colony, 1627-16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me royal colony in 1663, with Jean-Baptiste Talon as superintend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ther Jacques Marquette &amp; Louis Jolli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Great Lakes &amp; upper Mississippi valley in 167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é-Robert Cavalier, Sieur de La Sall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ailed down the Mississippi to the Gulf of Mexico in 1679-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79040" y="-36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France &amp; Louisiana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90760" y="91440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 grew slow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63: 3,050; 1700: 15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ly because King Louis XIV refused to allow Huguenots to settle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Indian allies, so tended to treat them better than English &amp; Spanish d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Picture 6" descr="NorthAmerica1750map"/>
          <p:cNvPicPr/>
          <p:nvPr/>
        </p:nvPicPr>
        <p:blipFill>
          <a:blip r:embed="rId5"/>
          <a:stretch/>
        </p:blipFill>
        <p:spPr>
          <a:xfrm>
            <a:off x="152280" y="1066680"/>
            <a:ext cx="3810240" cy="348768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hilip II &amp; the Netherlands Revol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0" y="106632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vinist uprising in Aug. 1566 ruthlessly put down by Duke of Alva by 15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provinces unite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lliam the Silent, Prince of Orang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ander Farnese, Duke of Parma, reconquered southern 10 provi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hern 7 provinces for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on of Utrec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9; declare independence as the United Provinces of the Netherlands in 158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999000" y="5029200"/>
            <a:ext cx="39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© 2000 Wadsworth / Thomson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7" descr="PhilipIIMap"/>
          <p:cNvPicPr/>
          <p:nvPr/>
        </p:nvPicPr>
        <p:blipFill>
          <a:blip r:embed="rId5"/>
          <a:stretch/>
        </p:blipFill>
        <p:spPr>
          <a:xfrm>
            <a:off x="152280" y="3651120"/>
            <a:ext cx="4419720" cy="32068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6"/>
          <a:stretch/>
        </p:blipFill>
        <p:spPr>
          <a:xfrm>
            <a:off x="152280" y="830160"/>
            <a:ext cx="2057400" cy="27990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2133720" y="2766960"/>
            <a:ext cx="250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lizabeth I &amp; English Intervention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6248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izabe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urned down offer of Dutch crown, but gave them money &amp; tr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ilip plotted wi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y Queen of Sc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ot discovered &amp; Mary executed in Feb. 15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pe Sixtus V offered Philip 1 million gold ducats to conquer England &amp; avenge M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anish Arma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feated in English Channel in 158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Spain’s dec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rise of Dutch &amp; English empi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ds to the est. of North American colon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Picture 6" descr="ElizabethI"/>
          <p:cNvPicPr/>
          <p:nvPr/>
        </p:nvPicPr>
        <p:blipFill>
          <a:blip r:embed="rId9"/>
          <a:stretch/>
        </p:blipFill>
        <p:spPr>
          <a:xfrm>
            <a:off x="6248520" y="1143000"/>
            <a:ext cx="2784240" cy="41911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6265440" y="533412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 Defeat of the Spanish Armada</a:t>
            </a:r>
            <a:br>
              <a:rPr sz="44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y Philippe-Jacques de Loutherbourg, 1796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8" name="Content Placeholder 3" descr="DefeatofSpanishArmada.jpg"/>
          <p:cNvPicPr/>
          <p:nvPr/>
        </p:nvPicPr>
        <p:blipFill>
          <a:blip r:embed="rId1"/>
          <a:stretch/>
        </p:blipFill>
        <p:spPr>
          <a:xfrm>
            <a:off x="1523880" y="2147760"/>
            <a:ext cx="5967360" cy="464364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Dutch Exploration &amp; Colonization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343040" y="129528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Ea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ir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nry Huds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609 to find northern passage around A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lf Mo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ced to turn back by ice, so sailed across Atlantic inst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vered Delaware Bay, then sailed up river named after him (Sept. 3 – Oct. 4, 16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d by English on return voyage &amp; sailed next year for them, but marooned in B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7" descr="HudsonVoyageMap"/>
          <p:cNvPicPr/>
          <p:nvPr/>
        </p:nvPicPr>
        <p:blipFill>
          <a:blip r:embed="rId5"/>
          <a:stretch/>
        </p:blipFill>
        <p:spPr>
          <a:xfrm>
            <a:off x="0" y="4114800"/>
            <a:ext cx="4267080" cy="2436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" descr=""/>
          <p:cNvPicPr/>
          <p:nvPr/>
        </p:nvPicPr>
        <p:blipFill>
          <a:blip r:embed="rId6"/>
          <a:stretch/>
        </p:blipFill>
        <p:spPr>
          <a:xfrm>
            <a:off x="1274760" y="1066680"/>
            <a:ext cx="2992320" cy="2057400"/>
          </a:xfrm>
          <a:prstGeom prst="rect">
            <a:avLst/>
          </a:prstGeom>
          <a:ln w="0">
            <a:noFill/>
          </a:ln>
        </p:spPr>
      </p:pic>
      <p:pic>
        <p:nvPicPr>
          <p:cNvPr id="354" name="ClipArt Placeholder 3" descr=""/>
          <p:cNvPicPr/>
          <p:nvPr/>
        </p:nvPicPr>
        <p:blipFill>
          <a:blip r:embed="rId7"/>
          <a:stretch/>
        </p:blipFill>
        <p:spPr>
          <a:xfrm>
            <a:off x="152280" y="2209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60440" y="15192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6600"/>
                </a:solidFill>
                <a:latin typeface="Times New Roman"/>
              </a:rPr>
              <a:t>The Last Voyage of Henry Hudson, by John Collier</a:t>
            </a:r>
            <a:endParaRPr b="0" i="1" lang="en-US" sz="2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7" name="Content Placeholder 6" descr=""/>
          <p:cNvPicPr/>
          <p:nvPr/>
        </p:nvPicPr>
        <p:blipFill>
          <a:blip r:embed="rId1"/>
          <a:stretch/>
        </p:blipFill>
        <p:spPr>
          <a:xfrm>
            <a:off x="1905120" y="777960"/>
            <a:ext cx="5181480" cy="6080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Netherlands Colony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tch merchants began to tap into fur tr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riaen Blo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Long Island Sound &amp; Conn. R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 Co. created in 1614 &amp; est. Ft. Nassa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We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ed in 1621 &amp; took over col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Good Hope (Hartford, Con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Orange (Alban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Island (Trenton, N.J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Amsterd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t. in 1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NewNethMap"/>
          <p:cNvPicPr/>
          <p:nvPr/>
        </p:nvPicPr>
        <p:blipFill>
          <a:blip r:embed="rId9"/>
          <a:stretch/>
        </p:blipFill>
        <p:spPr>
          <a:xfrm>
            <a:off x="5757840" y="1371600"/>
            <a:ext cx="3386160" cy="525780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Amsterda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4" name="Picture 3" descr="NewAmsterdam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3073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NewAmsterdampic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83068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w Netherland Soci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990720"/>
            <a:ext cx="6019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harter of Privileges &amp; Exemption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(1629) allowed directors who planted 50 colonists in 4 years to govern large estates (</a:t>
            </a:r>
            <a:r>
              <a:rPr b="1" i="1" lang="en-US" sz="2600" spc="-1" strike="noStrike">
                <a:solidFill>
                  <a:srgbClr val="000000"/>
                </a:solidFill>
                <a:latin typeface="Tahoma"/>
              </a:rPr>
              <a:t>patroonship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 autonomousl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Renesselaerswyk was 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n’t recreate European social order &amp; manage estates long-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1639 - all people to participate in fur trad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d population from 1,000 to 2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lations with “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Wilde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” soured by daily provocations &amp; culture clash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Content Placeholder 4" descr="vanrensselaer-kiliaen-100.jpg"/>
          <p:cNvPicPr/>
          <p:nvPr/>
        </p:nvPicPr>
        <p:blipFill>
          <a:blip r:embed="rId7"/>
          <a:stretch/>
        </p:blipFill>
        <p:spPr>
          <a:xfrm>
            <a:off x="6019920" y="990720"/>
            <a:ext cx="2904840" cy="3841560"/>
          </a:xfrm>
          <a:prstGeom prst="rect">
            <a:avLst/>
          </a:prstGeom>
          <a:ln w="0">
            <a:noFill/>
          </a:ln>
        </p:spPr>
      </p:pic>
      <p:sp>
        <p:nvSpPr>
          <p:cNvPr id="370" name="TextBox 5"/>
          <p:cNvSpPr/>
          <p:nvPr/>
        </p:nvSpPr>
        <p:spPr>
          <a:xfrm>
            <a:off x="6401880" y="4876920"/>
            <a:ext cx="20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6" descr="VanRensselaerArms.jpg"/>
          <p:cNvPicPr/>
          <p:nvPr/>
        </p:nvPicPr>
        <p:blipFill>
          <a:blip r:embed="rId8"/>
          <a:stretch/>
        </p:blipFill>
        <p:spPr>
          <a:xfrm>
            <a:off x="6858000" y="525780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9:21:39Z</dcterms:created>
  <dc:creator>Hans Vought</dc:creator>
  <dc:description/>
  <dc:language>en-US</dc:language>
  <cp:lastModifiedBy>Legion</cp:lastModifiedBy>
  <dcterms:modified xsi:type="dcterms:W3CDTF">2017-07-05T13:06:00Z</dcterms:modified>
  <cp:revision>16</cp:revision>
  <dc:subject/>
  <dc:title>The Dutch and French Colonies in the New World</dc:title>
</cp:coreProperties>
</file>