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0061-63A3-45A6-BD85-5DA1311D28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- pgs. 95-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herokee families had two 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ral families of the same clan lived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houses – often as many as 300 to 400 – were built close together to form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center of each village was a temple built on a high, flat-topped mou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ers, called chiefs, governed each vill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village was part of a larger confeder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BB59-D4DD-4BEF-ACA6-73E188DC9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AE2C-F2E3-4AE9-944A-07498EC8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416C-3C60-4F71-BB16-0F92AB96E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CE3A-8619-44E4-A66A-438B109F7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A956-F82B-492C-A811-95438C90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418D-6923-421A-9FE5-27FD69291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C30E-0ED9-431E-8085-F46DD17A0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317-DEDD-4B5A-B5D4-BA92CA8A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A736-35DB-4A67-8DBE-F4CF95C8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3548-7962-4445-AB50-547DA68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71CD-D977-4470-9ADE-3F8C38F4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3DE-DF25-49CC-A71D-147721A2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CDB1-123C-4EBE-80BC-C2832D79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The Cheroke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gs. 95-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nativemap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548640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did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herokees made their homes in the rich river valleys of the southern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cherokeelands"/>
          <p:cNvPicPr/>
          <p:nvPr/>
        </p:nvPicPr>
        <p:blipFill>
          <a:blip r:embed="rId1"/>
          <a:stretch/>
        </p:blipFill>
        <p:spPr>
          <a:xfrm>
            <a:off x="2743200" y="2743200"/>
            <a:ext cx="5410080" cy="388620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gr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grew corn, beans, squash, pumpkins, sunflowers, and tobac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so gathered wild plants from the fo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id they hu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hunted squirrels, rabbits, turkeys, bears, and de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fished in the many streams and rivers in the Appalachian Mounta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Cherokee Ho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st Cherokee families had two hou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4"/>
          <p:cNvSpPr/>
          <p:nvPr/>
        </p:nvSpPr>
        <p:spPr>
          <a:xfrm>
            <a:off x="3429000" y="3124080"/>
            <a:ext cx="27432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963600" y="3352680"/>
            <a:ext cx="16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/>
          <p:cNvSpPr/>
          <p:nvPr/>
        </p:nvSpPr>
        <p:spPr>
          <a:xfrm>
            <a:off x="990720" y="2438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7"/>
          <p:cNvSpPr/>
          <p:nvPr/>
        </p:nvSpPr>
        <p:spPr>
          <a:xfrm>
            <a:off x="990720" y="3581280"/>
            <a:ext cx="182880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8"/>
          <p:cNvSpPr/>
          <p:nvPr/>
        </p:nvSpPr>
        <p:spPr>
          <a:xfrm>
            <a:off x="533520" y="4648320"/>
            <a:ext cx="2209680" cy="76176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2743200" y="289548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 flipV="1">
            <a:off x="2743200" y="3733920"/>
            <a:ext cx="99072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 flipV="1">
            <a:off x="2819520" y="358092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1526040" y="25146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1144440" y="365760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e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4"/>
          <p:cNvSpPr/>
          <p:nvPr/>
        </p:nvSpPr>
        <p:spPr>
          <a:xfrm>
            <a:off x="534960" y="480060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vered with ea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5"/>
          <p:cNvSpPr/>
          <p:nvPr/>
        </p:nvSpPr>
        <p:spPr>
          <a:xfrm>
            <a:off x="4267080" y="4876920"/>
            <a:ext cx="2514600" cy="8380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4650840" y="51055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7"/>
          <p:cNvSpPr/>
          <p:nvPr/>
        </p:nvSpPr>
        <p:spPr>
          <a:xfrm>
            <a:off x="6629400" y="3581280"/>
            <a:ext cx="1981080" cy="609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2895480" y="5867280"/>
            <a:ext cx="2514600" cy="76212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9"/>
          <p:cNvSpPr/>
          <p:nvPr/>
        </p:nvSpPr>
        <p:spPr>
          <a:xfrm>
            <a:off x="6858000" y="45720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20"/>
          <p:cNvSpPr/>
          <p:nvPr/>
        </p:nvSpPr>
        <p:spPr>
          <a:xfrm>
            <a:off x="6934320" y="5943600"/>
            <a:ext cx="1981080" cy="60948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6859800" y="3657600"/>
            <a:ext cx="14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x-sha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2"/>
          <p:cNvSpPr/>
          <p:nvPr/>
        </p:nvSpPr>
        <p:spPr>
          <a:xfrm>
            <a:off x="7469280" y="46483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7317360" y="60199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k ro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4"/>
          <p:cNvSpPr/>
          <p:nvPr/>
        </p:nvSpPr>
        <p:spPr>
          <a:xfrm>
            <a:off x="3110040" y="6056280"/>
            <a:ext cx="22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ass or clay w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5"/>
          <p:cNvSpPr/>
          <p:nvPr/>
        </p:nvSpPr>
        <p:spPr>
          <a:xfrm flipH="1">
            <a:off x="3352680" y="525780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6"/>
          <p:cNvSpPr/>
          <p:nvPr/>
        </p:nvSpPr>
        <p:spPr>
          <a:xfrm>
            <a:off x="5715000" y="571500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7"/>
          <p:cNvSpPr/>
          <p:nvPr/>
        </p:nvSpPr>
        <p:spPr>
          <a:xfrm flipV="1">
            <a:off x="6781680" y="49525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8"/>
          <p:cNvSpPr/>
          <p:nvPr/>
        </p:nvSpPr>
        <p:spPr>
          <a:xfrm flipV="1">
            <a:off x="5791320" y="396252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int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wint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ummer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ummer house"/>
          <p:cNvPicPr/>
          <p:nvPr/>
        </p:nvPicPr>
        <p:blipFill>
          <a:blip r:embed="rId1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Vill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families of the sam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ved toge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rokee houses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ften as many as 300 to 4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were built close together to form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center of each village was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uilt on a high, flat-topped m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erokee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, calle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chief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governed each vill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village was part of a larg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ede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was a group of connected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ederation could have as many as 100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r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most talked about issues in the confederation wa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villages had high wooden fences made of logs to keep out enem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2T23:01:57Z</dcterms:created>
  <dc:creator>Mardena Collins</dc:creator>
  <dc:description/>
  <dc:language>en-US</dc:language>
  <cp:lastModifiedBy>Legion</cp:lastModifiedBy>
  <dcterms:modified xsi:type="dcterms:W3CDTF">2017-07-05T13:02:32Z</dcterms:modified>
  <cp:revision>12</cp:revision>
  <dc:subject/>
  <dc:title>The Cherokees</dc:title>
</cp:coreProperties>
</file>