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6207-C66B-4803-858D-5A9915B65D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rokees - pgs. 95-9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rokees - pgs. 95-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id they l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rokees made their homes in the rich river valleys of the southern Appalachian Mount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y l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rokees made their homes in the rich river valleys of the southern Appalachian Mount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y gr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grew corn, beans, squash, pumpkins, sunflowers, and tobacc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lso gathered wild plants from the for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y hu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unted squirrels, rabbits, turkeys, bears, and de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ished in the many streams and rivers in the Appalachian Mount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they gr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grew corn, beans, squash, pumpkins, sunflowers, and tobac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so gathered wild plants from the fo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they hu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unted squirrels, rabbits, turkeys, bears, and d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ished in the many streams and rivers in the Appalachian Mount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heroke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herokee families had two hou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e-shap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vered with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er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x-shap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k ro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ss or clay wa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erokee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herokee families had two hou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e-sha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ed wit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x-sha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k ro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 or clay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er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 Vill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veral families of the same clan liv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 houses – often as many as 300 to 400 – were built close together to form vill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center of each village was a temple built on a high, flat-topped m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okee Vill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families of the same clan liv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okee houses – often as many as 300 to 400 – were built close together to form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enter of each village was a temple built on a high, flat-topped m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 Gover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ers, called chiefs, governed each vill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village was part of a larger confeder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federation was a group of connected vill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federation could have as many as 100 vill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okee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ers, called chiefs, governed each vill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village was part of a larger confede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federation was a group of connected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federation could have as many as 100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most talked about issues in the confederation was w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villages had high wooden fences made of logs to keep out enem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most talked about issues in the confederation was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villages had high wooden fences made of logs to keep out enem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39BE-4CC5-4C64-B2A9-BFC7AB2FE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A6B3-40C9-4C00-A9A0-D18C5E71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8EDB-976E-480B-A8F8-7FFF5E085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DD8A-23BD-4AB4-9CC4-EE74852E9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E1C3-E426-4ADA-B5A3-A536B739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B3C7-3497-4F04-A2AA-9AA604FB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C42A-32EC-42B8-85B1-218B558D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0C45-DAA5-4113-818A-AA7E07FF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0A32-D460-4A2F-88F1-755DE18A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216E-0E2C-4AA0-9EC3-53D055F8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81C7-978F-4B0C-A0A5-6568ACEB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341A-9042-414A-A5DE-09C14E6E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C98E-E98D-43A0-A0D2-5052B9297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e Cheroke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gs. 95-9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nativemap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did they l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erokees made their homes in the rich river valleys of the southern Appalachian Mount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herokeelands"/>
          <p:cNvPicPr/>
          <p:nvPr/>
        </p:nvPicPr>
        <p:blipFill>
          <a:blip r:embed="rId1"/>
          <a:stretch/>
        </p:blipFill>
        <p:spPr>
          <a:xfrm>
            <a:off x="2743200" y="2743200"/>
            <a:ext cx="5410080" cy="38862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id they gr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grew corn, beans, squash, pumpkins, sunflowers, and tobac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so gathered wild plants from the fo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id they hu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unted squirrels, rabbits, turkeys, bears, and de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fished in the many streams and rivers in the Appalachian Mount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Cherokee 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Cherokee families had two hou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4"/>
          <p:cNvSpPr/>
          <p:nvPr/>
        </p:nvSpPr>
        <p:spPr>
          <a:xfrm>
            <a:off x="3429000" y="3124080"/>
            <a:ext cx="2743200" cy="76212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963600" y="3352680"/>
            <a:ext cx="16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ter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990720" y="2438280"/>
            <a:ext cx="1828800" cy="609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7"/>
          <p:cNvSpPr/>
          <p:nvPr/>
        </p:nvSpPr>
        <p:spPr>
          <a:xfrm>
            <a:off x="990720" y="3581280"/>
            <a:ext cx="1828800" cy="609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8"/>
          <p:cNvSpPr/>
          <p:nvPr/>
        </p:nvSpPr>
        <p:spPr>
          <a:xfrm>
            <a:off x="533520" y="4648320"/>
            <a:ext cx="2209680" cy="76176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>
            <a:off x="2743200" y="289548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 flipV="1">
            <a:off x="2743200" y="3733920"/>
            <a:ext cx="99072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 flipV="1">
            <a:off x="2819520" y="358092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1526040" y="25146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1144440" y="365760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e-sha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534960" y="48006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vered with 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5"/>
          <p:cNvSpPr/>
          <p:nvPr/>
        </p:nvSpPr>
        <p:spPr>
          <a:xfrm>
            <a:off x="4267080" y="4876920"/>
            <a:ext cx="2514600" cy="838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4650840" y="51055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er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7"/>
          <p:cNvSpPr/>
          <p:nvPr/>
        </p:nvSpPr>
        <p:spPr>
          <a:xfrm>
            <a:off x="6629400" y="3581280"/>
            <a:ext cx="1981080" cy="609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8"/>
          <p:cNvSpPr/>
          <p:nvPr/>
        </p:nvSpPr>
        <p:spPr>
          <a:xfrm>
            <a:off x="2895480" y="5867280"/>
            <a:ext cx="2514600" cy="76212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9"/>
          <p:cNvSpPr/>
          <p:nvPr/>
        </p:nvSpPr>
        <p:spPr>
          <a:xfrm>
            <a:off x="6858000" y="4572000"/>
            <a:ext cx="1981080" cy="6094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20"/>
          <p:cNvSpPr/>
          <p:nvPr/>
        </p:nvSpPr>
        <p:spPr>
          <a:xfrm>
            <a:off x="6934320" y="5943600"/>
            <a:ext cx="1981080" cy="6094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6859800" y="365760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x-sha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2"/>
          <p:cNvSpPr/>
          <p:nvPr/>
        </p:nvSpPr>
        <p:spPr>
          <a:xfrm>
            <a:off x="7469280" y="46483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3"/>
          <p:cNvSpPr/>
          <p:nvPr/>
        </p:nvSpPr>
        <p:spPr>
          <a:xfrm>
            <a:off x="7317360" y="60199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k ro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4"/>
          <p:cNvSpPr/>
          <p:nvPr/>
        </p:nvSpPr>
        <p:spPr>
          <a:xfrm>
            <a:off x="3110040" y="6056280"/>
            <a:ext cx="22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ss or clay w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5"/>
          <p:cNvSpPr/>
          <p:nvPr/>
        </p:nvSpPr>
        <p:spPr>
          <a:xfrm flipH="1">
            <a:off x="3352680" y="525780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6"/>
          <p:cNvSpPr/>
          <p:nvPr/>
        </p:nvSpPr>
        <p:spPr>
          <a:xfrm>
            <a:off x="5715000" y="571500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7"/>
          <p:cNvSpPr/>
          <p:nvPr/>
        </p:nvSpPr>
        <p:spPr>
          <a:xfrm flipV="1">
            <a:off x="6781680" y="49525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8"/>
          <p:cNvSpPr/>
          <p:nvPr/>
        </p:nvSpPr>
        <p:spPr>
          <a:xfrm flipV="1">
            <a:off x="5791320" y="396252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inter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winter house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mmer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summer house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rokee Vill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families of the sam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v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rokee houses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ften as many as 300 to 4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were built close together to form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center of each village was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uilt on a high, flat-topped m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rokee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s, call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hief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governed each vill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village was part of a larg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fede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federation was a group of connected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federation could have as many as 100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r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most talked about issues in the confederation was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villages had high wooden fences made of logs to keep out enem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23:01:57Z</dcterms:created>
  <dc:creator>Mardena Collins</dc:creator>
  <dc:description/>
  <dc:language>en-US</dc:language>
  <cp:lastModifiedBy>Legion</cp:lastModifiedBy>
  <dcterms:modified xsi:type="dcterms:W3CDTF">2017-07-05T13:02:32Z</dcterms:modified>
  <cp:revision>12</cp:revision>
  <dc:subject/>
  <dc:title>The Cherokees</dc:title>
</cp:coreProperties>
</file>