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E151-0FF3-4417-9931-6B3B9D1E3B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and 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into their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and 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’ houses were made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efs were men and landowners were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chiefs were men, but the peace chief could be a wo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known as the Trail of T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 Indians often fought with the Cherokee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formed the Creek Confederacy as a def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an area near the Ocmulgee Cr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homes were also built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D10-37F5-4FCD-A300-643FF09C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C81-14F6-4025-82E2-25E74E52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5E8-51B6-4B89-BAC3-AA062838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4A4-E1CB-448D-B0D1-F27E0E73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729FF-5B55-4D9C-A4FD-B0EE6028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7DC80-7BEE-4B4D-BEF2-D344C2A3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41EB8-61A7-4EF3-A8F5-F8BFDC66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9E325-30E0-40C5-BF25-D0EB1C7F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DDA9B-B2BE-42E0-95AB-1D7E2ECA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4679A-1581-4A98-81A2-3A4A1D36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40DFD-7ED1-45D0-8EC1-60EDEA24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9DF-D661-47DC-A6DF-FB176B17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89182-5667-459F-BA71-46DA5879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D1DB0-4B0A-43C9-9B1C-0F9BB3AB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145D6-85EF-4712-B9A8-3EA8B39C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86D58-B9AB-40CD-B707-CA9EBFF6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F7F9C-96F1-4DE5-839E-682403CC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D8B-A053-49BF-9A62-3C3724F2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87F-8404-4B54-B495-CFC16571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73B-359E-4DCB-B8B5-09479F51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5A6-410B-4124-AAA8-76A801F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FE4-B8A1-4C9D-8DB0-2A75093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F4C-BA05-44FE-9BCC-BA86DEBA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31D-92F0-45F2-8254-BEE34736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3CDF-236C-4C74-94BB-9736452B2D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8E11-918D-497D-A3A4-C53E40099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kon.lib.ok.us/Sequoyah-2.gif&amp;imgrefurl=http://www.yukon.lib.ok.us/sequoyah.html&amp;h=307&amp;w=256&amp;sz=41&amp;hl=en&amp;start=3&amp;um=1&amp;tbnid=hfhB0KW9zc6tWM:&amp;tbnh=117&amp;tbnw=98&amp;prev=/images%3Fq%3DSequoyah%26svnum%3D10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erokees and Creek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Sequoyah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362320"/>
            <a:ext cx="297180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4" descr="the_trail_of_tears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2585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trail-of-tears-map2"/>
          <p:cNvPicPr/>
          <p:nvPr/>
        </p:nvPicPr>
        <p:blipFill>
          <a:blip r:embed="rId2"/>
          <a:stretch/>
        </p:blipFill>
        <p:spPr>
          <a:xfrm>
            <a:off x="5257800" y="4114800"/>
            <a:ext cx="2819520" cy="2127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MPj03139480000[1]"/>
          <p:cNvPicPr/>
          <p:nvPr/>
        </p:nvPicPr>
        <p:blipFill>
          <a:blip r:embed="rId1"/>
          <a:stretch/>
        </p:blipFill>
        <p:spPr>
          <a:xfrm>
            <a:off x="704880" y="2019240"/>
            <a:ext cx="354168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MPj03139500000[1]"/>
          <p:cNvPicPr/>
          <p:nvPr/>
        </p:nvPicPr>
        <p:blipFill>
          <a:blip r:embed="rId1"/>
          <a:stretch/>
        </p:blipFill>
        <p:spPr>
          <a:xfrm>
            <a:off x="4869000" y="2019240"/>
            <a:ext cx="359712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5:49:16Z</dcterms:created>
  <dc:creator>College of Education</dc:creator>
  <dc:description/>
  <dc:language>en-US</dc:language>
  <cp:lastModifiedBy>Legion</cp:lastModifiedBy>
  <dcterms:modified xsi:type="dcterms:W3CDTF">2017-07-05T13:00:47Z</dcterms:modified>
  <cp:revision>6</cp:revision>
  <dc:subject/>
  <dc:title>Cherokees and Creeks</dc:title>
</cp:coreProperties>
</file>