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E73A-84FA-4A0A-8841-A9E3BA633E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s and Cr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into their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okees and Cr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iew into their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’ houses were made of rivercane and pl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efs were men and landowners were wo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chiefs were men, but the peace chief could be a wom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ok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rokees’ houses were made of rivercane and pla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efs were men and landowners were wome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 chiefs were men, but the peace chief could be a wom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 created the Cherokee syllabary, which enabled the Cherokees to read, write, record their laws, and publish newspapers in their own langu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oy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oyah created the Cherokee syllabary, which enabled the Cherokees to read, write, record their laws, and publish newspapers in their own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he 1800’s the US government created an Indian Territory in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839, US troops expelled the Cherokee from their ancestral homeland in the Southeast to this Indian Territ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as known as the Trail of T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oke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the 1800’s the US government created an Indian Territory in Oklahom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839, US troops expelled the Cherokee from their ancestral homeland in the Southeast to this Indian Territo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as known as the Trail of T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 Indians often fought with the Cherokee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s formed the Creek Confederacy as a defe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an area near the Ocmulgee Cr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 Indians often fought with the Cherokee India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s formed the Creek Confederacy as a defen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lived in an area near the Ocmulgee Cree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s homes were also built of rivercane and pl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Creek population reached about 400-600 people they would split and half would move to a nearby 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 Ind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s homes were also built of rivercane and pla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he Creek population reached about 400-600 people they would split and half would move to a nearby s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 Remo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s avoided the American revolution, but their lives changed afterw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ia viewed the Creeks as impediments to the expansion of slav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aties of New York(1790), Fort Wilkinson(1802), and Washington(1805) the Creeks ceded their lands east of the Ocmulgee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 Remov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s avoided the American revolution, but their lives changed afterwar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ia viewed the Creeks as impediments to the expansion of slave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Treaties of New York(1790), Fort Wilkinson(1802), and Washington(1805) the Creeks ceded their lands east of the Ocmulgee Ri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 Remo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eaty of Indian Springs of 1825, is when Georgia agents bribed Creek leader William McIntosh to sign away all Creek territory in Georg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s were furious with the Creek leader and put McIntosh to death for his treach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 Remov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aty of Indian Springs of 1825, is when Georgia agents bribed Creek leader William McIntosh to sign away all Creek territory in Georg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s were furious with the Creek leader and put McIntosh to death for his treacher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websites listed we will now research more about the Cherokee and Creek Indians on the inter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will create a graphic organizer on Inspiration listing the details that we learned about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ly we will create a Venn diagram using Inspiration that compares and contrast these Native American cul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the websites listed we will now research more about the Cherokee and Creek Indians on the inter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we will create a graphic organizer on Inspiration listing the details that we learned about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ally we will create a Venn diagram using Inspiration that compares and contrast these Native American cult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9811-C2AB-43C6-85F8-6155D6EA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586-3713-40AB-9271-D4D17283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150-9B54-47A1-AABB-1E8C06C7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A47E-267E-416C-A64E-7A37773E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DC761-FB0B-4A45-A723-9A804218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B2E95-C849-4F8E-947B-CD78674E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55947-EDE9-404E-B72F-77F2BC2D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23599-6079-404A-882B-6F3CA0C9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3FB1B-E9EC-4B31-873E-6B82CA34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BE79B-1C3D-4692-90E4-70793ABC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9AA20-7798-4981-B3DE-67F91797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2B31-4AD8-448D-A75C-07EC255D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6891A-4F14-4AE4-909F-3177E0E7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E6988-F6AC-441E-87C7-B39DB52A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D4AB0-C90B-4CE3-BC9D-1BF56C29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DB2A5-8679-49ED-BC9E-B3E83BB0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937FB-F1E8-4928-A641-ED968465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1FF-9011-49E9-8592-51D238CF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A3C0-526A-4E08-B1FE-BA122187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B8F-CD67-472F-B498-33C6E29A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914-07A0-4BC7-8568-6205A7F5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CCBB-A9D4-4554-9764-849FBB37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953-48D0-4E97-BE8B-9CA7D79D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BA3-A843-43A2-89AA-A3056505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8210-9607-4827-8510-3C391CF288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B3DF-7A63-40EB-A9A3-4BFD761FA8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ukon.lib.ok.us/Sequoyah-2.gif&amp;imgrefurl=http://www.yukon.lib.ok.us/sequoyah.html&amp;h=307&amp;w=256&amp;sz=41&amp;hl=en&amp;start=3&amp;um=1&amp;tbnid=hfhB0KW9zc6tWM:&amp;tbnh=117&amp;tbnw=98&amp;prev=/images%3Fq%3DSequoyah%26svnum%3D10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erokees and Creek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iew into their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eroke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erokees’ houses were made of rivercane and pla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efs were men and landowners were wo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 chiefs were men, but the peace chief could be a wom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quoya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oyah created the Cherokee syllabary, which enabled the Cherokees to read, write, record their laws, and publish newspapers in their own langu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0" descr="Sequoyah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362320"/>
            <a:ext cx="2971800" cy="2666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erokee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the 1800’s the US government created an Indian Territory in Oklaho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39, US troops expelled the Cherokee from their ancestral homeland in the Southeast to this Indian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as known as the Trail of T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0" y="1676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4" descr="the_trail_of_tears"/>
          <p:cNvPicPr/>
          <p:nvPr/>
        </p:nvPicPr>
        <p:blipFill>
          <a:blip r:embed="rId1"/>
          <a:stretch/>
        </p:blipFill>
        <p:spPr>
          <a:xfrm>
            <a:off x="4572000" y="1676520"/>
            <a:ext cx="4038480" cy="2585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trail-of-tears-map2"/>
          <p:cNvPicPr/>
          <p:nvPr/>
        </p:nvPicPr>
        <p:blipFill>
          <a:blip r:embed="rId2"/>
          <a:stretch/>
        </p:blipFill>
        <p:spPr>
          <a:xfrm>
            <a:off x="5257800" y="4114800"/>
            <a:ext cx="2819520" cy="21272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reek Indians often fought with the Cherokee India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reeks formed the Creek Confederacy as a defen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lived in an area near the Ocmulgee Cr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6" descr="MPj03139480000[1]"/>
          <p:cNvPicPr/>
          <p:nvPr/>
        </p:nvPicPr>
        <p:blipFill>
          <a:blip r:embed="rId1"/>
          <a:stretch/>
        </p:blipFill>
        <p:spPr>
          <a:xfrm>
            <a:off x="704880" y="2019240"/>
            <a:ext cx="3541680" cy="36576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eks homes were also built of rivercane and pla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reek population reached about 400-600 people they would split and half would move to a nearby s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9" descr="MPj03139500000[1]"/>
          <p:cNvPicPr/>
          <p:nvPr/>
        </p:nvPicPr>
        <p:blipFill>
          <a:blip r:embed="rId1"/>
          <a:stretch/>
        </p:blipFill>
        <p:spPr>
          <a:xfrm>
            <a:off x="4869000" y="2019240"/>
            <a:ext cx="3597120" cy="36576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 Remov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eks avoided the American revolution, but their lives changed afterwa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ia viewed the Creeks as impediments to the expansion of slav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Treaties of New York(1790), Fort Wilkinson(1802), and Washington(1805) the Creeks ceded their lands east of the Ocmulgee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 Remov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eaty of Indian Springs of 1825, is when Georgia agents bribed Creek leader William McIntosh to sign away all Creek territory in Georg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eks were furious with the Creek leader and put McIntosh to death for his treache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searc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websites listed we will now research more about the Cherokee and Creek Indians on the inter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e will create a graphic organizer on Inspiration listing the details that we learned about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ly we will create a Venn diagram using Inspiration that compares and contrast these Native American cul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15:49:16Z</dcterms:created>
  <dc:creator>College of Education</dc:creator>
  <dc:description/>
  <dc:language>en-US</dc:language>
  <cp:lastModifiedBy>Legion</cp:lastModifiedBy>
  <dcterms:modified xsi:type="dcterms:W3CDTF">2017-07-05T13:00:47Z</dcterms:modified>
  <cp:revision>6</cp:revision>
  <dc:subject/>
  <dc:title>Cherokees and Creeks</dc:title>
</cp:coreProperties>
</file>