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E1C2-0078-46C2-8255-C39458E887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A9E-66B4-4C7E-A26D-605E0487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B9A-8FF4-4461-BB31-7CE9E3E9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453-FEE0-4C1C-9243-4FB8942D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BA8-28D2-4478-888E-850B0C5B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3D6-10DA-49E7-B96B-AE8E5845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340-5E37-4486-AE69-6FD40234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8B3-BF26-4E0D-8C9A-5C726C90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97D-16C1-44FB-A964-D69EF54B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BF5-697F-41DC-B2E4-1EC904F1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0AE-543C-4278-BCD8-BACA5CA1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053-238C-4751-A784-DDEC7728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02F-BF0E-4BB0-B8AA-09BE23E1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962C-98FC-4BD2-983C-078A90FF6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y made pottery for drinking and b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They did ancient paintings for dec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43:16Z</dcterms:created>
  <dc:creator>patricia Gaspard</dc:creator>
  <dc:description/>
  <dc:language>en-US</dc:language>
  <cp:lastModifiedBy>Legion</cp:lastModifiedBy>
  <dcterms:modified xsi:type="dcterms:W3CDTF">2017-07-05T12:50:40Z</dcterms:modified>
  <cp:revision>9</cp:revision>
  <dc:subject/>
  <dc:title>Southwest Indians</dc:title>
</cp:coreProperties>
</file>