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9FD4-66A1-4805-A1C8-188019B614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e Seminole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ed in the southeast region, specifically in the state of Flor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arted out in northern Florida, but when the Americans attacked them, the Seminole tribe retreated further south, into the Evergla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Seminol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people were once part of the creek t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rmed the southern regions of what is known today as Georgia and Ala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uropean settlers arrived, some of the creek people decided to stay behind, while others moved to northern and central Flor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eople became known as the Seminole (which means “runaway” or “Wander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nted corn, beans, squash and other vegetables and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and hunted, often catching alligators in the Florida sw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and the Seminole hunted deer , bear, raccoon, squirrel, an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thered roots and pot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mily owned a vegetable gar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 was an important staple in the Seminole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often used to make a corn dish called hominy or it was ground into meal to make corn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w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re colorful cotton clothing decorated with striped or plaid de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men wore long-sleeved blouses and skirts that touched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necklaces made of glass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mmon for Seminole women to wear several pounds of beaded necklaces that reached all the way to her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wore colorful shirts and plaid turbans on their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eather was cold, men wore coats with ruffles called long shi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living near the Everglades built open-sided wooden huts called chick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ickee was built on a platform raised about 3 feet off the swampy ground, and it had a thatched roof constructed of palmetto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f kept out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lept in hammo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minole spent most of their time outdo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the Seminoles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flat dugout canoes from hollowed-out cypress 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eered the boats with poles rather than pa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Seminole villages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made up of man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in the villages were related  through their m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omen and children belonged to the same clan (vocabulary w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women worked near camp, taking care of the children, cooking, sewing, and gard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men hunted, fishing,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arly summer, the Seminole prepared for an important festival- the green corn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nole villages came together to celebrate the festival by dancing, playing games, and fe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ing ceremony was held that year at the green corn dance fest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1FF-6F90-4BD6-B04C-162FDE45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754-748D-4313-AB54-A5CF9995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8C8-32BC-4A9D-9202-F4056C9D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BD4-77B7-4BCB-9EC5-8799BB33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B606-AF62-4773-BE38-0AFA47F1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32D-0B87-46E6-9107-6AC9721F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B6E-8D1D-43B3-849B-DDDABC12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FF5-8C35-49D6-B893-52C2DDB8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F29-4B30-42F6-B532-563F5F0E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045-CC72-4D47-8496-BFB0156D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F10-66FD-4FAC-BD28-3D5F9DAA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46E-C217-4746-B0F9-4AD1ECC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FBCF-DFB3-4808-B19B-F2AD07E53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Seminole Indi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eminole-indians-2"/>
          <p:cNvPicPr/>
          <p:nvPr/>
        </p:nvPicPr>
        <p:blipFill>
          <a:blip r:embed="rId1"/>
          <a:stretch/>
        </p:blipFill>
        <p:spPr>
          <a:xfrm>
            <a:off x="3124080" y="1828800"/>
            <a:ext cx="302256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ere do the Seminole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Seminole lived in the southeast region, specifically in the state of Flor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arted out in northern Florida, but when the Americans attacked them, the Seminole tribe retreated further south, into the Everglades.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o are the Semino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people were once part of the creek t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y farmed the southern regions of what is known today as Georgia and Alab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hen European settlers arrived, some of the creek people decided to stay behind, while others moved to northern and central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se people became known as the Seminole (which means “runaway” or “Wander”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What did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planted corn, beans, squash and other vegetables and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fished and hunted, often catching alligators in the Florida sw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On land the Seminole hunted deer , bear, raccoon, squirrel, and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gathered roots and pot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Each family owned a vegetable ga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rn was an important staple in the Seminole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often used to make a corn dish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ominy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or it was ground into meal to make corn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y wore colorful cotton clothing decorated with striped or plaid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e women wore long-sleeved blouses and skirts that touched 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ore necklaces made of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t was common for Seminole women to wear several pounds of beaded necklaces that reached all the way to her 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Men wore colorful shirts and plaid turbans on thei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hen the weather was cold, men wore coats with ruffles called long shi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ick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living near the Everglades built open-sided wooden huts called chick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hickee was built on a platform raised about 3 feet off the swampy ground, and it had a thatched roof constructed of palmetto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roof kept out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lept in hammo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 Seminole spent most of their time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Chic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miccos08"/>
          <p:cNvPicPr/>
          <p:nvPr/>
        </p:nvPicPr>
        <p:blipFill>
          <a:blip r:embed="rId1"/>
          <a:stretch/>
        </p:blipFill>
        <p:spPr>
          <a:xfrm>
            <a:off x="990720" y="1295280"/>
            <a:ext cx="7810560" cy="42958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w did the Seminoles trav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made flat dugout canoes from hollowed-out cypress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y steered the boats with poles rather than pad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What were the Seminole village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Was made up of many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Families in the villages were related  through their m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All women and children belonged to the same clan (vocabulary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women worked near camp, taking care of the children, cooking, sewing, and gar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men hunted, fishing, and fa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In the early summer, the Seminole prepared for an important festival- </a:t>
            </a: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the green corn 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minole villages came together to celebrate the festival by dancing, playing games, and fe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The naming ceremony was held that year at the green corn dance fest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3:05:39Z</dcterms:created>
  <dc:creator>Minter, Erin</dc:creator>
  <dc:description/>
  <dc:language>en-US</dc:language>
  <cp:lastModifiedBy>Legion</cp:lastModifiedBy>
  <dcterms:modified xsi:type="dcterms:W3CDTF">2017-07-05T12:49:08Z</dcterms:modified>
  <cp:revision>11</cp:revision>
  <dc:subject/>
  <dc:title>Seminole Indians</dc:title>
</cp:coreProperties>
</file>