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4E111-8477-4CA0-A72C-8A9D44E84B2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minole India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minole Indi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 do the Seminole Liv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eminole lived in the southeast region, specifically in the state of Florid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started out in northern Florida, but when the Americans attacked them, the Seminole tribe retreated further south, into the Everglade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do the Seminole Liv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eminole lived in the southeast region, specifically in the state of Florid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started out in northern Florida, but when the Americans attacked them, the Seminole tribe retreated further south, into the Everglad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o are the Seminole India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eminole people were once part of the creek trib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farmed the southern regions of what is known today as Georgia and Alaba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European settlers arrived, some of the creek people decided to stay behind, while others moved to northern and central Florid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people became known as the Seminole (which means “runaway” or “Wander”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are the Seminole Indi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eminole people were once part of the creek tri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farmed the southern regions of what is known today as Georgia and Alab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European settlers arrived, some of the creek people decided to stay behind, while others moved to northern and central Flori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people became known as the Seminole (which means “runaway” or “Wander”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did they ea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planted corn, beans, squash and other vegetables and fru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fished and hunted, often catching alligators in the Florida swamp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 land the Seminole hunted deer , bear, raccoon, squirrel, and bir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gathered roots and potato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ch family owned a vegetable gard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n was an important staple in the Seminole di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was often used to make a corn dish called hominy or it was ground into meal to make cornbrea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id they ea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planted corn, beans, squash and other vegetables and fru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fished and hunted, often catching alligators in the Florida swam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land the Seminole hunted deer , bear, raccoon, squirrel, and bi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athered roots and potato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family owned a vegetable gard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n was an important staple in the Seminole di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as often used to make a corn dish called hominy or it was ground into meal to make cornbre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did they wear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wore colorful cotton clothing decorated with striped or plaid desig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women wore long-sleeved blouses and skirts that touched the flo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ore necklaces made of glass bea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was common for Seminole women to wear several pounds of beaded necklaces that reached all the way to her e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n wore colorful shirts and plaid turbans on their hea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the weather was cold, men wore coats with ruffles called long shir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id they wea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wore colorful cotton clothing decorated with striped or plaid desig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women wore long-sleeved blouses and skirts that touched the flo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e necklaces made of glass bea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as common for Seminole women to wear several pounds of beaded necklaces that reached all the way to her e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n wore colorful shirts and plaid turbans on their hea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he weather was cold, men wore coats with ruffles called long shir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are Chickee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eminole living near the Everglades built open-sided wooden huts called chicke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chickee was built on a platform raised about 3 feet off the swampy ground, and it had a thatched roof constructed of palmetto leav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oof kept out ra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eminole slept in hammock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eminole spent most of their time outdoo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re Chicke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eminole living near the Everglades built open-sided wooden huts called chicke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hickee was built on a platform raised about 3 feet off the swampy ground, and it had a thatched roof constructed of palmetto lea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oof kept out r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eminole slept in hammock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eminole spent most of their time outdo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ick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ick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did the Seminoles travel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made flat dugout canoes from hollowed-out cypress log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steered the boats with poles rather than padd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id the Seminoles travel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made flat dugout canoes from hollowed-out cypress lo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steered the boats with poles rather than padd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were the Seminole villages lik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s made up of many famil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milies in the villages were related  through their moth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 women and children belonged to the same clan (vocabulary word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minole women worked near camp, taking care of the children, cooking, sewing, and garden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minole men hunted, fishing, and farm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the early summer, the Seminole prepared for an important festival- the green corn d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minole villages came together to celebrate the festival by dancing, playing games, and feast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aming ceremony was held that year at the green corn dance festiv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were the Seminole villages lik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s made up of many famil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milies in the villages were related  through their moth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women and children belonged to the same clan (vocabulary wor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minole women worked near camp, taking care of the children, cooking, sewing, and garde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minole men hunted, fishing, and farm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early summer, the Seminole prepared for an important festival- the green corn d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minole villages came together to celebrate the festival by dancing, playing games, and feas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aming ceremony was held that year at the green corn dance festiv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321C1-B1D8-4A3C-947F-1D11E0BB9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27737-5EE3-4440-B985-BF5880387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22BCC-510D-4E6F-9DE6-22E3D8BB7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09972-2668-45B4-9148-D7C741C78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053E1-7BED-40B8-816E-64328FBC1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6ADAF-C491-4C54-8850-6666B834C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C7884-A0F3-4E8F-8D37-945300355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4A763-F2BD-4FD5-B62D-893713F98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6539F-9AA3-4F2C-B1BB-FCC944CB1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6DA33-65DB-45D6-AC3D-B56C31B5B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C0B58-1E0F-496D-BAC2-6F82EFB8A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2EC61-C764-4623-8BF0-1692EC3D8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EC6C3-C86C-4968-BB23-BD06F0744D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entury Schoolbook"/>
              </a:rPr>
              <a:t>Seminole Indian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seminole-indians-2"/>
          <p:cNvPicPr/>
          <p:nvPr/>
        </p:nvPicPr>
        <p:blipFill>
          <a:blip r:embed="rId1"/>
          <a:stretch/>
        </p:blipFill>
        <p:spPr>
          <a:xfrm>
            <a:off x="3124080" y="1828800"/>
            <a:ext cx="3022560" cy="4686480"/>
          </a:xfrm>
          <a:prstGeom prst="rect">
            <a:avLst/>
          </a:prstGeom>
          <a:ln w="0">
            <a:noFill/>
          </a:ln>
        </p:spPr>
      </p:pic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entury Schoolbook"/>
              </a:rPr>
              <a:t>Where do the Seminole Liv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The Seminole lived in the southeast region, specifically in the state of Florid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They started out in northern Florida, but when the Americans attacked them, the Seminole tribe retreated further south, into the Everglades.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Schoolbook"/>
              </a:rPr>
              <a:t>Who are the Seminol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Century Schoolbook"/>
              </a:rPr>
              <a:t>India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The Seminole people were once part of the creek trib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They farmed the southern regions of what is known today as Georgia and Alaba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When European settlers arrived, some of the creek people decided to stay behind, while others moved to northern and central Flori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These people became known as the Seminole (which means “runaway” or “Wander”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Schoolbook"/>
              </a:rPr>
              <a:t>What did they ea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They planted corn, beans, squash and other vegetables and fru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They fished and hunted, often catching alligators in the Florida swam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On land the Seminole hunted deer , bear, raccoon, squirrel, and bi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The gathered roots and potato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Each family owned a vegetable gar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Corn was an important staple in the Seminole di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It was often used to make a corn dish called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hominy</a:t>
            </a: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 or it was ground into meal to make cornb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Schoolbook"/>
              </a:rPr>
              <a:t>What did they wea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They wore colorful cotton clothing decorated with striped or plaid desig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The women wore long-sleeved blouses and skirts that touched the flo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Wore necklaces made of glass bea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It was common for Seminole women to wear several pounds of beaded necklaces that reached all the way to her e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Men wore colorful shirts and plaid turbans on their hea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When the weather was cold, men wore coats with ruffles called long shi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are Chickee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The Seminole living near the Everglades built open-sided wooden huts called chicke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A chickee was built on a platform raised about 3 feet off the swampy ground, and it had a thatched roof constructed of palmetto lea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The roof kept out 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The Seminole slept in hammock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The Seminole spent most of their time outdo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Schoolbook"/>
              </a:rPr>
              <a:t>Chicke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9" descr="miccos08"/>
          <p:cNvPicPr/>
          <p:nvPr/>
        </p:nvPicPr>
        <p:blipFill>
          <a:blip r:embed="rId1"/>
          <a:stretch/>
        </p:blipFill>
        <p:spPr>
          <a:xfrm>
            <a:off x="990720" y="1295280"/>
            <a:ext cx="7810560" cy="4295880"/>
          </a:xfrm>
          <a:prstGeom prst="rect">
            <a:avLst/>
          </a:prstGeom>
          <a:ln w="0">
            <a:noFill/>
          </a:ln>
        </p:spPr>
      </p:pic>
      <p:sp>
        <p:nvSpPr>
          <p:cNvPr id="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Schoolbook"/>
              </a:rPr>
              <a:t>How did the Seminoles trave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They made flat dugout canoes from hollowed-out cypress lo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They steered the boats with poles rather than padd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entury Schoolbook"/>
              </a:rPr>
              <a:t>What were the Seminole villages lik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Schoolbook"/>
              </a:rPr>
              <a:t>Was made up of many famil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Schoolbook"/>
              </a:rPr>
              <a:t>Families in the villages were related  through their moth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Schoolbook"/>
              </a:rPr>
              <a:t>All women and children belonged to the same clan (vocabulary wor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Schoolbook"/>
              </a:rPr>
              <a:t>Seminole women worked near camp, taking care of the children, cooking, sewing, and garde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Schoolbook"/>
              </a:rPr>
              <a:t>Seminole men hunted, fishing, and farm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Schoolbook"/>
              </a:rPr>
              <a:t>In the early summer, the Seminole prepared for an important festival- </a:t>
            </a: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the green corn d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Schoolbook"/>
              </a:rPr>
              <a:t>Seminole villages came together to celebrate the festival by dancing, playing games, and fea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Schoolbook"/>
              </a:rPr>
              <a:t>The naming ceremony was held that year at the green corn dance festiv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1T23:05:39Z</dcterms:created>
  <dc:creator>Minter, Erin</dc:creator>
  <dc:description/>
  <dc:language>en-US</dc:language>
  <cp:lastModifiedBy>Legion</cp:lastModifiedBy>
  <dcterms:modified xsi:type="dcterms:W3CDTF">2017-07-05T12:49:08Z</dcterms:modified>
  <cp:revision>11</cp:revision>
  <dc:subject/>
  <dc:title>Seminole Indians</dc:title>
</cp:coreProperties>
</file>