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595B-730C-4473-976B-661CBB00C9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ys of the Worl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Brief Global His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First Edi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Rise and Fall of World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pyright © 2009 by Bedford/St. Martin’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bert W. Stray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ys of the Worl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Brief Global His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First Edi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Rise and Fall of World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pyright © 2009 by Bedford/St. Martin’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bert W. Stray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lobal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lobal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Revolu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 a Path to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ssia: Revolution in a Single Ye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 Prolonged Revolutionary Strug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Revolu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 a Path to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ssia: Revolution in a Single Ye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 Prolonged Revolutionary Strug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ilding Socialism in Two Countr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t Femi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cialism in the Country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m and Industri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earch for Enem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ilding Socialism in Two Countr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t Femi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cialism in the Country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m and Industri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earch for Enem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ast versus Wes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Global Divide and a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litary Conflict and the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uclear Standoff and Third World Rival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United States: Superpower of the West, 1945–197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mmunist World, 1950s–1970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ast versus Wes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Global Divide and a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litary Conflict and the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uclear Standoff and Third World Rival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United States: Superpower of the West, 1945–197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mmunist World, 1950s–1970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Pat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the End of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bandoning Communism and Maintaining the Par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oviet Union: The Collapse of Communism and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Pat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the End of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bandoning Communism and Maintaining the Par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oviet Union: The Collapse of Communism and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Rise and Fall of World Communism, 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1 Russia in 1917 (p. 66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2 The Rise of Communism in China (p. 66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3 The Global Cold War (p. 67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4 The Collapse of the Soviet Empire (p. 68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in (p. 658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o Zedong and the Long March (p. 665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bilizing Women for Communism (p. 669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stituting Manpower for Machinery (p. 67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Hydrogen Bomb (p. 67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zechoslovakia, 1968 (p. 68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fter Communism in China (p. 68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Rise and Fall of World Communism, 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1 Russia in 1917 (p. 66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2 The Rise of Communism in China (p. 66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3 The Global Cold War (p. 67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4 The Collapse of the Soviet Empire (p. 68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in (p. 658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o Zedong and the Long March (p. 665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bilizing Women for Communism (p. 669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stituting Manpower for Machinery (p. 67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Hydrogen Bomb (p. 67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zechoslovakia, 1968 (p. 68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fter Communism in China (p. 68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C63-F701-4E3A-8C31-06F9D088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6C91-832A-480A-A62C-226958A8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C59-7A4D-4C4F-B4EA-3CC911D7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F15F-C36D-434F-9950-6768D15F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F5E-8DFD-4E49-A161-014449C5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6D5-2168-487C-BBAF-5B3B41ED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F5A-AD5B-4B26-873C-3628663D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721-A5A6-4015-B2A0-13C33008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56AB-7623-4B16-A399-3F878396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4708-F4FA-43D4-A59B-8A3DCFFC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D8C0-3916-4F73-B5F6-2939855D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6EDC-16E3-4723-A2BD-286EFF86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8081-ADDD-4A83-888E-ED7CC4FF083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Ways of the World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A Brief Global Histo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4114800"/>
            <a:ext cx="8839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se and Fall of World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7–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876920" y="643104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yright © 2009 by Bedford/St. Martin’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9040" y="7621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W. Stray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map 22-3 (inset)"/>
          <p:cNvPicPr/>
          <p:nvPr/>
        </p:nvPicPr>
        <p:blipFill>
          <a:blip r:embed="rId1"/>
          <a:stretch/>
        </p:blipFill>
        <p:spPr>
          <a:xfrm>
            <a:off x="1663560" y="165240"/>
            <a:ext cx="5819760" cy="65325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map 22-3"/>
          <p:cNvPicPr/>
          <p:nvPr/>
        </p:nvPicPr>
        <p:blipFill>
          <a:blip r:embed="rId1"/>
          <a:stretch/>
        </p:blipFill>
        <p:spPr>
          <a:xfrm>
            <a:off x="304920" y="457200"/>
            <a:ext cx="8531280" cy="59421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map 22-4"/>
          <p:cNvPicPr/>
          <p:nvPr/>
        </p:nvPicPr>
        <p:blipFill>
          <a:blip r:embed="rId1"/>
          <a:stretch/>
        </p:blipFill>
        <p:spPr>
          <a:xfrm>
            <a:off x="304920" y="507960"/>
            <a:ext cx="8531280" cy="5856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image, p658"/>
          <p:cNvPicPr/>
          <p:nvPr/>
        </p:nvPicPr>
        <p:blipFill>
          <a:blip r:embed="rId1"/>
          <a:stretch/>
        </p:blipFill>
        <p:spPr>
          <a:xfrm>
            <a:off x="2082960" y="165240"/>
            <a:ext cx="4971960" cy="65325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age, p665"/>
          <p:cNvPicPr/>
          <p:nvPr/>
        </p:nvPicPr>
        <p:blipFill>
          <a:blip r:embed="rId1"/>
          <a:stretch/>
        </p:blipFill>
        <p:spPr>
          <a:xfrm>
            <a:off x="368280" y="165240"/>
            <a:ext cx="8404200" cy="6532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image, p669"/>
          <p:cNvPicPr/>
          <p:nvPr/>
        </p:nvPicPr>
        <p:blipFill>
          <a:blip r:embed="rId1"/>
          <a:stretch/>
        </p:blipFill>
        <p:spPr>
          <a:xfrm>
            <a:off x="2425680" y="165240"/>
            <a:ext cx="4291200" cy="65325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image, p673"/>
          <p:cNvPicPr/>
          <p:nvPr/>
        </p:nvPicPr>
        <p:blipFill>
          <a:blip r:embed="rId1"/>
          <a:stretch/>
        </p:blipFill>
        <p:spPr>
          <a:xfrm>
            <a:off x="2565360" y="165240"/>
            <a:ext cx="4022640" cy="65325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image, p677"/>
          <p:cNvPicPr/>
          <p:nvPr/>
        </p:nvPicPr>
        <p:blipFill>
          <a:blip r:embed="rId1"/>
          <a:stretch/>
        </p:blipFill>
        <p:spPr>
          <a:xfrm>
            <a:off x="304920" y="431640"/>
            <a:ext cx="8531280" cy="60026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image, p680"/>
          <p:cNvPicPr/>
          <p:nvPr/>
        </p:nvPicPr>
        <p:blipFill>
          <a:blip r:embed="rId1"/>
          <a:stretch/>
        </p:blipFill>
        <p:spPr>
          <a:xfrm>
            <a:off x="304920" y="216000"/>
            <a:ext cx="8531280" cy="64227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image, p683"/>
          <p:cNvPicPr/>
          <p:nvPr/>
        </p:nvPicPr>
        <p:blipFill>
          <a:blip r:embed="rId1"/>
          <a:stretch/>
        </p:blipFill>
        <p:spPr>
          <a:xfrm>
            <a:off x="304920" y="368280"/>
            <a:ext cx="8531280" cy="61308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Rev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a Path to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: Revolution in a Singl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: A Prolonged Revolutionary Strug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ing Socialism in Two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st Femi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ism in the Country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sm and Industri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arch for Ene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t versus W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lobal Divide and a Cold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tary Conflict and the Cold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Standoff and Third World Ri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ed States: Superpower of the West, 1945–19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unist World, 1950s–197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the End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: Abandoning Communism and Maintaining the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viet Union: The Collapse of Communism and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2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se and Fall of World Communism, 1917–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1 Russia in 1917 (p. 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2 The Rise of Communism in China (p. 6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3 The Global Cold War (p. 6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4 The Collapse of the Soviet Empire (p. 6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in (p. 6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o Zedong and the Long March (p. 6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zing Women for Communism (p. 6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ituting Manpower for Machinery (p. 6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ydrogen Bomb (p. 6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zechoslovakia, 1968 (p. 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Communism in China (p. 68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p 22-1"/>
          <p:cNvPicPr/>
          <p:nvPr/>
        </p:nvPicPr>
        <p:blipFill>
          <a:blip r:embed="rId1"/>
          <a:stretch/>
        </p:blipFill>
        <p:spPr>
          <a:xfrm>
            <a:off x="304920" y="279360"/>
            <a:ext cx="8531280" cy="63136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p 22-2"/>
          <p:cNvPicPr/>
          <p:nvPr/>
        </p:nvPicPr>
        <p:blipFill>
          <a:blip r:embed="rId1"/>
          <a:stretch/>
        </p:blipFill>
        <p:spPr>
          <a:xfrm>
            <a:off x="1434960" y="165240"/>
            <a:ext cx="6283440" cy="653256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Robert W. Strayer</dc:creator>
  <dc:description/>
  <dc:language>en-US</dc:language>
  <cp:lastModifiedBy>Legion</cp:lastModifiedBy>
  <dcterms:modified xsi:type="dcterms:W3CDTF">2017-07-05T12:45:24Z</dcterms:modified>
  <cp:revision>79</cp:revision>
  <dc:subject/>
  <dc:title>Ways of the World</dc:title>
</cp:coreProperties>
</file>