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clap.wav" ContentType="audio/x-wav"/>
  <Override PartName="/ppt/media/image2.jpeg" ContentType="image/jpeg"/>
  <Override PartName="/ppt/media/image1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11.wmf" ContentType="image/x-wmf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0E12-D103-4650-9494-A3F67F156C6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Native Americ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eblos are a group of different tribes who are all much alike, so much alike we group them toge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Native Americ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eblos are a group of different tribes who are all much alike, so much alike we group them toge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Indians, including the Tigua, are farmers. Most of their food comes from crops they plant and tend. Corn is the main crop they pl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Indians, including the Tigua, are farmers. Most of their food comes from crops they plant and tend. Corn is the main crop they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raised cotton that they used to make cloth. They also raised gourds that could be dried out and used as contain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aised cotton that they used to make cloth. They also raised gourds that could be dried out and used as contain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en hunted deer, rabbits, antelope, bear and any other wild game they could find for mea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men and children would collect wild foods like berries when they were in sea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n hunted deer, rabbits, antelope, bear and any other wild game they could find for me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men and children would collect wild foods like berries when they were in sea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Jumano Village had its own leader and its own govern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vernment is a system for running a town or count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Jumano Village had its own leader and its own gover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vernment is a system for running a town or coun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hunters used bows and arrow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war, Pueblo men fired their bows or fought with spears and war club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hunters used bows and arrow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war, Pueblo men fired their bows or fought with spears and war clu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Locations of Juma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Locations of Jum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nc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were important religious ceremonies that had to be done at each stage of the farming seas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were dances and ceremonies while the crops were growing to bring rain and protect the crop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ggest dances and ceremonies came with the harvest of the crop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the Spanish, came diseases and epidemics that killed many of the Pueblo India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s were killed fighting off the Spanish invad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ins Jumano were pushed south and west out of their territory by the Apach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ere important religious ceremonies that had to be done at each stage of the farming seas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ere dances and ceremonies while the crops were growing to bring rain and protect the crop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gest dances and ceremonies came with the harvest of the crop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he Spanish, came diseases and epidemics that killed many of the Pueblo India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s were killed fighting off the Spanish invad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ins Jumano were pushed south and west out of their territory by the Apach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Qui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2 facts on their buil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1 facts on their job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1 fact on what they ate (foo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1 fact on their t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2 facts on why they danc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Qu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2 facts on their buil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1 facts on their jo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1 fact on what they ate (foo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1 fact on their too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2 facts on why they dan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ueblo 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Tigu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Juma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ueblo Tri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ig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um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ir name, Pueblo, is Spanish and means "town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larger Pueblos there are several individual Pueblo buildings built around a plaza or squa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name, Pueblo, is Spanish and means "town"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larger Pueblos there are several individual Pueblo buildings built around a plaza or squa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Pueblos had hundreds of people living in them. Some Pueblos were 4 or 5 stories hig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ueblos had hundreds of people living in them. Some Pueblos were 4 or 5 stories hig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Buil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s are built several ways. One way is to use rocks to build a wall and cover the rocks with a plaster of mud on the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obe is a type of brick made from straw and mu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Buil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s are built several ways. One way is to use rocks to build a wall and cover the rocks with a plaster of mud on the outs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obe is a type of brick made from straw and mu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Build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orno is a kind of oven used by Pueblo Indians to cook bread and tortillas 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used their roof like a por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Buil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orno is a kind of oven used by Pueblo Indians to cook bread and tortillas 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d their roof like a po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tored and cooked their food in well-made potte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gua and other Pueblos are famous for their beautiful potte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tored and cooked their food in well-made potte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igua and other Pueblos are famous for their beautiful potte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ry land made it hard to far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Jumano irrigated their crops from nearby stre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traded with other groups for things they could not grow or ma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ould travel long distances to tra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ry land made it hard to far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umano irrigated their crops from nearby str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raded with other groups for things they could not grow or ma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ould travel long distances to tra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Jo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en cleared the fields and prepared the soi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men did most of the farming. They used sharp sticks to poke holes in the dirt and put seeds in each ho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ldren would walk the fields every day and pick insects off the plants by hand and would pull up wee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Jo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n cleared the fields and prepared the soi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men did most of the farming. They used sharp sticks to poke holes in the dirt and put seeds in each ho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ildren would walk the fields every day and pick insects off the plants by hand and would pull up w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5C2D-120C-46B4-A42B-7FCA6D778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7414-BC75-40D5-9106-7F6BCBDA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ACD7-6006-491B-ACDC-0576AC7FF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6D38-2F3D-4E79-8E1C-F17E48E44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B447-C939-4FE1-A018-418BCEDD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D31E-20F3-4834-A497-C9D91956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57BB-271E-40B6-ABCC-D554BB9B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2B59-FAAC-474D-BF6B-D5B1277F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041D-F3FC-4AC9-A82F-E1FCC2D0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4807-DD1B-417F-A489-6AFB1B3F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650A-78EB-4765-9D50-3C3E240B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F306-F1B6-4ADD-8907-3F4E4A32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E580-4018-4617-85F7-607D20FF8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Native Americ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Pueblos are a group of different tribes who are all much alike, so much alike we group them together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5">
            <a:hlinkClick r:id="" action="ppaction://hlinkshowjump?jump=nextslide"/>
          </p:cNvPr>
          <p:cNvSpPr/>
          <p:nvPr/>
        </p:nvSpPr>
        <p:spPr>
          <a:xfrm>
            <a:off x="76960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C:\Program Files\Microsoft Office\Clipart\standard\stddir4\PH01346J.jpg"/>
          <p:cNvPicPr/>
          <p:nvPr/>
        </p:nvPicPr>
        <p:blipFill>
          <a:blip r:embed="rId1"/>
          <a:stretch/>
        </p:blipFill>
        <p:spPr>
          <a:xfrm>
            <a:off x="4191120" y="2743200"/>
            <a:ext cx="4495680" cy="299736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ueblo Indians, including the Tigua, are farmers. Most of their food comes from crops they plant and tend. Corn is the main crop they pl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5" descr="C:\Program Files\Microsoft Office\Clipart\standard\stddir1\BD06981_.WMF"/>
          <p:cNvPicPr/>
          <p:nvPr/>
        </p:nvPicPr>
        <p:blipFill>
          <a:blip r:embed="rId1"/>
          <a:stretch/>
        </p:blipFill>
        <p:spPr>
          <a:xfrm>
            <a:off x="685800" y="2206800"/>
            <a:ext cx="3809880" cy="366372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6">
            <a:hlinkClick r:id="" action="ppaction://hlinkshowjump?jump=nextslide"/>
          </p:cNvPr>
          <p:cNvSpPr/>
          <p:nvPr/>
        </p:nvSpPr>
        <p:spPr>
          <a:xfrm>
            <a:off x="76201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y raised cotton that they used to make cloth. They also raised gourds that could be dried out and used as contain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C:\Program Files\Microsoft Office\Clipart\standard\stddir4\PH01276J.jpg"/>
          <p:cNvPicPr/>
          <p:nvPr/>
        </p:nvPicPr>
        <p:blipFill>
          <a:blip r:embed="rId1"/>
          <a:stretch/>
        </p:blipFill>
        <p:spPr>
          <a:xfrm>
            <a:off x="4038480" y="1981080"/>
            <a:ext cx="4800600" cy="374040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6">
            <a:hlinkClick r:id="" action="ppaction://hlinkshowjump?jump=nextslide"/>
          </p:cNvPr>
          <p:cNvSpPr/>
          <p:nvPr/>
        </p:nvSpPr>
        <p:spPr>
          <a:xfrm>
            <a:off x="76201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ueblo 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men hunted deer, rabbits, antelope, bear and any other wild game they could find for me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women and children would collect wild foods like berries when they were in sea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C:\Program Files\Microsoft Office\Clipart\standard\stddir1\BD06271_.WMF"/>
          <p:cNvPicPr/>
          <p:nvPr/>
        </p:nvPicPr>
        <p:blipFill>
          <a:blip r:embed="rId1"/>
          <a:stretch/>
        </p:blipFill>
        <p:spPr>
          <a:xfrm>
            <a:off x="380880" y="2819520"/>
            <a:ext cx="4191120" cy="218412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6">
            <a:hlinkClick r:id="" action="ppaction://hlinkshowjump?jump=nextslide"/>
          </p:cNvPr>
          <p:cNvSpPr/>
          <p:nvPr/>
        </p:nvSpPr>
        <p:spPr>
          <a:xfrm>
            <a:off x="77724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Lead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ch Jumano Village had its own leader and its own gover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vernment is a system for running a town or count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C:\Program Files\Microsoft Office\Clipart\standard\stddir2\BS01157_.wmf"/>
          <p:cNvPicPr/>
          <p:nvPr/>
        </p:nvPicPr>
        <p:blipFill>
          <a:blip r:embed="rId1"/>
          <a:stretch/>
        </p:blipFill>
        <p:spPr>
          <a:xfrm>
            <a:off x="4648320" y="1989000"/>
            <a:ext cx="3809880" cy="409896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6">
            <a:hlinkClick r:id="" action="ppaction://hlinkshowjump?jump=nextslide"/>
          </p:cNvPr>
          <p:cNvSpPr/>
          <p:nvPr/>
        </p:nvSpPr>
        <p:spPr>
          <a:xfrm>
            <a:off x="8153280" y="59436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4695" y="3794"/>
                </a:moveTo>
                <a:lnTo>
                  <a:pt x="18708" y="10800"/>
                </a:lnTo>
                <a:lnTo>
                  <a:pt x="46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67816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ueblo hunters used bows and arrow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 war, Pueblo men fired their bows or fought with spears and war club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6">
            <a:hlinkClick r:id="" action="ppaction://hlinkshowjump?jump=nextslide"/>
          </p:cNvPr>
          <p:cNvSpPr/>
          <p:nvPr/>
        </p:nvSpPr>
        <p:spPr>
          <a:xfrm>
            <a:off x="8153280" y="59436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4695" y="3794"/>
                </a:moveTo>
                <a:lnTo>
                  <a:pt x="18708" y="10800"/>
                </a:lnTo>
                <a:lnTo>
                  <a:pt x="46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Pueblo Locations of Juma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8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1" descr="C:\Documents and Settings\MBHILL\My Documents\My Pictures\map jumanos.jpg"/>
          <p:cNvPicPr/>
          <p:nvPr/>
        </p:nvPicPr>
        <p:blipFill>
          <a:blip r:embed="rId1"/>
          <a:stretch/>
        </p:blipFill>
        <p:spPr>
          <a:xfrm>
            <a:off x="457200" y="914400"/>
            <a:ext cx="7620120" cy="52182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Dan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re were important religious ceremonies that had to be done at each stage of the farming seas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re were dances and ceremonies while the crops were growing to bring rain and protect the crops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biggest dances and ceremonies came with the harvest of the crops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With the Spanish, came diseases and epidemics that killed many of the Pueblo India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thers were killed fighting off the Spanish invad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Plains Jumano were pushed south and west out of their territory by the Apach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5">
            <a:hlinkClick r:id="" action="ppaction://hlinkshowjump?jump=nextslide"/>
          </p:cNvPr>
          <p:cNvSpPr/>
          <p:nvPr/>
        </p:nvSpPr>
        <p:spPr>
          <a:xfrm>
            <a:off x="77724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2 facts on their build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1 facts on their job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1 fact on what they ate (foo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1 fact on their too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2 facts on why they danc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Pueblo Trib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igu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Juman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4">
            <a:hlinkClick r:id="" action="ppaction://hlinkshowjump?jump=nextslide"/>
          </p:cNvPr>
          <p:cNvSpPr/>
          <p:nvPr/>
        </p:nvSpPr>
        <p:spPr>
          <a:xfrm>
            <a:off x="78487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388620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ir name, Pueblo, is Spanish and means "town"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 larger Pueblos there are several individual Pueblo buildings built around a plaza or squa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6">
            <a:hlinkClick r:id="" action="ppaction://hlinkshowjump?jump=nextslide"/>
          </p:cNvPr>
          <p:cNvSpPr/>
          <p:nvPr/>
        </p:nvSpPr>
        <p:spPr>
          <a:xfrm>
            <a:off x="7848720" y="5181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7" descr="C:\Documents and Settings\MBHILL\My Documents\My Pictures\pueblo snow.jpg"/>
          <p:cNvPicPr/>
          <p:nvPr/>
        </p:nvPicPr>
        <p:blipFill>
          <a:blip r:embed="rId1"/>
          <a:stretch/>
        </p:blipFill>
        <p:spPr>
          <a:xfrm>
            <a:off x="1371600" y="1600200"/>
            <a:ext cx="5130720" cy="226044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2743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y Pueblos had hundreds of people living in them. Some Pueblos were 4 or 5 stories high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C:\Documents and Settings\MBHILL\My Documents\My Pictures\pueblo1.jpg"/>
          <p:cNvPicPr/>
          <p:nvPr/>
        </p:nvPicPr>
        <p:blipFill>
          <a:blip r:embed="rId1"/>
          <a:stretch/>
        </p:blipFill>
        <p:spPr>
          <a:xfrm>
            <a:off x="3048120" y="1676520"/>
            <a:ext cx="5715000" cy="39621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7">
            <a:hlinkClick r:id="" action="ppaction://hlinkshowjump?jump=nextslide"/>
          </p:cNvPr>
          <p:cNvSpPr/>
          <p:nvPr/>
        </p:nvSpPr>
        <p:spPr>
          <a:xfrm>
            <a:off x="78487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Buil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eblos are built several ways. One way is to use rocks to build a wall and cover the rocks with a plaster of mud on the out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dobe is a type of brick made from straw and mu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">
            <a:hlinkClick r:id="" action="ppaction://hlinkshowjump?jump=nextslide"/>
          </p:cNvPr>
          <p:cNvSpPr/>
          <p:nvPr/>
        </p:nvSpPr>
        <p:spPr>
          <a:xfrm>
            <a:off x="77724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0" descr="C:\Documents and Settings\MBHILL\My Documents\My Pictures\pueblo brick.jpg"/>
          <p:cNvPicPr/>
          <p:nvPr/>
        </p:nvPicPr>
        <p:blipFill>
          <a:blip r:embed="rId1"/>
          <a:stretch/>
        </p:blipFill>
        <p:spPr>
          <a:xfrm>
            <a:off x="4648320" y="2109960"/>
            <a:ext cx="4038480" cy="31255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Build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orn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kind of oven used by Pueblo Indians to cook bread and tortillas in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used their roof like a por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6" descr="C:\Documents and Settings\MBHILL\My Documents\My Pictures\pueblo oven.jpg"/>
          <p:cNvPicPr/>
          <p:nvPr/>
        </p:nvPicPr>
        <p:blipFill>
          <a:blip r:embed="rId1"/>
          <a:stretch/>
        </p:blipFill>
        <p:spPr>
          <a:xfrm>
            <a:off x="4038480" y="1752480"/>
            <a:ext cx="4724640" cy="372132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7">
            <a:hlinkClick r:id="" action="ppaction://hlinkshowjump?jump=nextslide"/>
          </p:cNvPr>
          <p:cNvSpPr/>
          <p:nvPr/>
        </p:nvSpPr>
        <p:spPr>
          <a:xfrm>
            <a:off x="73152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tt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y stored and cooked their food in well-made potte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Tigua and other Pueblos are famous for their beautiful potte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C:\Program Files\Microsoft Office\Clipart\standard\stddir2\BD08820_.WMF"/>
          <p:cNvPicPr/>
          <p:nvPr/>
        </p:nvPicPr>
        <p:blipFill>
          <a:blip r:embed="rId1"/>
          <a:stretch/>
        </p:blipFill>
        <p:spPr>
          <a:xfrm>
            <a:off x="4572000" y="1752480"/>
            <a:ext cx="3274920" cy="457200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6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Far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dry land made it hard to far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Jumano irrigated their crops from nearby str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y traded with other groups for things they could not grow or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y would travel long distances to trad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7" descr="C:\Program Files\Microsoft Office\Clipart\photohm\j0145190.jpg"/>
          <p:cNvPicPr/>
          <p:nvPr/>
        </p:nvPicPr>
        <p:blipFill>
          <a:blip r:embed="rId1"/>
          <a:stretch/>
        </p:blipFill>
        <p:spPr>
          <a:xfrm>
            <a:off x="4495680" y="1981080"/>
            <a:ext cx="4267440" cy="40388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8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Jo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men cleared the fields and prepared the soi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women did most of the farming. They used sharp sticks to poke holes in the dirt and put seeds in each ho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children would walk the fields every day and pick insects off the plants by hand and would pull up we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9" descr="C:\Documents and Settings\MBHILL\My Documents\My Pictures\pueblo people.jpg"/>
          <p:cNvPicPr/>
          <p:nvPr/>
        </p:nvPicPr>
        <p:blipFill>
          <a:blip r:embed="rId1"/>
          <a:stretch/>
        </p:blipFill>
        <p:spPr>
          <a:xfrm>
            <a:off x="4648320" y="2330280"/>
            <a:ext cx="4495680" cy="338472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10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15:22:15Z</dcterms:created>
  <dc:creator>BISD</dc:creator>
  <dc:description/>
  <dc:language>en-US</dc:language>
  <cp:lastModifiedBy>Legion</cp:lastModifiedBy>
  <dcterms:modified xsi:type="dcterms:W3CDTF">2017-07-05T12:43:19Z</dcterms:modified>
  <cp:revision>11</cp:revision>
  <dc:subject/>
  <dc:title>Pueblo Native Americans</dc:title>
</cp:coreProperties>
</file>