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EC1B-11F1-4906-860F-7A006BEFD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mass formula, atomic mass, and empirical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volume of hydrogen is produced when 18g of water is electroly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H2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2H2 + 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ble chips are made of calcium carbonate (CaCO3).  What volume of carbon dioxide will be released when 500g of CaCO3 is reacted with dilute hydrochloric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O3 + 2HC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CaCl2 + H2O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your coursework you reacted magnesium with hydrochloric acid.  What volume of hydrogen would be produced if you reacted 1g of magnesium with excess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+ 2HCl                     MgCl2 + 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irical formulae is simply a way of showing how many atoms are in a molecule (like a chemical formula).  For example, CaO, CaCO3, H20 and KMnO4 are all empirical formulae.  Here’s how to work them ou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lassic exam 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implest formula of 2.24g of iron reacting with 0.96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1: Divide both masses by the relative atomic mas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ron 2.24/56 = 0.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oxygen 0.96/16 = 0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rite this as a ratio and simplif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4:0.06 is equivalent to 2: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Write the formul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iron atoms for 3 oxygen atoms means the formula is Fe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magnesium oxide which contains 48g of magnesium and 32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that contains 42g of nitrogen and 9g of hydro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empirical formula of a compound containing 20g of calcium, 6g of carbon and 24g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formula mass, M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ve formula mass of a compound is blatantly the relative atomic masses of all the elements in the compound add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ater H2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Mr for water = 16 + (2x1) =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 for the following compoun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2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Cl=35 so M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=23, O=16, H=1 so Mr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=24, Cl=35 so Mr = 24+(2x35) = 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=1, S=32, O=16 so Mr = (2x1)+32+(4x16) = 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=39, C=12, O=16 so Mr = (2x39)+12+(3x16) = 1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an isotopic element relative to Carbon-1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chlorine occurs in isotope forms Cl-35 (75.5%) and Cl-37 (24.5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atomic mass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(75.5x35)+(24.5x37))/(75.5+24.5)=3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this: neon-20 (90.9%), neon-21 (0.3%), and neon-22 (8.8%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percentage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can work out Mr then this bit is easy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magnesium in magnesium oxide, Mg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magnesium = 2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 for oxygen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 for magnesium oxide = 24 + 16 =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 percentage mass = 24/40 x 100% = 6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e the percentage mass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n hydrochloric acid, H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assium in potassium chloride, K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n calcium chloride, CaCl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in water,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mass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what mass of magnesium oxide is produced when 60g of magnesium is burned in ai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3: LEARN and APPLY the following 3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8g of Mg makes 8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g of Mg makes 80/48 = 1.66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0g of Mg makes 1.66 x 60 = 100g of M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2: WORK OUT the relative formula masses (M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g = 2 x 24 = 48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2MgO = 2 x (24+16) = 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 out Mr:    2H2O = 2 x ((2x1)+16) = 36              2H2 = 2x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g of water produces 4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1g of water produces 4/36 = 0.11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 of water will produce (4/36) x 6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2Ca = 2x40 = 80                                 2CaO = 2 x (40+16) = 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0g produces 112g so 10g produces (112/80) x 10 = 14g of C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:  2Al2O3 = 2x((2x27)+(3x16)) = 204        4Al = 4x27 = 1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4g produces 108g so 100g produces (108/204) x 100 = 52.9g of Al2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y using this equ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of product IN GRAM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ass of product = (4/36) x 6g = 0.66g of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ulating the volume of a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normal temperature and pressure the Relative Formula Mass (Mr) of a gas will occupy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2g of H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g of O2 has a volume of 24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4g of CO2 has a volume of 24 litres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previous page we said that the MASS of hydrogen produced was 0.66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g of hydrogen (H2) will occupy 24 litres (from the red box above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0.66g will occupy 0.66/2 x 24 = 8 lit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0B1F-9EEB-4759-B08D-07C3D90DB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1E0D-46EA-417B-9369-608DB851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3B1B-03EA-40B6-B163-A7AC6E3E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B16-3D05-4841-8439-7CD1D6DD0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E2E9-8229-4BEC-BBA8-12B2C1432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2B95-D4B9-4C8E-8486-07C06E27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B387-DC53-4B14-99E1-D5AB080E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E525-EE3E-4A4C-BCF9-5920615C5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567D-3821-4A81-A08E-FECCB14E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BA3-4C9D-4B39-B73C-A51FE3A1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5202-9B15-4108-8806-92247C0C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F89-10AD-4F39-B37D-528D80DB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b2b2b2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9015-E0CB-417D-8D92-A9A450A5A244}" type="datetime">
              <a:rPr b="0" lang="en-GB" sz="1600" spc="-1" strike="noStrike">
                <a:solidFill>
                  <a:srgbClr val="b2b2b2"/>
                </a:solidFill>
                <a:latin typeface="Comic Sans MS"/>
              </a:rPr>
              <a:t>28/07/26</a:t>
            </a:fld>
            <a:endParaRPr b="0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1ED5D-BA68-4CDA-B65B-2126C72DA9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920" y="2349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Relative mass formula, atomic mass, and empirical formula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304920" y="762120"/>
            <a:ext cx="8610480" cy="64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What volume of hydrogen is produced when 18g of water is electrolyse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0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2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Marble chips are made of calcium carbonate (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).  What volume of carbon dioxide will be released when 500g of CaCO</a:t>
            </a:r>
            <a:r>
              <a:rPr b="0" lang="en-GB" sz="2000" spc="-1" strike="noStrike" baseline="-25000">
                <a:solidFill>
                  <a:srgbClr val="99ff66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is reacted with dilute hydrochloric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Ca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2HCl 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           Ca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O + CO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cce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In your coursework you reacted magnesium with hydrochloric acid.  What volume of hydrogen would be produced if you reacted 1g of magnesium with excess acid?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Mg + 2HCl                     MgCl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ccecff"/>
                </a:solidFill>
                <a:latin typeface="Comic Sans MS"/>
              </a:rPr>
              <a:t> + H</a:t>
            </a:r>
            <a:r>
              <a:rPr b="0" lang="en-GB" sz="2000" spc="-1" strike="noStrike" baseline="-25000">
                <a:solidFill>
                  <a:srgbClr val="ccec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3962520" y="167652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3886200" y="411480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Line 6"/>
          <p:cNvSpPr/>
          <p:nvPr/>
        </p:nvSpPr>
        <p:spPr>
          <a:xfrm>
            <a:off x="4114800" y="6553080"/>
            <a:ext cx="1295280" cy="0"/>
          </a:xfrm>
          <a:prstGeom prst="line">
            <a:avLst/>
          </a:prstGeom>
          <a:ln w="38160">
            <a:solidFill>
              <a:srgbClr val="cc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mpirical formulae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620640"/>
            <a:ext cx="9144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Empirical formulae is simply a way of showing how many atoms are in a molecule (like a chemical formula).  For example, CaO, CaC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, H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0 and KMnO</a:t>
            </a:r>
            <a:r>
              <a:rPr b="0" i="1" lang="en-GB" sz="2000" spc="-1" strike="noStrike" baseline="-25000">
                <a:solidFill>
                  <a:srgbClr val="ccccff"/>
                </a:solidFill>
                <a:latin typeface="Comic Sans MS"/>
              </a:rPr>
              <a:t>4</a:t>
            </a:r>
            <a:r>
              <a:rPr b="0" i="1" lang="en-GB" sz="2000" spc="-1" strike="noStrike">
                <a:solidFill>
                  <a:srgbClr val="ccccff"/>
                </a:solidFill>
                <a:latin typeface="Comic Sans MS"/>
              </a:rPr>
              <a:t> are all empirical formulae.  Here’s how to work them out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692360" y="1844640"/>
            <a:ext cx="5790960" cy="116748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A classic exam question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Find the simplest formula of 2.24g of iron reacting with 0.96g of oxygen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228600" y="3260880"/>
            <a:ext cx="8686800" cy="36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ff66"/>
                </a:solidFill>
                <a:latin typeface="Comic Sans MS"/>
              </a:rPr>
              <a:t>Step 1:</a:t>
            </a:r>
            <a:r>
              <a:rPr b="0" lang="en-GB" sz="2000" spc="-1" strike="noStrike">
                <a:solidFill>
                  <a:srgbClr val="99ff66"/>
                </a:solidFill>
                <a:latin typeface="Comic Sans MS"/>
              </a:rPr>
              <a:t> Divide both masses by the relative atomic mas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iron 2.24/56 = 0.04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99ff66"/>
                </a:solidFill>
                <a:latin typeface="Comic Sans MS"/>
              </a:rPr>
              <a:t>For oxygen 0.96/16 = 0.0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cc"/>
                </a:solidFill>
                <a:latin typeface="Comic Sans MS"/>
              </a:rPr>
              <a:t>Step 2:</a:t>
            </a:r>
            <a:r>
              <a:rPr b="0" lang="en-GB" sz="2000" spc="-1" strike="noStrike">
                <a:solidFill>
                  <a:srgbClr val="ffcccc"/>
                </a:solidFill>
                <a:latin typeface="Comic Sans MS"/>
              </a:rPr>
              <a:t> Write this as a ratio and simplify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cc"/>
                </a:solidFill>
                <a:latin typeface="Comic Sans MS"/>
              </a:rPr>
              <a:t>0.04:0.06 is equivalent to 2: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66"/>
                </a:solidFill>
                <a:latin typeface="Comic Sans MS"/>
              </a:rPr>
              <a:t>Step 3: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Write the formula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2 iron atoms for 3 oxygen atoms means the formula is 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Fe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2</a:t>
            </a:r>
            <a:r>
              <a:rPr b="0" i="1" lang="en-GB" sz="2000" spc="-1" strike="noStrike" u="sng">
                <a:solidFill>
                  <a:srgbClr val="ffff66"/>
                </a:solidFill>
                <a:uFillTx/>
                <a:latin typeface="Comic Sans MS"/>
              </a:rPr>
              <a:t>O</a:t>
            </a:r>
            <a:r>
              <a:rPr b="0" i="1" lang="en-GB" sz="2000" spc="-1" strike="noStrike" u="sng" baseline="-25000">
                <a:solidFill>
                  <a:srgbClr val="ffff66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Example question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219320"/>
            <a:ext cx="8686800" cy="50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magnesium oxide which contains 48g of magnesium and 32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Find the empirical formula of a compound that contains 42g of nitrogen and 9g of hydro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99ff66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ff66"/>
                </a:solidFill>
                <a:latin typeface="Comic Sans MS"/>
              </a:rPr>
              <a:t>Find the empirical formula of a compound containing 20g of calcium, 6g of carbon and 24g of oxygen.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Relative formula mass, M</a:t>
            </a:r>
            <a:r>
              <a:rPr b="1" lang="en-GB" sz="44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04920" y="914400"/>
            <a:ext cx="853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The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relative formula mass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of a compound is blatantly the relative atomic masses of all the elements in the compound added together.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2209680" y="2057400"/>
            <a:ext cx="1409760" cy="1066320"/>
            <a:chOff x="2209680" y="2057400"/>
            <a:chExt cx="1409760" cy="1066320"/>
          </a:xfrm>
        </p:grpSpPr>
        <p:sp>
          <p:nvSpPr>
            <p:cNvPr id="52" name="Line 5"/>
            <p:cNvSpPr/>
            <p:nvPr/>
          </p:nvSpPr>
          <p:spPr>
            <a:xfrm>
              <a:off x="2990520" y="2514240"/>
              <a:ext cx="438120" cy="4190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3" name="Line 6"/>
            <p:cNvSpPr/>
            <p:nvPr/>
          </p:nvSpPr>
          <p:spPr>
            <a:xfrm flipV="1">
              <a:off x="2361960" y="2476080"/>
              <a:ext cx="399960" cy="456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238200" y="2742840"/>
              <a:ext cx="381240" cy="38088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209680" y="2705040"/>
              <a:ext cx="380880" cy="38052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2571480" y="2057400"/>
              <a:ext cx="666720" cy="6667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7" name="Text Box 10"/>
          <p:cNvSpPr/>
          <p:nvPr/>
        </p:nvSpPr>
        <p:spPr>
          <a:xfrm>
            <a:off x="380880" y="1981080"/>
            <a:ext cx="2133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E.g. water 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4920" y="3429000"/>
            <a:ext cx="8534160" cy="4406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Therefore M</a:t>
            </a:r>
            <a:r>
              <a:rPr b="1" i="1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ffffff"/>
                </a:solidFill>
                <a:latin typeface="Comic Sans MS"/>
              </a:rPr>
              <a:t> for water = 16 + (2x1) = 1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304920" y="4114800"/>
            <a:ext cx="8610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Work out M</a:t>
            </a:r>
            <a:r>
              <a:rPr b="1" i="1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1" i="1" lang="en-GB" sz="2000" spc="-1" strike="noStrike">
                <a:solidFill>
                  <a:srgbClr val="66ff99"/>
                </a:solidFill>
                <a:latin typeface="Comic Sans MS"/>
              </a:rPr>
              <a:t> for the following compound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304920" y="4632480"/>
            <a:ext cx="4419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OH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ff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SO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O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2209680" y="4632480"/>
            <a:ext cx="6477120" cy="24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=1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3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Na=23, O=16, H=1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g=24, Cl=35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24+(2x35) = 9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H=1, S=32, O=16 so M</a:t>
            </a:r>
            <a:r>
              <a:rPr b="0" lang="en-GB" sz="2000" spc="-1" strike="noStrike" baseline="-25000">
                <a:solidFill>
                  <a:srgbClr val="66ff99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66ff99"/>
                </a:solidFill>
                <a:latin typeface="Comic Sans MS"/>
              </a:rPr>
              <a:t> = (2x1)+32+(4x16) = 9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K=39, C=12, O=16 so 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(2x39)+12+(3x16) = 13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" name="Group 30"/>
          <p:cNvGrpSpPr/>
          <p:nvPr/>
        </p:nvGrpSpPr>
        <p:grpSpPr>
          <a:xfrm>
            <a:off x="3352320" y="1828800"/>
            <a:ext cx="5486760" cy="398880"/>
            <a:chOff x="3352320" y="1828800"/>
            <a:chExt cx="5486760" cy="398880"/>
          </a:xfrm>
        </p:grpSpPr>
        <p:sp>
          <p:nvSpPr>
            <p:cNvPr id="63" name="Text Box 11"/>
            <p:cNvSpPr/>
            <p:nvPr/>
          </p:nvSpPr>
          <p:spPr>
            <a:xfrm>
              <a:off x="4191120" y="1828800"/>
              <a:ext cx="4647960" cy="398880"/>
            </a:xfrm>
            <a:prstGeom prst="rect">
              <a:avLst/>
            </a:prstGeom>
            <a:noFill/>
            <a:ln w="381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O = 16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Line 27"/>
            <p:cNvSpPr/>
            <p:nvPr/>
          </p:nvSpPr>
          <p:spPr>
            <a:xfrm flipH="1">
              <a:off x="3352320" y="2057400"/>
              <a:ext cx="838440" cy="152280"/>
            </a:xfrm>
            <a:prstGeom prst="line">
              <a:avLst/>
            </a:prstGeom>
            <a:ln w="38160">
              <a:solidFill>
                <a:srgbClr val="ff99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65" name="Group 29"/>
          <p:cNvGrpSpPr/>
          <p:nvPr/>
        </p:nvGrpSpPr>
        <p:grpSpPr>
          <a:xfrm>
            <a:off x="3733920" y="2666880"/>
            <a:ext cx="5181480" cy="398880"/>
            <a:chOff x="3733920" y="2666880"/>
            <a:chExt cx="5181480" cy="398880"/>
          </a:xfrm>
        </p:grpSpPr>
        <p:sp>
          <p:nvSpPr>
            <p:cNvPr id="66" name="Text Box 12"/>
            <p:cNvSpPr/>
            <p:nvPr/>
          </p:nvSpPr>
          <p:spPr>
            <a:xfrm>
              <a:off x="4191120" y="2666880"/>
              <a:ext cx="4724280" cy="398880"/>
            </a:xfrm>
            <a:prstGeom prst="rect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Relative atomic mass of H = 1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Line 28"/>
            <p:cNvSpPr/>
            <p:nvPr/>
          </p:nvSpPr>
          <p:spPr>
            <a:xfrm flipH="1">
              <a:off x="3733920" y="2895480"/>
              <a:ext cx="457200" cy="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More example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80880" y="1143000"/>
          <a:ext cx="8382240" cy="5334120"/>
        </p:xfrm>
        <a:graphic>
          <a:graphicData uri="http://schemas.openxmlformats.org/drawingml/2006/table">
            <a:tbl>
              <a:tblPr/>
              <a:tblGrid>
                <a:gridCol w="1981440"/>
                <a:gridCol w="3606840"/>
                <a:gridCol w="279396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CaC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40 + 12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1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1 + 14 + 3x16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Mg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2 x (24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ccccff"/>
                          </a:solidFill>
                          <a:latin typeface="Comic Sans MS"/>
                        </a:rPr>
                        <a:t>8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66ff66"/>
                          </a:solidFill>
                          <a:latin typeface="Comic Sans MS"/>
                        </a:rPr>
                        <a:t>3 x ((2x1) + 16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N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2KMnO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3C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H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5</a:t>
                      </a: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OH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ff66"/>
                          </a:solidFill>
                          <a:latin typeface="Comic Sans MS"/>
                        </a:rPr>
                        <a:t>4Ca(OH)</a:t>
                      </a:r>
                      <a:r>
                        <a:rPr b="0" lang="en-GB" sz="2400" spc="-1" strike="noStrike" baseline="-25000">
                          <a:solidFill>
                            <a:srgbClr val="ffff66"/>
                          </a:solidFill>
                          <a:latin typeface="Comic Sans MS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lative atomic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57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ass of an isotopic element relative to Carbon-1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: chlorine occurs in isotope forms Cl-35 (75.5%) and Cl-37 (24.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lative atomic mass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(75.5x35)+(24.5x37))/(75.5+24.5)=35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y this: neon-20 (90.9%), neon-21 (0.3%), and neon-22 (8.8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Calculating percentage mass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04920" y="838080"/>
            <a:ext cx="8534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If you can work out M</a:t>
            </a:r>
            <a:r>
              <a:rPr b="0" i="1" lang="en-GB" sz="2000" spc="-1" strike="noStrike" baseline="-25000">
                <a:solidFill>
                  <a:srgbClr val="ffccff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ccff"/>
                </a:solidFill>
                <a:latin typeface="Comic Sans MS"/>
              </a:rPr>
              <a:t> then this bit is easy…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228600" y="243828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ffcc"/>
                </a:solidFill>
                <a:latin typeface="Comic Sans MS"/>
              </a:rPr>
              <a:t>Calculate the percentage mass of magnesium in magnesium oxide, MgO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28600" y="2895480"/>
            <a:ext cx="8686800" cy="1409760"/>
          </a:xfrm>
          <a:prstGeom prst="rect">
            <a:avLst/>
          </a:pr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= 24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 for oxygen = 16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for magnesium oxide = 24 + 16 = 4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Therefore percentage mass = 24/40 x 100% = 60%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6" name="Group 16"/>
          <p:cNvGrpSpPr/>
          <p:nvPr/>
        </p:nvGrpSpPr>
        <p:grpSpPr>
          <a:xfrm>
            <a:off x="304920" y="1371600"/>
            <a:ext cx="8839080" cy="914400"/>
            <a:chOff x="304920" y="1371600"/>
            <a:chExt cx="8839080" cy="914400"/>
          </a:xfrm>
        </p:grpSpPr>
        <p:grpSp>
          <p:nvGrpSpPr>
            <p:cNvPr id="77" name="Group 15"/>
            <p:cNvGrpSpPr/>
            <p:nvPr/>
          </p:nvGrpSpPr>
          <p:grpSpPr>
            <a:xfrm>
              <a:off x="304920" y="1371600"/>
              <a:ext cx="8610480" cy="914400"/>
              <a:chOff x="304920" y="1371600"/>
              <a:chExt cx="8610480" cy="914400"/>
            </a:xfrm>
          </p:grpSpPr>
          <p:sp>
            <p:nvSpPr>
              <p:cNvPr id="78" name="Rectangle 12"/>
              <p:cNvSpPr/>
              <p:nvPr/>
            </p:nvSpPr>
            <p:spPr>
              <a:xfrm>
                <a:off x="304920" y="1371600"/>
                <a:ext cx="8610480" cy="914400"/>
              </a:xfrm>
              <a:prstGeom prst="rect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Text Box 6"/>
              <p:cNvSpPr/>
              <p:nvPr/>
            </p:nvSpPr>
            <p:spPr>
              <a:xfrm>
                <a:off x="914400" y="1631880"/>
                <a:ext cx="342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Percentage mass (%) = 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Text Box 7"/>
              <p:cNvSpPr/>
              <p:nvPr/>
            </p:nvSpPr>
            <p:spPr>
              <a:xfrm>
                <a:off x="4876920" y="13716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Mass of element A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Text Box 8"/>
              <p:cNvSpPr/>
              <p:nvPr/>
            </p:nvSpPr>
            <p:spPr>
              <a:xfrm>
                <a:off x="4419720" y="1828800"/>
                <a:ext cx="380988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000" spc="-1" strike="noStrike">
                    <a:solidFill>
                      <a:srgbClr val="ffffff"/>
                    </a:solidFill>
                    <a:latin typeface="Comic Sans MS"/>
                  </a:rPr>
                  <a:t>Relative formula mass M</a:t>
                </a:r>
                <a:r>
                  <a:rPr b="1" lang="en-GB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Line 10"/>
              <p:cNvSpPr/>
              <p:nvPr/>
            </p:nvSpPr>
            <p:spPr>
              <a:xfrm>
                <a:off x="4572000" y="1828800"/>
                <a:ext cx="28954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sp>
          <p:nvSpPr>
            <p:cNvPr id="83" name="Text Box 9"/>
            <p:cNvSpPr/>
            <p:nvPr/>
          </p:nvSpPr>
          <p:spPr>
            <a:xfrm>
              <a:off x="7696080" y="1600200"/>
              <a:ext cx="144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Comic Sans MS"/>
                </a:rPr>
                <a:t>x100%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84" name="Text Box 17"/>
          <p:cNvSpPr/>
          <p:nvPr/>
        </p:nvSpPr>
        <p:spPr>
          <a:xfrm>
            <a:off x="228600" y="4419720"/>
            <a:ext cx="8686800" cy="23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66ccff"/>
                </a:solidFill>
                <a:latin typeface="Comic Sans MS"/>
              </a:rPr>
              <a:t>Calculate the percentage mass of the following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Hydrogen in hydrochloric acid, H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Potassium in potassium chloride, KC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Calcium in calcium chloride, CaCl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66cc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xygen in water, H</a:t>
            </a:r>
            <a:r>
              <a:rPr b="0" lang="en-GB" sz="2000" spc="-1" strike="noStrike" baseline="-25000">
                <a:solidFill>
                  <a:srgbClr val="66cc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66ccff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mass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228600" y="9158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9ffcc"/>
                </a:solidFill>
                <a:latin typeface="Comic Sans MS"/>
              </a:rPr>
              <a:t>E.g. what mass of magnesium oxide is produced when 60g of magnesium is burned in air?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7" name="Group 12"/>
          <p:cNvGrpSpPr/>
          <p:nvPr/>
        </p:nvGrpSpPr>
        <p:grpSpPr>
          <a:xfrm>
            <a:off x="228600" y="2362320"/>
            <a:ext cx="8686800" cy="1368000"/>
            <a:chOff x="228600" y="2362320"/>
            <a:chExt cx="8686800" cy="1368000"/>
          </a:xfrm>
        </p:grpSpPr>
        <p:sp>
          <p:nvSpPr>
            <p:cNvPr id="88" name="Text Box 8"/>
            <p:cNvSpPr/>
            <p:nvPr/>
          </p:nvSpPr>
          <p:spPr>
            <a:xfrm>
              <a:off x="228600" y="2362320"/>
              <a:ext cx="86868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ccccff"/>
                  </a:solidFill>
                  <a:latin typeface="Comic Sans MS"/>
                </a:rPr>
                <a:t>Step 1: READ the equatio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2Mg + O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      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 2Mg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9" name="Line 4"/>
            <p:cNvSpPr/>
            <p:nvPr/>
          </p:nvSpPr>
          <p:spPr>
            <a:xfrm>
              <a:off x="4419720" y="3048120"/>
              <a:ext cx="68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90" name="Group 13"/>
          <p:cNvGrpSpPr/>
          <p:nvPr/>
        </p:nvGrpSpPr>
        <p:grpSpPr>
          <a:xfrm>
            <a:off x="4343400" y="1981080"/>
            <a:ext cx="4800600" cy="2057400"/>
            <a:chOff x="4343400" y="1981080"/>
            <a:chExt cx="4800600" cy="2057400"/>
          </a:xfrm>
        </p:grpSpPr>
        <p:sp>
          <p:nvSpPr>
            <p:cNvPr id="91" name="Text Box 5"/>
            <p:cNvSpPr/>
            <p:nvPr/>
          </p:nvSpPr>
          <p:spPr>
            <a:xfrm>
              <a:off x="6781680" y="1981080"/>
              <a:ext cx="2362320" cy="131364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Comic Sans MS"/>
                </a:rPr>
                <a:t>IGNORE the oxygen in step 2 – the question doesn’t ask for it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2" name="Freeform 6"/>
            <p:cNvSpPr/>
            <p:nvPr/>
          </p:nvSpPr>
          <p:spPr>
            <a:xfrm>
              <a:off x="4343400" y="2095560"/>
              <a:ext cx="2514600" cy="723960"/>
            </a:xfrm>
            <a:custGeom>
              <a:avLst/>
              <a:gdLst/>
              <a:ahLst/>
              <a:rect l="l" t="t" r="r" b="b"/>
              <a:pathLst>
                <a:path w="1584" h="456">
                  <a:moveTo>
                    <a:pt x="1584" y="24"/>
                  </a:moveTo>
                  <a:cubicBezTo>
                    <a:pt x="1380" y="12"/>
                    <a:pt x="1176" y="0"/>
                    <a:pt x="912" y="72"/>
                  </a:cubicBezTo>
                  <a:cubicBezTo>
                    <a:pt x="648" y="144"/>
                    <a:pt x="324" y="300"/>
                    <a:pt x="0" y="456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3" name="Freeform 7"/>
            <p:cNvSpPr/>
            <p:nvPr/>
          </p:nvSpPr>
          <p:spPr>
            <a:xfrm>
              <a:off x="7238880" y="3200400"/>
              <a:ext cx="1003320" cy="838080"/>
            </a:xfrm>
            <a:custGeom>
              <a:avLst/>
              <a:gdLst/>
              <a:ahLst/>
              <a:rect l="l" t="t" r="r" b="b"/>
              <a:pathLst>
                <a:path w="632" h="528">
                  <a:moveTo>
                    <a:pt x="624" y="0"/>
                  </a:moveTo>
                  <a:cubicBezTo>
                    <a:pt x="628" y="76"/>
                    <a:pt x="632" y="152"/>
                    <a:pt x="528" y="240"/>
                  </a:cubicBezTo>
                  <a:cubicBezTo>
                    <a:pt x="424" y="328"/>
                    <a:pt x="212" y="428"/>
                    <a:pt x="0" y="528"/>
                  </a:cubicBezTo>
                </a:path>
              </a:pathLst>
            </a:custGeom>
            <a:noFill/>
            <a:ln w="63360">
              <a:solidFill>
                <a:srgbClr val="99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94" name="Text Box 9"/>
          <p:cNvSpPr/>
          <p:nvPr/>
        </p:nvSpPr>
        <p:spPr>
          <a:xfrm>
            <a:off x="228600" y="4952880"/>
            <a:ext cx="86868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3: LEARN and APPLY the following 3 points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48g of Mg makes 8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1g of Mg makes 80/48 = 1.66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0g of Mg makes 1.66 x 60 = 100g of Mg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28600" y="3733920"/>
            <a:ext cx="8915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Step 2: WORK OUT the relative formula masses (M</a:t>
            </a:r>
            <a:r>
              <a:rPr b="1" lang="en-GB" sz="2000" spc="-1" strike="noStrike" baseline="-25000">
                <a:solidFill>
                  <a:srgbClr val="ccccff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Mg = 2 x 24 = 48       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2MgO = 2 x (24+16) = 80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6"/>
          <p:cNvSpPr/>
          <p:nvPr/>
        </p:nvSpPr>
        <p:spPr>
          <a:xfrm>
            <a:off x="76320" y="1268280"/>
            <a:ext cx="891540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Work out 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 = 2 x ((2x1)+16) = 36              2H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2 = 4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36g of water produces 4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1g of water produces 4/36 = 0.11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6g of water will produce (4/36) x 6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76320" y="4051440"/>
            <a:ext cx="899136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2Ca = 2x40 = 80                                 2CaO = 2 x (40+16) = 112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80g produces 112g so 10g produces (112/80) x 1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14g of CaO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76320" y="6019920"/>
            <a:ext cx="8991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M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r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:  2Al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2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O</a:t>
            </a:r>
            <a:r>
              <a:rPr b="0" i="1" lang="en-GB" sz="2000" spc="-1" strike="noStrike" baseline="-25000">
                <a:solidFill>
                  <a:srgbClr val="ffff99"/>
                </a:solidFill>
                <a:latin typeface="Comic Sans MS"/>
              </a:rPr>
              <a:t>3</a:t>
            </a:r>
            <a:r>
              <a:rPr b="0" i="1" lang="en-GB" sz="2000" spc="-1" strike="noStrike">
                <a:solidFill>
                  <a:srgbClr val="ffff99"/>
                </a:solidFill>
                <a:latin typeface="Comic Sans MS"/>
              </a:rPr>
              <a:t> = 2x((2x27)+(3x16)) = 204        4Al = 4x27 = 108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04g produces 108g so 100g produces (108/204) x 100 =</a:t>
            </a:r>
            <a:r>
              <a:rPr b="1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52.9g of Al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2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O</a:t>
            </a:r>
            <a:r>
              <a:rPr b="1" lang="en-GB" sz="2000" spc="-1" strike="noStrike" u="sng" baseline="-25000">
                <a:solidFill>
                  <a:srgbClr val="ffffff"/>
                </a:solidFill>
                <a:uFillTx/>
                <a:latin typeface="Comic Sans MS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9" name="Group 13"/>
          <p:cNvGrpSpPr/>
          <p:nvPr/>
        </p:nvGrpSpPr>
        <p:grpSpPr>
          <a:xfrm>
            <a:off x="0" y="0"/>
            <a:ext cx="9144000" cy="1368000"/>
            <a:chOff x="0" y="0"/>
            <a:chExt cx="9144000" cy="1368000"/>
          </a:xfrm>
        </p:grpSpPr>
        <p:sp>
          <p:nvSpPr>
            <p:cNvPr id="100" name="Text Box 3"/>
            <p:cNvSpPr/>
            <p:nvPr/>
          </p:nvSpPr>
          <p:spPr>
            <a:xfrm>
              <a:off x="0" y="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buClr>
                  <a:srgbClr val="ccccff"/>
                </a:buClr>
                <a:buFont typeface="Comic Sans MS"/>
                <a:buAutoNum type="arabi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1" name="Line 10"/>
            <p:cNvSpPr/>
            <p:nvPr/>
          </p:nvSpPr>
          <p:spPr>
            <a:xfrm>
              <a:off x="3809880" y="609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2" name="Group 15"/>
          <p:cNvGrpSpPr/>
          <p:nvPr/>
        </p:nvGrpSpPr>
        <p:grpSpPr>
          <a:xfrm>
            <a:off x="0" y="5181480"/>
            <a:ext cx="9144000" cy="904320"/>
            <a:chOff x="0" y="5181480"/>
            <a:chExt cx="9144000" cy="904320"/>
          </a:xfrm>
        </p:grpSpPr>
        <p:sp>
          <p:nvSpPr>
            <p:cNvPr id="103" name="Text Box 4"/>
            <p:cNvSpPr/>
            <p:nvPr/>
          </p:nvSpPr>
          <p:spPr>
            <a:xfrm>
              <a:off x="0" y="518148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3)  What mass of aluminium is produced from 100g of aluminium oxide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Al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3  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4Al + 3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4" name="Line 11"/>
            <p:cNvSpPr/>
            <p:nvPr/>
          </p:nvSpPr>
          <p:spPr>
            <a:xfrm>
              <a:off x="3809880" y="57913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105" name="Group 14"/>
          <p:cNvGrpSpPr/>
          <p:nvPr/>
        </p:nvGrpSpPr>
        <p:grpSpPr>
          <a:xfrm>
            <a:off x="0" y="3213000"/>
            <a:ext cx="9144000" cy="904320"/>
            <a:chOff x="0" y="3213000"/>
            <a:chExt cx="9144000" cy="904320"/>
          </a:xfrm>
        </p:grpSpPr>
        <p:sp>
          <p:nvSpPr>
            <p:cNvPr id="106" name="Text Box 5"/>
            <p:cNvSpPr/>
            <p:nvPr/>
          </p:nvSpPr>
          <p:spPr>
            <a:xfrm>
              <a:off x="0" y="3213000"/>
              <a:ext cx="9144000" cy="90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2)  What mass of calcium oxide is produced when 10g of calcium burns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Ca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     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                2CaO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>
              <a:off x="4267080" y="382248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31"/>
          <p:cNvGrpSpPr/>
          <p:nvPr/>
        </p:nvGrpSpPr>
        <p:grpSpPr>
          <a:xfrm>
            <a:off x="228600" y="4343400"/>
            <a:ext cx="8686800" cy="1066680"/>
            <a:chOff x="228600" y="4343400"/>
            <a:chExt cx="8686800" cy="1066680"/>
          </a:xfrm>
        </p:grpSpPr>
        <p:grpSp>
          <p:nvGrpSpPr>
            <p:cNvPr id="109" name="Group 30"/>
            <p:cNvGrpSpPr/>
            <p:nvPr/>
          </p:nvGrpSpPr>
          <p:grpSpPr>
            <a:xfrm>
              <a:off x="228600" y="4343400"/>
              <a:ext cx="8686800" cy="1066680"/>
              <a:chOff x="228600" y="4343400"/>
              <a:chExt cx="8686800" cy="1066680"/>
            </a:xfrm>
          </p:grpSpPr>
          <p:sp>
            <p:nvSpPr>
              <p:cNvPr id="110" name="Rectangle 28"/>
              <p:cNvSpPr/>
              <p:nvPr/>
            </p:nvSpPr>
            <p:spPr>
              <a:xfrm>
                <a:off x="228600" y="4343400"/>
                <a:ext cx="8686800" cy="1066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Line 21"/>
              <p:cNvSpPr/>
              <p:nvPr/>
            </p:nvSpPr>
            <p:spPr>
              <a:xfrm>
                <a:off x="685800" y="487692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2" name="Line 22"/>
              <p:cNvSpPr/>
              <p:nvPr/>
            </p:nvSpPr>
            <p:spPr>
              <a:xfrm>
                <a:off x="6248520" y="4876920"/>
                <a:ext cx="19810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13" name="Group 23"/>
            <p:cNvGrpSpPr/>
            <p:nvPr/>
          </p:nvGrpSpPr>
          <p:grpSpPr>
            <a:xfrm>
              <a:off x="5562720" y="4724280"/>
              <a:ext cx="380880" cy="152280"/>
              <a:chOff x="5562720" y="4724280"/>
              <a:chExt cx="380880" cy="152280"/>
            </a:xfrm>
          </p:grpSpPr>
          <p:sp>
            <p:nvSpPr>
              <p:cNvPr id="114" name="Line 24"/>
              <p:cNvSpPr/>
              <p:nvPr/>
            </p:nvSpPr>
            <p:spPr>
              <a:xfrm>
                <a:off x="5562720" y="472428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5" name="Line 25"/>
              <p:cNvSpPr/>
              <p:nvPr/>
            </p:nvSpPr>
            <p:spPr>
              <a:xfrm>
                <a:off x="5562720" y="4876560"/>
                <a:ext cx="3808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Comic Sans MS"/>
              </a:rPr>
              <a:t>Another method</a:t>
            </a:r>
            <a:endParaRPr b="1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28600" y="762120"/>
            <a:ext cx="86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y using this equation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18" name="Group 29"/>
          <p:cNvGrpSpPr/>
          <p:nvPr/>
        </p:nvGrpSpPr>
        <p:grpSpPr>
          <a:xfrm>
            <a:off x="228600" y="1371600"/>
            <a:ext cx="8686800" cy="1066680"/>
            <a:chOff x="228600" y="1371600"/>
            <a:chExt cx="8686800" cy="1066680"/>
          </a:xfrm>
        </p:grpSpPr>
        <p:sp>
          <p:nvSpPr>
            <p:cNvPr id="119" name="Rectangle 27"/>
            <p:cNvSpPr/>
            <p:nvPr/>
          </p:nvSpPr>
          <p:spPr>
            <a:xfrm>
              <a:off x="228600" y="1371600"/>
              <a:ext cx="8686800" cy="106668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0" name="Text Box 4"/>
            <p:cNvSpPr/>
            <p:nvPr/>
          </p:nvSpPr>
          <p:spPr>
            <a:xfrm>
              <a:off x="457200" y="1447920"/>
              <a:ext cx="472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produc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1" name="Text Box 5"/>
            <p:cNvSpPr/>
            <p:nvPr/>
          </p:nvSpPr>
          <p:spPr>
            <a:xfrm>
              <a:off x="457200" y="1905120"/>
              <a:ext cx="487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ass of reactant IN GRAMMES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2" name="Text Box 6"/>
            <p:cNvSpPr/>
            <p:nvPr/>
          </p:nvSpPr>
          <p:spPr>
            <a:xfrm>
              <a:off x="6019920" y="14479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produc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3" name="Text Box 7"/>
            <p:cNvSpPr/>
            <p:nvPr/>
          </p:nvSpPr>
          <p:spPr>
            <a:xfrm>
              <a:off x="6019920" y="1905120"/>
              <a:ext cx="2895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M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omic Sans MS"/>
                </a:rPr>
                <a:t>r </a:t>
              </a:r>
              <a:r>
                <a:rPr b="0" lang="en-GB" sz="2400" spc="-1" strike="noStrike">
                  <a:solidFill>
                    <a:srgbClr val="ffffff"/>
                  </a:solidFill>
                  <a:latin typeface="Comic Sans MS"/>
                </a:rPr>
                <a:t>of reactant</a:t>
              </a:r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4" name="Line 8"/>
            <p:cNvSpPr/>
            <p:nvPr/>
          </p:nvSpPr>
          <p:spPr>
            <a:xfrm>
              <a:off x="533520" y="1905120"/>
              <a:ext cx="457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5" name="Line 9"/>
            <p:cNvSpPr/>
            <p:nvPr/>
          </p:nvSpPr>
          <p:spPr>
            <a:xfrm>
              <a:off x="6095880" y="1905120"/>
              <a:ext cx="1981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126" name="Group 12"/>
            <p:cNvGrpSpPr/>
            <p:nvPr/>
          </p:nvGrpSpPr>
          <p:grpSpPr>
            <a:xfrm>
              <a:off x="5410080" y="1752480"/>
              <a:ext cx="381240" cy="152280"/>
              <a:chOff x="5410080" y="1752480"/>
              <a:chExt cx="381240" cy="152280"/>
            </a:xfrm>
          </p:grpSpPr>
          <p:sp>
            <p:nvSpPr>
              <p:cNvPr id="127" name="Line 10"/>
              <p:cNvSpPr/>
              <p:nvPr/>
            </p:nvSpPr>
            <p:spPr>
              <a:xfrm>
                <a:off x="5410080" y="175248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28" name="Line 11"/>
              <p:cNvSpPr/>
              <p:nvPr/>
            </p:nvSpPr>
            <p:spPr>
              <a:xfrm>
                <a:off x="5410080" y="1904760"/>
                <a:ext cx="3812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29" name="Group 13"/>
          <p:cNvGrpSpPr/>
          <p:nvPr/>
        </p:nvGrpSpPr>
        <p:grpSpPr>
          <a:xfrm>
            <a:off x="0" y="2819520"/>
            <a:ext cx="9144000" cy="1368000"/>
            <a:chOff x="0" y="2819520"/>
            <a:chExt cx="9144000" cy="1368000"/>
          </a:xfrm>
        </p:grpSpPr>
        <p:sp>
          <p:nvSpPr>
            <p:cNvPr id="130" name="Text Box 14"/>
            <p:cNvSpPr/>
            <p:nvPr/>
          </p:nvSpPr>
          <p:spPr>
            <a:xfrm>
              <a:off x="0" y="28195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mass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3809880" y="342900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32" name="Text Box 17"/>
          <p:cNvSpPr/>
          <p:nvPr/>
        </p:nvSpPr>
        <p:spPr>
          <a:xfrm>
            <a:off x="609480" y="441972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Mass of product IN GRAMMES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18"/>
          <p:cNvSpPr/>
          <p:nvPr/>
        </p:nvSpPr>
        <p:spPr>
          <a:xfrm>
            <a:off x="609480" y="4876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6g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6172200" y="4419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6172200" y="4876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36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26"/>
          <p:cNvSpPr/>
          <p:nvPr/>
        </p:nvSpPr>
        <p:spPr>
          <a:xfrm>
            <a:off x="457200" y="5791320"/>
            <a:ext cx="8153280" cy="45972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o mass of product = (4/36) x 6g =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Comic Sans MS"/>
              </a:rPr>
              <a:t>0.66g of hydrogen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Comic Sans MS"/>
              </a:rPr>
              <a:t>Calculating the volume of a product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380880" y="914400"/>
            <a:ext cx="8382240" cy="74556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t normal temperature and pressure the Relative Formula Mass (M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r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of a gas will occupy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304920" y="1752480"/>
            <a:ext cx="8610480" cy="14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e.g. 2g of H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32g of 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44g of CO</a:t>
            </a:r>
            <a:r>
              <a:rPr b="0" lang="en-GB" sz="2000" spc="-1" strike="noStrike" baseline="-25000">
                <a:solidFill>
                  <a:srgbClr val="ffff66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66"/>
                </a:solidFill>
                <a:latin typeface="Comic Sans MS"/>
              </a:rPr>
              <a:t> has a volume of 24 litres </a:t>
            </a:r>
            <a:r>
              <a:rPr b="0" i="1" lang="en-GB" sz="2000" spc="-1" strike="noStrike">
                <a:solidFill>
                  <a:srgbClr val="ffff66"/>
                </a:solidFill>
                <a:latin typeface="Comic Sans MS"/>
              </a:rPr>
              <a:t>etc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40" name="Group 10"/>
          <p:cNvGrpSpPr/>
          <p:nvPr/>
        </p:nvGrpSpPr>
        <p:grpSpPr>
          <a:xfrm>
            <a:off x="0" y="3276720"/>
            <a:ext cx="9144000" cy="1368000"/>
            <a:chOff x="0" y="3276720"/>
            <a:chExt cx="9144000" cy="1368000"/>
          </a:xfrm>
        </p:grpSpPr>
        <p:sp>
          <p:nvSpPr>
            <p:cNvPr id="141" name="Text Box 7"/>
            <p:cNvSpPr/>
            <p:nvPr/>
          </p:nvSpPr>
          <p:spPr>
            <a:xfrm>
              <a:off x="0" y="3276720"/>
              <a:ext cx="9144000" cy="136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Q.  When water is electrolysed it breaks down into hydrogen and oxygen: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O                  2H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r>
                <a:rPr b="0" lang="en-GB" sz="2000" spc="-1" strike="noStrike">
                  <a:solidFill>
                    <a:srgbClr val="99ffcc"/>
                  </a:solidFill>
                  <a:latin typeface="Comic Sans MS"/>
                </a:rPr>
                <a:t> + O</a:t>
              </a:r>
              <a:r>
                <a:rPr b="0" lang="en-GB" sz="2000" spc="-1" strike="noStrike" baseline="-25000">
                  <a:solidFill>
                    <a:srgbClr val="99ffcc"/>
                  </a:solidFill>
                  <a:latin typeface="Comic Sans MS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ccccff"/>
                  </a:solidFill>
                  <a:latin typeface="Comic Sans MS"/>
                </a:rPr>
                <a:t>What VOLUME of hydrogen is produced by the electrolysis of 6g of water?</a:t>
              </a:r>
              <a:endParaRPr b="0" lang="en-US" sz="20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2" name="Line 8"/>
            <p:cNvSpPr/>
            <p:nvPr/>
          </p:nvSpPr>
          <p:spPr>
            <a:xfrm>
              <a:off x="3809880" y="3962520"/>
              <a:ext cx="1143000" cy="0"/>
            </a:xfrm>
            <a:prstGeom prst="line">
              <a:avLst/>
            </a:prstGeom>
            <a:ln w="38160">
              <a:solidFill>
                <a:srgbClr val="99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>
            <a:off x="0" y="4876920"/>
            <a:ext cx="9144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On the previous page we said that the MASS of hydrogen produced was 0.66g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2g of hydrogen (H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) will occupy 24 litres (from the red box above),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So 0.66g will occupy 0.66/2 x 24 = </a:t>
            </a:r>
            <a:r>
              <a:rPr b="1" lang="en-GB" sz="2000" spc="-1" strike="noStrike" u="sng">
                <a:solidFill>
                  <a:srgbClr val="ffffff"/>
                </a:solidFill>
                <a:uFillTx/>
                <a:latin typeface="Comic Sans MS"/>
              </a:rPr>
              <a:t>8 litres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7:00:03Z</dcterms:created>
  <dc:creator>W Richards</dc:creator>
  <dc:description/>
  <dc:language>en-US</dc:language>
  <cp:lastModifiedBy>LEGION</cp:lastModifiedBy>
  <dcterms:modified xsi:type="dcterms:W3CDTF">2015-09-07T08:20:49Z</dcterms:modified>
  <cp:revision>185</cp:revision>
  <dc:subject/>
  <dc:title>Relative mass formula atomic mass and empirical formula</dc:title>
</cp:coreProperties>
</file>