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jpeg" ContentType="image/jpeg"/>
  <Override PartName="/ppt/media/hail%20to%20the%20chief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4AC7-3219-43E5-8B7C-2A929C47A1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157-8799-484C-A397-7E914BAC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940-3177-46A3-9871-AA1C0330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1E4-2684-4F23-8998-B8DDFA6E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6C9-CA35-42B7-9C29-A786A6D9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5D3-0E80-4C30-A261-F93C693B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8EF-4069-46F4-8CB2-ED0FFA1D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5CF-1825-48EC-A5B4-D294E9B9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5FB-426D-4D6B-8101-E400F4EC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860-199F-4D90-8DCB-C3E0D48E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C15-4E49-4921-A799-B0E7C61E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4B0-F310-49D1-AFB0-F6129A21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C52-C432-4DAE-931F-6CFAA142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2E6B-0756-4975-8226-5FA123499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hail%20to%20the%20chie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Felix Titling"/>
              </a:rPr>
              <a:t>The Presidential Ele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Felix Titling"/>
              </a:rPr>
              <a:t>of 19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3" descr="JFKbutton"/>
          <p:cNvPicPr/>
          <p:nvPr/>
        </p:nvPicPr>
        <p:blipFill>
          <a:blip r:embed="rId1"/>
          <a:stretch/>
        </p:blipFill>
        <p:spPr>
          <a:xfrm>
            <a:off x="0" y="4767120"/>
            <a:ext cx="213372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nixon button"/>
          <p:cNvPicPr/>
          <p:nvPr/>
        </p:nvPicPr>
        <p:blipFill>
          <a:blip r:embed="rId2"/>
          <a:stretch/>
        </p:blipFill>
        <p:spPr>
          <a:xfrm>
            <a:off x="6858000" y="476712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eal-presidential-color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seal-presidential-color"/>
          <p:cNvPicPr/>
          <p:nvPr/>
        </p:nvPicPr>
        <p:blipFill>
          <a:blip r:embed="rId4"/>
          <a:stretch/>
        </p:blipFill>
        <p:spPr>
          <a:xfrm>
            <a:off x="7402680" y="0"/>
            <a:ext cx="17413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Felix Titling"/>
              </a:rPr>
              <a:t>Links to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380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ranklin Gothic Medium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The Candidates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ixon Time"/>
          <p:cNvPicPr/>
          <p:nvPr/>
        </p:nvPicPr>
        <p:blipFill>
          <a:blip r:embed="rId1"/>
          <a:stretch/>
        </p:blipFill>
        <p:spPr>
          <a:xfrm>
            <a:off x="533520" y="1371600"/>
            <a:ext cx="35845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en poster"/>
          <p:cNvPicPr/>
          <p:nvPr/>
        </p:nvPicPr>
        <p:blipFill>
          <a:blip r:embed="rId2"/>
          <a:stretch/>
        </p:blipFill>
        <p:spPr>
          <a:xfrm>
            <a:off x="5257800" y="1447920"/>
            <a:ext cx="332424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304920" y="6248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R) Richard M. Nix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4876920" y="6248520"/>
            <a:ext cx="40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D) John F. Kenned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Felix Titling"/>
              </a:rPr>
              <a:t>Background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John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file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7 – wins Pulitzer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he race for the offic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oth shaking hands"/>
          <p:cNvPicPr/>
          <p:nvPr/>
        </p:nvPicPr>
        <p:blipFill>
          <a:blip r:embed="rId1"/>
          <a:stretch/>
        </p:blipFill>
        <p:spPr>
          <a:xfrm>
            <a:off x="4952880" y="1523880"/>
            <a:ext cx="3676680" cy="276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jfk_next_pres_button"/>
          <p:cNvPicPr/>
          <p:nvPr/>
        </p:nvPicPr>
        <p:blipFill>
          <a:blip r:embed="rId2"/>
          <a:stretch/>
        </p:blipFill>
        <p:spPr>
          <a:xfrm>
            <a:off x="4800600" y="464832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nixon button"/>
          <p:cNvPicPr/>
          <p:nvPr/>
        </p:nvPicPr>
        <p:blipFill>
          <a:blip r:embed="rId3"/>
          <a:stretch/>
        </p:blipFill>
        <p:spPr>
          <a:xfrm>
            <a:off x="6934320" y="4724280"/>
            <a:ext cx="1828800" cy="1673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elevised Deb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re debate photo"/>
          <p:cNvPicPr/>
          <p:nvPr/>
        </p:nvPicPr>
        <p:blipFill>
          <a:blip r:embed="rId2"/>
          <a:stretch/>
        </p:blipFill>
        <p:spPr>
          <a:xfrm>
            <a:off x="6172200" y="1295280"/>
            <a:ext cx="2560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1960 Debate"/>
          <p:cNvPicPr/>
          <p:nvPr/>
        </p:nvPicPr>
        <p:blipFill>
          <a:blip r:embed="rId3"/>
          <a:stretch/>
        </p:blipFill>
        <p:spPr>
          <a:xfrm>
            <a:off x="5105520" y="426708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Bookman Old Style"/>
              </a:rPr>
              <a:t>JFK and MLK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LK/JFK Poster"/>
          <p:cNvPicPr/>
          <p:nvPr/>
        </p:nvPicPr>
        <p:blipFill>
          <a:blip r:embed="rId1"/>
          <a:stretch/>
        </p:blipFill>
        <p:spPr>
          <a:xfrm>
            <a:off x="5410080" y="1290600"/>
            <a:ext cx="327672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mlkkennedy"/>
          <p:cNvPicPr/>
          <p:nvPr/>
        </p:nvPicPr>
        <p:blipFill>
          <a:blip r:embed="rId2"/>
          <a:stretch/>
        </p:blipFill>
        <p:spPr>
          <a:xfrm>
            <a:off x="5334120" y="4038480"/>
            <a:ext cx="3429000" cy="26607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Franklin Gothic Medium"/>
              </a:rPr>
              <a:t>Election results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oral"/>
          <p:cNvPicPr/>
          <p:nvPr/>
        </p:nvPicPr>
        <p:blipFill>
          <a:blip r:embed="rId1"/>
          <a:stretch/>
        </p:blipFill>
        <p:spPr>
          <a:xfrm>
            <a:off x="5943600" y="990720"/>
            <a:ext cx="302112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opular"/>
          <p:cNvPicPr/>
          <p:nvPr/>
        </p:nvPicPr>
        <p:blipFill>
          <a:blip r:embed="rId2"/>
          <a:stretch/>
        </p:blipFill>
        <p:spPr>
          <a:xfrm>
            <a:off x="457200" y="1447920"/>
            <a:ext cx="4191120" cy="416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results"/>
          <p:cNvPicPr/>
          <p:nvPr/>
        </p:nvPicPr>
        <p:blipFill>
          <a:blip r:embed="rId3"/>
          <a:stretch/>
        </p:blipFill>
        <p:spPr>
          <a:xfrm>
            <a:off x="2971800" y="5051520"/>
            <a:ext cx="6172200" cy="1806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Kennedy’s Inaugural Addr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nedy said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"We shall pay any price, bear any burden, meet any hardship, support any friend, oppose any foe, to assure the survival and success of libert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nauguarl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7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495680" y="5334120"/>
            <a:ext cx="335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3:42:44Z</dcterms:created>
  <dc:creator>dgreenberg</dc:creator>
  <dc:description/>
  <dc:language>en-US</dc:language>
  <cp:lastModifiedBy>Legion</cp:lastModifiedBy>
  <dcterms:modified xsi:type="dcterms:W3CDTF">2017-07-05T12:41:30Z</dcterms:modified>
  <cp:revision>39</cp:revision>
  <dc:subject/>
  <dc:title>The Presidential Election</dc:title>
</cp:coreProperties>
</file>