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3.jpeg" ContentType="image/jpeg"/>
  <Override PartName="/ppt/media/hail%20to%20the%20chief.wav" ContentType="audio/x-wav"/>
  <Override PartName="/ppt/media/image8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9262-9606-4E86-B1DE-E5A220CD91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ial E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19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ial E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s to video cl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HERE to view a 4 minute clip of the debate between Kennedy and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HERE to view JFK’s entire Inauguration and Inaugural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to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HERE to view a 4 minute clip of the debate between Kennedy and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HERE to view JFK’s entire Inauguration and Inaugural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ndidat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) Richard M.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) John F.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idat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) Richard M.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) 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ground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ard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1913 in Yorba Linda, Califor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tier College and Duke Law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t. Commander in US Navy during WW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ed to House in 1946, Senate 195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-President under Ike for 8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 Brookline, Massachusetts in 19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v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t. in US Navy; Pt109 Comma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ed to House in 1946, Senate 19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shed Profiles in Courage 1957 – wins Pulitzer Pr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hard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1913 in Yorba Lind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tier College and Duke Law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. Commander in US Navy during WW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to House in 1946, Senate 19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-President under Ike for 8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Brookline, Massachusetts in 19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v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. in US Navy; Pt109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to House in 1946, Senate 19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Profiles in Courage 1957 – wins Pulitzer P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ce for the offic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men were young, military veterans, lawyers, had political experience and similar vie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many historians believe there were (2) important factors that decided the race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ce for the offi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men were young, military veterans, lawyers, had political experience and similar vie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many historians believe there were (2) important factors that decided the race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vised Deb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televised debates in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 million viewers tuned in, more on rad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debate, the telegenic Kennedy won the image battle over Nixon who, recovering from the flu, appeared pale and refused make-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vised Deb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televised debates in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million viewers tuned in, more on rad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debate, the telegenic Kennedy won the image battle over Nixon who, recovering from the flu, appeared pale and refused make-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FK and MLK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Reverend Martin Luther King was arrested in Atlanta, Kennedy called to offer his sympath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rnered Kennedy substantial African-American support in the 1960 e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FK and ML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everend Martin Luther King was arrested in Atlanta, Kennedy called to offer his sympath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arnered Kennedy substantial African-American support in the 1960 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result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result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nedy’s Inaugural Addr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John F. Kennedy delivers his inaugural address at Capitol Hill in Jan. 20, 196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nedy said, "We shall pay any price, bear any burden, meet any hardship, support any friend, oppose any foe, to assure the survival and success of liberty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’s Inaugural Addr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ohn F. Kennedy delivers his inaugural address at Capitol Hill in Jan. 20, 196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 said, "We shall pay any price, bear any burden, meet any hardship, support any friend, oppose any foe, to assure the survival and success of libert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3268-58F3-4EAA-ACEC-BFDDBAC7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EA7-8DBD-491B-8E7D-441A7420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93BA-EEC6-44FA-A89B-A1B19E2F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E79-A1B3-437E-875F-0CC187FA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E4A-13EC-42A3-9A85-8BC2F726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D31-8803-42D2-9BFC-7BB4981E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20A-F5D7-4C13-8C78-88889677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7BB-11EE-4515-9402-096FED2A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EBFD-81F1-4AFE-B8E4-B27D4838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ACB9-E551-4816-B6E1-C1238CAB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024-DFAC-415D-8281-D5C68F29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D06-0B0F-4CB6-89F6-737217B8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2DDC-B4A9-4FE2-85F7-4B6FC3FEA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hail%20to%20the%20chief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Felix Titling"/>
              </a:rPr>
              <a:t>The Presidential Elec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Felix Titling"/>
              </a:rPr>
              <a:t>of 196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3" descr="JFKbutton"/>
          <p:cNvPicPr/>
          <p:nvPr/>
        </p:nvPicPr>
        <p:blipFill>
          <a:blip r:embed="rId1"/>
          <a:stretch/>
        </p:blipFill>
        <p:spPr>
          <a:xfrm>
            <a:off x="0" y="4767120"/>
            <a:ext cx="2133720" cy="2090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nixon button"/>
          <p:cNvPicPr/>
          <p:nvPr/>
        </p:nvPicPr>
        <p:blipFill>
          <a:blip r:embed="rId2"/>
          <a:stretch/>
        </p:blipFill>
        <p:spPr>
          <a:xfrm>
            <a:off x="6858000" y="4767120"/>
            <a:ext cx="2286000" cy="20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seal-presidential-color"/>
          <p:cNvPicPr/>
          <p:nvPr/>
        </p:nvPicPr>
        <p:blipFill>
          <a:blip r:embed="rId3"/>
          <a:stretch/>
        </p:blipFill>
        <p:spPr>
          <a:xfrm>
            <a:off x="0" y="0"/>
            <a:ext cx="174132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6" descr="seal-presidential-color"/>
          <p:cNvPicPr/>
          <p:nvPr/>
        </p:nvPicPr>
        <p:blipFill>
          <a:blip r:embed="rId4"/>
          <a:stretch/>
        </p:blipFill>
        <p:spPr>
          <a:xfrm>
            <a:off x="7402680" y="0"/>
            <a:ext cx="174132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Felix Titling"/>
              </a:rPr>
              <a:t>Links to video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4038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view a 4 minute clip of the debate between Kennedy and Ni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view JFK’s entire Inauguration and Inaugural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3808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Franklin Gothic Medium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The Candidates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Nixon Time"/>
          <p:cNvPicPr/>
          <p:nvPr/>
        </p:nvPicPr>
        <p:blipFill>
          <a:blip r:embed="rId1"/>
          <a:stretch/>
        </p:blipFill>
        <p:spPr>
          <a:xfrm>
            <a:off x="533520" y="1371600"/>
            <a:ext cx="35845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Ken poster"/>
          <p:cNvPicPr/>
          <p:nvPr/>
        </p:nvPicPr>
        <p:blipFill>
          <a:blip r:embed="rId2"/>
          <a:stretch/>
        </p:blipFill>
        <p:spPr>
          <a:xfrm>
            <a:off x="5257800" y="1447920"/>
            <a:ext cx="3324240" cy="4647960"/>
          </a:xfrm>
          <a:prstGeom prst="rect">
            <a:avLst/>
          </a:prstGeom>
          <a:ln w="0">
            <a:noFill/>
          </a:ln>
        </p:spPr>
      </p:pic>
      <p:sp>
        <p:nvSpPr>
          <p:cNvPr id="58" name="WordArt 8"/>
          <p:cNvSpPr txBox="1"/>
          <p:nvPr/>
        </p:nvSpPr>
        <p:spPr>
          <a:xfrm>
            <a:off x="304920" y="6248520"/>
            <a:ext cx="4038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R) Richard M. Nix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4876920" y="6248520"/>
            <a:ext cx="40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D) John F. Kenned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Felix Titling"/>
              </a:rPr>
              <a:t>Background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char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 1913 in Yorba Linda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tier College and Duke Law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. Commander in US Navy during WW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ed to House in 1946, Senate 19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ce-President under Ike for 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John Kenn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 in Brookline, Massachusetts in 19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v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. in US Navy; Pt109 Com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ed to House in 1946, Senate 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sh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file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r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7 – wins Pulitzer P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The race for the offic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men were young, military veterans, lawyers, had political experience and similar vi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many historians believe there were (2) important factors that decided the race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both shaking hands"/>
          <p:cNvPicPr/>
          <p:nvPr/>
        </p:nvPicPr>
        <p:blipFill>
          <a:blip r:embed="rId1"/>
          <a:stretch/>
        </p:blipFill>
        <p:spPr>
          <a:xfrm>
            <a:off x="4952880" y="1523880"/>
            <a:ext cx="3676680" cy="276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jfk_next_pres_button"/>
          <p:cNvPicPr/>
          <p:nvPr/>
        </p:nvPicPr>
        <p:blipFill>
          <a:blip r:embed="rId2"/>
          <a:stretch/>
        </p:blipFill>
        <p:spPr>
          <a:xfrm>
            <a:off x="4800600" y="464832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nixon button"/>
          <p:cNvPicPr/>
          <p:nvPr/>
        </p:nvPicPr>
        <p:blipFill>
          <a:blip r:embed="rId3"/>
          <a:stretch/>
        </p:blipFill>
        <p:spPr>
          <a:xfrm>
            <a:off x="6934320" y="4724280"/>
            <a:ext cx="1828800" cy="16732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Televised Deba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televised debates in his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million viewers tuned in, more on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rst debate, the telegenic Kennedy won the image battle over Nixon who, recovering from the flu, appeared pale and refused make-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pre debate photo"/>
          <p:cNvPicPr/>
          <p:nvPr/>
        </p:nvPicPr>
        <p:blipFill>
          <a:blip r:embed="rId2"/>
          <a:stretch/>
        </p:blipFill>
        <p:spPr>
          <a:xfrm>
            <a:off x="6172200" y="1295280"/>
            <a:ext cx="256068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1960 Debate"/>
          <p:cNvPicPr/>
          <p:nvPr/>
        </p:nvPicPr>
        <p:blipFill>
          <a:blip r:embed="rId3"/>
          <a:stretch/>
        </p:blipFill>
        <p:spPr>
          <a:xfrm>
            <a:off x="5105520" y="4267080"/>
            <a:ext cx="3200400" cy="23623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Bookman Old Style"/>
              </a:rPr>
              <a:t>JFK and MLK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Reverend Martin Luther King was arrested in Atlanta, Kennedy called to offer his sympat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garnered Kennedy substantial African-American support in the 1960 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MLK/JFK Poster"/>
          <p:cNvPicPr/>
          <p:nvPr/>
        </p:nvPicPr>
        <p:blipFill>
          <a:blip r:embed="rId1"/>
          <a:stretch/>
        </p:blipFill>
        <p:spPr>
          <a:xfrm>
            <a:off x="5410080" y="1290600"/>
            <a:ext cx="3276720" cy="258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mlkkennedy"/>
          <p:cNvPicPr/>
          <p:nvPr/>
        </p:nvPicPr>
        <p:blipFill>
          <a:blip r:embed="rId2"/>
          <a:stretch/>
        </p:blipFill>
        <p:spPr>
          <a:xfrm>
            <a:off x="5334120" y="4038480"/>
            <a:ext cx="3429000" cy="26607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Franklin Gothic Medium"/>
              </a:rPr>
              <a:t>Election results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electoral"/>
          <p:cNvPicPr/>
          <p:nvPr/>
        </p:nvPicPr>
        <p:blipFill>
          <a:blip r:embed="rId1"/>
          <a:stretch/>
        </p:blipFill>
        <p:spPr>
          <a:xfrm>
            <a:off x="5943600" y="990720"/>
            <a:ext cx="3021120" cy="396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popular"/>
          <p:cNvPicPr/>
          <p:nvPr/>
        </p:nvPicPr>
        <p:blipFill>
          <a:blip r:embed="rId2"/>
          <a:stretch/>
        </p:blipFill>
        <p:spPr>
          <a:xfrm>
            <a:off x="457200" y="1447920"/>
            <a:ext cx="4191120" cy="4160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results"/>
          <p:cNvPicPr/>
          <p:nvPr/>
        </p:nvPicPr>
        <p:blipFill>
          <a:blip r:embed="rId3"/>
          <a:stretch/>
        </p:blipFill>
        <p:spPr>
          <a:xfrm>
            <a:off x="2971800" y="5051520"/>
            <a:ext cx="6172200" cy="18064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Kennedy’s Inaugural Addres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John F. Kennedy delivers his inaugural address at Capitol Hill in Jan. 20, 196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nedy said,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"We shall pay any price, bear any burden, meet any hardship, support any friend, oppose any foe, to assure the survival and success of liberty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Inauguarl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3376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4495680" y="5334120"/>
            <a:ext cx="335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3:42:44Z</dcterms:created>
  <dc:creator>dgreenberg</dc:creator>
  <dc:description/>
  <dc:language>en-US</dc:language>
  <cp:lastModifiedBy>Legion</cp:lastModifiedBy>
  <dcterms:modified xsi:type="dcterms:W3CDTF">2017-07-05T12:41:30Z</dcterms:modified>
  <cp:revision>39</cp:revision>
  <dc:subject/>
  <dc:title>The Presidential Election</dc:title>
</cp:coreProperties>
</file>