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94D0-49BC-4ACC-B636-31ABE86AE98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Quincy Ada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Jack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Cla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Harris Crawf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ohn Quincy Adam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rew Jacks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nry Cla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lliam Harris Crawfor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95A9-1F1D-4838-88AF-E98935B6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CB9-B8BF-4BF2-936A-372C918E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955-D053-434E-9C84-222C038B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43CC-9FF0-4AE3-8F48-69791060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7C42-760A-4F74-945F-0F940414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639D-4503-4F3F-8B8F-A1593803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17F7-8140-4C87-A543-8CA77CEB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C4D3-F101-41A2-9C19-D9A1CBB1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AAF8-B4ED-48AB-8D2F-27F958A6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77EB-F3EA-49E0-A16D-459C64C7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EA02-02A8-4DF4-A673-AF0B46D8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1C8-C9F5-445A-A557-BC057FB2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95A1-16EB-4448-9575-EAF4CE87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BA4F-7E31-4459-B8D5-AF92B01D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15D8-9104-4B38-B23C-12641BD9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AF26-485A-4E39-91DE-FCC4DC39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5F27-540C-4245-B0C1-7497961D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2CBF-EBF7-40EE-AFB6-A8011DA1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DDA-0D1A-4A68-9562-093BC9F6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C5C3-3301-4A24-B9EB-7F90211A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4F11-83B3-4B9C-840B-F956A96D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FF99-E4AA-43B0-AC00-058E4842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FDD-16BB-4DBA-8009-15521D9F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225-7AC6-469B-8817-0480B04A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4D35-1207-42AC-9D35-812E736769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A62B-0ADC-4A75-8166-7DD64371E6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John Quincy Adams"/>
          <p:cNvPicPr/>
          <p:nvPr/>
        </p:nvPicPr>
        <p:blipFill>
          <a:blip r:embed="rId1"/>
          <a:stretch/>
        </p:blipFill>
        <p:spPr>
          <a:xfrm>
            <a:off x="304920" y="22860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215280" y="251352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ohn Quincy Adam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1813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0" descr="Henry Clay"/>
          <p:cNvPicPr/>
          <p:nvPr/>
        </p:nvPicPr>
        <p:blipFill>
          <a:blip r:embed="rId2"/>
          <a:stretch/>
        </p:blipFill>
        <p:spPr>
          <a:xfrm>
            <a:off x="457200" y="3886200"/>
            <a:ext cx="2666880" cy="215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William Harris Crawford"/>
          <p:cNvPicPr/>
          <p:nvPr/>
        </p:nvPicPr>
        <p:blipFill>
          <a:blip r:embed="rId3"/>
          <a:stretch/>
        </p:blipFill>
        <p:spPr>
          <a:xfrm>
            <a:off x="5562720" y="3886200"/>
            <a:ext cx="2590560" cy="2057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Andrew Jackson"/>
          <p:cNvPicPr/>
          <p:nvPr/>
        </p:nvPicPr>
        <p:blipFill>
          <a:blip r:embed="rId4"/>
          <a:stretch/>
        </p:blipFill>
        <p:spPr>
          <a:xfrm>
            <a:off x="5715000" y="304920"/>
            <a:ext cx="2666880" cy="217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5"/>
          <p:cNvSpPr/>
          <p:nvPr/>
        </p:nvSpPr>
        <p:spPr>
          <a:xfrm>
            <a:off x="5905800" y="2589840"/>
            <a:ext cx="26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rew Jacks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1031040" y="6125040"/>
            <a:ext cx="1888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nry Cla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000400" y="61711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lliam Harris Crawfo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133720" y="327672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Election of 182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image4"/>
          <p:cNvPicPr/>
          <p:nvPr/>
        </p:nvPicPr>
        <p:blipFill>
          <a:blip r:embed="rId1"/>
          <a:stretch/>
        </p:blipFill>
        <p:spPr>
          <a:xfrm>
            <a:off x="0" y="1752480"/>
            <a:ext cx="4051440" cy="487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age1"/>
          <p:cNvPicPr/>
          <p:nvPr/>
        </p:nvPicPr>
        <p:blipFill>
          <a:blip r:embed="rId2"/>
          <a:stretch/>
        </p:blipFill>
        <p:spPr>
          <a:xfrm>
            <a:off x="4438800" y="380880"/>
            <a:ext cx="4502160" cy="5334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3049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Election of 18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1824"/>
          <p:cNvPicPr/>
          <p:nvPr/>
        </p:nvPicPr>
        <p:blipFill>
          <a:blip r:embed="rId1"/>
          <a:stretch/>
        </p:blipFill>
        <p:spPr>
          <a:xfrm>
            <a:off x="762120" y="228600"/>
            <a:ext cx="7848360" cy="63374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image2"/>
          <p:cNvPicPr/>
          <p:nvPr/>
        </p:nvPicPr>
        <p:blipFill>
          <a:blip r:embed="rId1"/>
          <a:stretch/>
        </p:blipFill>
        <p:spPr>
          <a:xfrm>
            <a:off x="4495680" y="0"/>
            <a:ext cx="4800600" cy="4422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image5"/>
          <p:cNvPicPr/>
          <p:nvPr/>
        </p:nvPicPr>
        <p:blipFill>
          <a:blip r:embed="rId2"/>
          <a:stretch/>
        </p:blipFill>
        <p:spPr>
          <a:xfrm>
            <a:off x="0" y="1600200"/>
            <a:ext cx="4441680" cy="4952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3049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Election of 182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032-360580_m_07_01"/>
          <p:cNvPicPr/>
          <p:nvPr/>
        </p:nvPicPr>
        <p:blipFill>
          <a:blip r:embed="rId1"/>
          <a:stretch/>
        </p:blipFill>
        <p:spPr>
          <a:xfrm>
            <a:off x="914400" y="210960"/>
            <a:ext cx="7848720" cy="664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3:45:03Z</dcterms:created>
  <dc:creator>dgreenberg</dc:creator>
  <dc:description/>
  <dc:language>en-US</dc:language>
  <cp:lastModifiedBy>Legion</cp:lastModifiedBy>
  <dcterms:modified xsi:type="dcterms:W3CDTF">2017-07-05T12:39:06Z</dcterms:modified>
  <cp:revision>10</cp:revision>
  <dc:subject/>
  <dc:title>Slide 1</dc:title>
</cp:coreProperties>
</file>