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1B1B-537F-4065-B437-140A0297196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derdog Prevails in Indian Tales &amp; Leg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dog Prevails in Indian Tales &amp; Leg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Star Boy. New York: Bradbury Pres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Star Boy. New York: Bradbury Pres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ssel, K. Joyce. Squanto and the First Thanksgiving. Minnesota: Carolrhoda Book,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ssel, K. Joyce. Squanto and the First Thanksgiving. Minnesota: Carolrhoda Book,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lausner, Janet. Sequoyah’s Gift. New York: Harper Collins, 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lausner, Janet. Sequoyah’s Gift. New York: Harper Collins, 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Rafe.  The Rough-Face Girl. New York: G.P.Putnam’s Sons,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Rafe.  The Rough-Face Girl. New York: G.P.Putnam’s Sons,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 and Description of Proj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and Description of Proje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desirable  are now the desirable and all  benefit because of the choices they made.  The Underdog Preva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desirable  are now the desirable and all  benefit because of the choices they made.  The Underdog Preva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 Story Collection</a:t>
            </a:r>
            <a:br>
              <a:rPr sz="1200"/>
            </a:br>
            <a:r>
              <a:rPr b="0" lang="en-US" sz="1200" spc="-1" strike="noStrike">
                <a:solidFill>
                  <a:srgbClr val="000000"/>
                </a:solidFill>
                <a:latin typeface="Calibri"/>
              </a:rPr>
              <a:t>Click to see Bibliographic Citation and Synop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see Story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 Story Collection</a:t>
            </a:r>
            <a:br>
              <a:rPr sz="1200"/>
            </a:br>
            <a:r>
              <a:rPr b="0" lang="en-US" sz="1200" spc="-1" strike="noStrike">
                <a:solidFill>
                  <a:srgbClr val="000000"/>
                </a:solidFill>
                <a:latin typeface="Times New Roman"/>
              </a:rPr>
              <a:t>Click to see Bibliographic Citation and Synop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see Story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ley, A. David. A Picture Book of Sacajawea. New York: Holiday House, 2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ited States gives much credit to Sacajawea’s service and the success of the expedition of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ey, A. David. A Picture Book of Sacajawea. New York: Holiday House,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ted States gives much credit to Sacajawea’s service and the success of the expedition of Lewis and Cl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mbault, John and Bill Martin Jr. Knots on a Counting Rope. New York: Henry Holt and Company,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mbault, John and Bill Martin Jr. Knots on a Counting Rope. New York: Henry Holt and Company, 198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lognese, Don and Elaine Raphael. Pocahontas, Princess of the River Tribes. New York: Scholastic Inc.,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ognese, Don and Elaine Raphael. Pocahontas, Princess of the River Tribes. New York: Scholastic Inc.,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Bluebonnet. New York: G.P. Putnam’s Son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Bluebonnet. New York: G.P. Putnam’s Son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Indian Paintbrush. New York: G.P. Putnam’s Sons.198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Indian Paintbrush. New York: G.P. Putnam’s Sons.19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The Girl Who Loved Wild Horses. New York: Bradbury Press, 19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The Girl Who Loved Wild Horses. New York: Bradbury Press, 197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DC6B4-F7A2-4461-8E90-8187F4E21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A5DA4-6105-4AF1-A41C-78D83F02C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2624E5-DA58-46B3-AB32-78E7664579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D3A84C-9590-4CA3-9D3D-B92DACB533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635921-3763-4AEA-8560-13B44B471A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492D60-516D-4B45-8720-F53461E993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9E220E-97D8-4822-A310-9E6AE24C83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16D697-0612-439F-A506-0BD7E00ABF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811AAD-ED49-4C6D-9D0B-F84FD9416F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CF1C63-DA0D-491E-92F3-E70D2525C9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D67950-E2E5-4833-89A9-238935018D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0899933-A1B3-458A-B2AE-CD4E3AA637A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459B4-FF08-4B48-B19F-C1FD6BCB3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09186E-405A-4D03-A904-96B6D316EE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944848-3922-4DB2-A66E-D1A241A2BE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751DF5-455F-4C90-8835-C6BC07D6C7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931FD0-0B64-414F-A175-9D0B4B4D627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320628-51D0-419F-8F63-ED252E8261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ECB3BD-A49E-4113-9AAC-720F8139A9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46439B-5235-498E-922F-FED724DC74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EB6899-236B-488A-831F-F5F62B89BD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10181A-45A8-4CC7-924F-D9362D289B2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55FD2DF-9596-4756-A8F3-6BDDAB806E4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4BDD8-2D63-406E-A504-F07A49FC1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5AAA4AC-921D-4CFC-80F3-2FE4C7B802B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7983D71-116B-487A-9F71-56BB716EB36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189C54-3E49-4B55-8816-FB0E24894F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08E93C-1942-40F3-BA45-566233D34A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552B5C-8510-4C2A-BCB7-9CFB846717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395D22-FB7D-400C-A64C-CA6DAC438B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BEF19A-BEB0-4A3F-9D50-6E73BFA289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606AE9-8D20-401C-AAB1-A82C5EF4F8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8EECCD-26DE-4540-B728-2D50519304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EBA1F3-6EAB-40A0-8501-E4AACE7B27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FC1D1-E4E7-4858-A73E-04C35714AF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67200A-D8B5-430E-BFFD-10E8502A40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60662DA-1130-4061-B333-A2A55D80638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7D3515-D37B-4C3A-9F46-ED681D4D554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187F54E-B2F7-4795-82B9-44A1AD73DE5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965B850-7835-4556-8BDC-43C95DA5D1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73CA57-6385-45A0-B8B8-6D60E2E04F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B2C18C8-5133-40D5-8654-F1F71D2968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864D9A-AA21-45BA-8B8E-BDBBD01FC7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7EA976-10D0-411C-BAF9-32A89BE6428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7BB0C5-82ED-4C52-88B1-05C36A7C5A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0C040-CE2B-4A6A-8AF8-9D52548BE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DA1FEC-E140-4797-B523-5D751D502E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BAC565-D86A-455B-9E85-318EEB1A93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84B4D1B-501A-4A76-AC7A-8DD9A4E515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5DA78EF-CDF0-47EF-A3A2-43784657D37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9682B5D-95DD-4D28-A958-06C4A78665D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57DE24B-A534-4B63-BF7B-374837A5E1D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249FAA4-A5C3-488E-B06C-971C4E1CEFC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D6144F1-444B-44AB-A7E6-CBD03B02B91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DEDC94D-A4D4-4942-86DC-0E23C144F3F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FB8F625-C556-46A9-92C9-C5639EB3E1D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7C2E0-9727-4422-A5F5-5930D1297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BB3EABE-1154-4B99-A01F-9E77FB106B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632B3A-746C-4688-95A3-A491AA6E46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D8E3FE-1EF0-4D91-A776-78834C19AA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29A17BB-3D57-4736-8AB1-C6F2BE7273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F4E6F54-DBC0-4829-8383-49B2EB2ABC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431AE21-4845-4EFD-BBA0-7C422E0EB2D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3721E55-24AD-442F-A4CD-1ADBE4BBAA2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DAA4670-9224-4110-95C2-400D844D7E6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F036109-27BA-456C-BB0B-AA7DDDFCA56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9951EA3-229F-4976-814D-29637D6227C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F13B6-8D15-445A-8168-3865359A5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7F4A4FC-44CA-498E-A62E-E5BC82C41FE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040D706-B55D-45C4-ADE5-B034F58D036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8D68DAE-4963-4E06-877C-1D0A16907AC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FB8142-6F64-43F4-A89E-599268B8B5B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C02270A-2CA0-4A20-853E-2BD312A528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0AECA24-619E-4534-9EBE-F8D599D292F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A65FCE2-F5BE-460C-AF63-672E3798128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A1095BD-6964-4020-97F9-98D2A968623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51B4A8E-583A-4E06-AAA6-BAFD925E7B5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65F29-326B-4402-B531-2716FED69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E706C-A109-4998-B888-33181BE3E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3CFE6-C1DB-483B-AB9D-D5FC29A76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83A4D-C074-4254-B7EB-C3A4E10BD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F34CD-40D4-4D3D-9739-82A82CF82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6016D-7D9A-4C20-BE9A-BC7703DB8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9ABDD-5951-47A3-B602-5EDDB4735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A1655D-94EF-44B6-B245-9AD73654F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B3CD05-0F42-476D-8BDC-E70727905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2679F7-EF78-4C3C-BC49-D152F0871F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A4292A-379D-45B0-BBEF-459D3CC042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9D09E2-556B-4C0D-B776-6C8CEA08A1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535C45-AD4C-437A-BD07-01D248F2FA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43C4B2-3910-4226-BACC-D99D929738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3F27D-1329-4A56-833A-641402374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70907B-443A-4AB1-8596-8970419C68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FA7E92-0BB7-4BD5-A27B-F8A2E5D9E5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B83BB4-160E-413A-ADD6-764B1E49B0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67C8D8-8692-4272-8F87-AA44C56C66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F23C71-DC7D-4ECE-8875-E36A28C13C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ABD293-51FB-4FBC-95D7-D340642299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99CF65-E060-4276-B6A3-7D811EA98E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23DDD9-CD8B-4F77-917D-89F9441F54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A97B62-6098-49E7-A178-7F5DE8F1FA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890153-CC62-4C6D-99F5-C8527526FF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C037E-3C03-4AFA-9440-754193C7A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A8306E-CB76-45AF-B765-D12A1686D7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FFA07C-D191-4A41-950C-E69EC35338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2E9EC8-740E-4C3E-A642-ABEE9572DE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080C63-10FF-48FD-B0CF-B1BA044FA1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146654-477B-4526-8877-9E4D38D8C0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8677E2-AE9B-4F12-9A8D-BABB5D5948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060F99-4659-4056-86C0-2970A41C83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A266F8-6104-4777-A12E-EFAFFBF9EA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08B561-2011-4974-BE7C-F84B135FA5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39DBE3-6B71-4A34-BA3F-EFFB314C38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1B719-28AC-44D9-9E46-5092CBFEF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830B69-8512-4F88-A225-13CF9A82B9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ED261C-F216-4E25-8F4E-7481837B83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41CFFF-1BA0-41B6-9259-B22DF27E90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3B7442-7DA9-4825-B71C-C0F7341D51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0613EB-3983-406E-8CA2-8801CCF5AE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B6900A-7970-401C-8C2E-F82CB10606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4F125C-53F0-4279-8969-742F8C09D8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8BAF80-0F2B-457F-AA0C-F12DB61AD2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446CEF-000A-4CF5-9ECA-DD0DA53F6B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2F93AD-6B81-443B-A50E-8E8ED670B6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86FB6-AC3F-4D65-8DFD-131C132BA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24B822-3EB5-43C3-96EC-538D6FBA40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6E319C-5149-414C-8463-7C7F78E103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03ED91-DD03-4E70-81D1-07ADF73F8D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DD4526-8478-4EBA-8894-275FE39E67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61E714-59FE-42EA-8AA6-EB5C737A7C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1CD942-4864-4F92-AD95-5B9C49A5FE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737826-D7C3-4240-9A26-B79D1F8485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F7F22A-8D9D-421B-B23E-97BB026083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4471DE-0340-4725-B4EA-A3F613A7C3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AF17A4-66CF-4E49-BE61-D448E51730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55ECB-7432-466D-BC56-C0FC2DC80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ABC428-D55D-4FD3-BEAA-455BBB9D63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30B7AC-87C6-4F88-85BA-7DB32E893F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B23EF3-BBD2-40F2-ACA2-7537052B9F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DFACB3-2E0D-458D-B3E3-80599C96BB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227E7C-DCEF-4246-A8AB-D4C61B9167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EE0224-C29D-4813-B4EA-37171D1A81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DDFB58-6F53-4258-B726-B9768707E7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683DA5-7AFD-41D2-9C12-7AF3B49532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A2F453-FC54-47B6-8E95-81291A0E3A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8A5C94-88A4-4CA7-9D95-0596A937FD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11E1B-4595-4526-AB99-319FBC045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86CC83-AB6C-4EF5-BBB3-217852EC52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014954-6520-4CDE-BAC4-A0F788D4A9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694C4E-A915-4020-9E88-B4199A0389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B2B254-1FF5-401B-A190-8C4594378B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97B29D-3837-4E5B-A36C-3830B8DDC0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FEA57C-720C-46AC-882D-A5A67B6C2E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AE8664-ABF1-4FCE-9A03-A745EFDA68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4E2A51-3F4C-404A-97AC-6138AD1634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BABB3D-3414-46A1-8293-C58435C05F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11235B-513C-45C4-94ED-3BB2F3EA87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C0068-1514-4CAC-A56F-4E7B75F25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B5205D-91D4-42E1-9D9A-65250D79C9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47D8F4-A27C-470E-B3C6-2F980EF3CB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965509-1B9C-4BE5-98EC-739DC86741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76FE44-B434-4B34-8F25-467978A50A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479220-E5DB-4DAC-BC04-9FB9627BA8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AD4447-6CD2-48DC-994E-4B146D9CF8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A7EAE9-D276-42AB-9730-E39CCB49CA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EAA4C8-FAD7-4052-87DD-B239618B1D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0F7E96-5AC5-4680-8280-F55BEE6A4D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D231AD-8845-494C-8C05-59F3B1662FC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A406-61D5-45F0-8B66-69E5A65A2B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765BE-0800-419E-B8A8-C5E40146FD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9CC8D-254D-4788-91C2-AF4B24D25F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828AA-C55E-4183-9882-66F3978DB1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06E1A-D550-476F-A297-D1BE369892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9CD5-5EA2-4F24-8610-45F2A96C3F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F22E-E7EF-448A-A52F-D1D5EB6682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A2BFA-9BB8-4382-A3F1-BC965C52E1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C4920-2FA8-46DF-929C-E752BB757A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2F7E-3A7E-46AD-AD15-2FF6B77845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98B24-AD96-4851-A2D5-0569431998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33BF2-DA30-4038-ACB0-7960E24F7F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4062-F7EC-4624-BF62-9253CBCBA3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A7220-3138-4EB3-BDFA-DDAF8BEE0A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7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49.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4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6" descr="C:\WINDOWS\Desktop\storytelling\indian.gif"/>
          <p:cNvPicPr/>
          <p:nvPr/>
        </p:nvPicPr>
        <p:blipFill>
          <a:blip r:embed="rId1"/>
          <a:stretch/>
        </p:blipFill>
        <p:spPr>
          <a:xfrm>
            <a:off x="1828800" y="0"/>
            <a:ext cx="4241880" cy="3459240"/>
          </a:xfrm>
          <a:prstGeom prst="rect">
            <a:avLst/>
          </a:prstGeom>
          <a:ln w="0">
            <a:noFill/>
          </a:ln>
        </p:spPr>
      </p:pic>
      <p:sp>
        <p:nvSpPr>
          <p:cNvPr id="58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583" name="Місце для нижнього колонтитула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62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627" name="Picture 6" descr=""/>
          <p:cNvPicPr/>
          <p:nvPr/>
        </p:nvPicPr>
        <p:blipFill>
          <a:blip r:embed="rId1"/>
          <a:stretch/>
        </p:blipFill>
        <p:spPr>
          <a:xfrm>
            <a:off x="762120" y="1981080"/>
            <a:ext cx="2946240" cy="3017880"/>
          </a:xfrm>
          <a:prstGeom prst="rect">
            <a:avLst/>
          </a:prstGeom>
          <a:ln w="0">
            <a:noFill/>
          </a:ln>
        </p:spPr>
      </p:pic>
      <p:sp>
        <p:nvSpPr>
          <p:cNvPr id="62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63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63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63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63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63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63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64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642" name="Picture 6" descr=""/>
          <p:cNvPicPr/>
          <p:nvPr/>
        </p:nvPicPr>
        <p:blipFill>
          <a:blip r:embed="rId1"/>
          <a:stretch/>
        </p:blipFill>
        <p:spPr>
          <a:xfrm>
            <a:off x="914400" y="1905120"/>
            <a:ext cx="2706840" cy="3581280"/>
          </a:xfrm>
          <a:prstGeom prst="rect">
            <a:avLst/>
          </a:prstGeom>
          <a:ln w="0">
            <a:noFill/>
          </a:ln>
        </p:spPr>
      </p:pic>
      <p:sp>
        <p:nvSpPr>
          <p:cNvPr id="64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64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64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6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651"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5"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66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66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66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66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58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8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67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67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673"/>
                                        </p:tgtEl>
                                        <p:attrNameLst>
                                          <p:attrName>style.visibility</p:attrName>
                                        </p:attrNameLst>
                                      </p:cBhvr>
                                      <p:to>
                                        <p:strVal val="visible"/>
                                      </p:to>
                                    </p:set>
                                    <p:anim calcmode="lin" valueType="num">
                                      <p:cBhvr additive="repl">
                                        <p:cTn id="7" dur="5000" fill="hold"/>
                                        <p:tgtEl>
                                          <p:spTgt spid="67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6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67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67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
          <p:cNvGraphicFramePr/>
          <p:nvPr/>
        </p:nvGraphicFramePr>
        <p:xfrm>
          <a:off x="1295280" y="2133720"/>
          <a:ext cx="5791320" cy="4694040"/>
        </p:xfrm>
        <a:graphic>
          <a:graphicData uri="http://schemas.openxmlformats.org/drawingml/2006/table">
            <a:tbl>
              <a:tblPr/>
              <a:tblGrid>
                <a:gridCol w="2932200"/>
                <a:gridCol w="2859120"/>
              </a:tblGrid>
              <a:tr h="4745880">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9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9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9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9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9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0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02" name="Picture 7" descr=""/>
          <p:cNvPicPr/>
          <p:nvPr/>
        </p:nvPicPr>
        <p:blipFill>
          <a:blip r:embed="rId1"/>
          <a:stretch/>
        </p:blipFill>
        <p:spPr>
          <a:xfrm>
            <a:off x="380880" y="1981080"/>
            <a:ext cx="3810240" cy="3040200"/>
          </a:xfrm>
          <a:prstGeom prst="rect">
            <a:avLst/>
          </a:prstGeom>
          <a:ln w="0">
            <a:noFill/>
          </a:ln>
        </p:spPr>
      </p:pic>
      <p:sp>
        <p:nvSpPr>
          <p:cNvPr id="60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0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0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0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61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612" name="Picture 6" descr=""/>
          <p:cNvPicPr/>
          <p:nvPr/>
        </p:nvPicPr>
        <p:blipFill>
          <a:blip r:embed="rId1"/>
          <a:stretch/>
        </p:blipFill>
        <p:spPr>
          <a:xfrm>
            <a:off x="990720" y="1981080"/>
            <a:ext cx="2714400" cy="3429000"/>
          </a:xfrm>
          <a:prstGeom prst="rect">
            <a:avLst/>
          </a:prstGeom>
          <a:ln w="0">
            <a:noFill/>
          </a:ln>
        </p:spPr>
      </p:pic>
      <p:sp>
        <p:nvSpPr>
          <p:cNvPr id="61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61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617" name="Picture 7" descr=""/>
          <p:cNvPicPr/>
          <p:nvPr/>
        </p:nvPicPr>
        <p:blipFill>
          <a:blip r:embed="rId1"/>
          <a:stretch/>
        </p:blipFill>
        <p:spPr>
          <a:xfrm>
            <a:off x="838080" y="2133720"/>
            <a:ext cx="2533680" cy="3200400"/>
          </a:xfrm>
          <a:prstGeom prst="rect">
            <a:avLst/>
          </a:prstGeom>
          <a:ln w="0">
            <a:noFill/>
          </a:ln>
        </p:spPr>
      </p:pic>
      <p:sp>
        <p:nvSpPr>
          <p:cNvPr id="61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62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622" name="Picture 6" descr=""/>
          <p:cNvPicPr/>
          <p:nvPr/>
        </p:nvPicPr>
        <p:blipFill>
          <a:blip r:embed="rId1"/>
          <a:stretch/>
        </p:blipFill>
        <p:spPr>
          <a:xfrm>
            <a:off x="533520" y="1905120"/>
            <a:ext cx="2901960" cy="3657600"/>
          </a:xfrm>
          <a:prstGeom prst="rect">
            <a:avLst/>
          </a:prstGeom>
          <a:ln w="0">
            <a:noFill/>
          </a:ln>
        </p:spPr>
      </p:pic>
      <p:sp>
        <p:nvSpPr>
          <p:cNvPr id="62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5T12:28:34Z</dcterms:modified>
  <cp:revision>43</cp:revision>
  <dc:subject/>
  <dc:title>PowerPoint Presentation</dc:title>
</cp:coreProperties>
</file>