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576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0920" y="684360"/>
            <a:ext cx="4556160" cy="3417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59800"/>
            <a:ext cx="2971800" cy="45576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59800"/>
            <a:ext cx="2971800" cy="45576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EA32-8BC3-4DC0-88EF-2F31AC5B21B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0920" y="684360"/>
            <a:ext cx="4556160" cy="3417840"/>
          </a:xfrm>
          <a:prstGeom prst="rect">
            <a:avLst/>
          </a:prstGeom>
          <a:ln w="0">
            <a:noFill/>
          </a:ln>
        </p:spPr>
      </p:sp>
      <p:sp>
        <p:nvSpPr>
          <p:cNvPr id="16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Indians – Traditions, Customs, Spirit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OF 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 M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mp;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 – Traditions, Customs, Spiritua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BLE OF CONT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Mor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mp;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616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tors – Traditionally, an elder would hear both sides to a story and mediate to solve the confl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iplinarians – Grown children often lived with parents in an extended family situation.  The grandparents would discipline the children, not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 Grandparents were admired for their knowledge and wisdom which they often conveyed through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s – Because of their knowledge and wisdom, elders often make decisions effecting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ators – Traditionally, an elder would hear both sides to a story and mediate to solve the confli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iplinarians – Grown children often lived with parents in an extended family situation.  The grandparents would discipline the children, not the par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s – Grandparents were admired for their knowledge and wisdom which they often conveyed through stor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 – Because of their knowledge and wisdom, elders often make decisions effecting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0920" y="684360"/>
            <a:ext cx="4556160" cy="3417840"/>
          </a:xfrm>
          <a:prstGeom prst="rect">
            <a:avLst/>
          </a:prstGeom>
          <a:ln w="0">
            <a:noFill/>
          </a:ln>
        </p:spPr>
      </p:sp>
      <p:sp>
        <p:nvSpPr>
          <p:cNvPr id="1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lder re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Elder rela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616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being healthy and a whole person were essential to living a good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ribes visualized health as a medicine wheel with four parts – spiritual, mental, physical, &amp;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be healthy, all aspects of the medicine wheel had to be in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ncept is that man is three-fold – mind, body,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is harmony in body, mind, &amp;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or unwellness) was (and is) often a cho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ly being healthy and a whole person were essential to living a good li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ribes visualized health as a medicine wheel with four parts – spiritual, mental, physical, &amp; emotion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 healthy, all aspects of the medicine wheel had to be in bala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pt is that man is three-fold – mind, body,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is harmony in body, mind, &amp;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or unwellness) was (and is) often a cho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0920" y="684360"/>
            <a:ext cx="4556160" cy="3417840"/>
          </a:xfrm>
          <a:prstGeom prst="rect">
            <a:avLst/>
          </a:prstGeom>
          <a:ln w="0">
            <a:noFill/>
          </a:ln>
        </p:spPr>
      </p:sp>
      <p:sp>
        <p:nvSpPr>
          <p:cNvPr id="1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al disability is irrelevant to a person’s state of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sical disability is irrelevant to a person’s state of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deal with a physical disability is not something an Indian would think about.  Instead, an Indian would probably look at how to enhance an individual’s ability to fulfill his or her role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616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l responsible for our state of wellness; with the way we promote harmony between ourselves and the people we m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responsible for our state of wellness; with the way we promote harmony between ourselves and the people we mee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0920" y="684360"/>
            <a:ext cx="4556160" cy="3417840"/>
          </a:xfrm>
          <a:prstGeom prst="rect">
            <a:avLst/>
          </a:prstGeom>
          <a:ln w="0">
            <a:noFill/>
          </a:ln>
        </p:spPr>
      </p:sp>
      <p:sp>
        <p:nvSpPr>
          <p:cNvPr id="20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and the Disabled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ate of harmony is like a protective shield keeping us from dangers inherent in negative or disharmonious sit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Indian belief, it is each person’s responsibility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eep this protective shield strong and beautiful, not on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his own well-being, but for the well-being of th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cust, 1985, p.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for ways to help disabled people on a reservation ask, “What can we do to help our people fulfill their roles within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and the Disabled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 of harmony is like a protective shield keeping us from dangers inherent in negative or disharmonious situ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Indian belief, it is each person’s responsibility t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ep this protective shield strong and beautiful, not onl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his own well-being, but for the well-being of th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cust, 1985, p. 17)</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for ways to help disabled people on a reservation ask, “What can we do to help our people fulfill their roles within the commun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616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Le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red about people, not just family, but the whole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spected the people around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rved the people.  The leaders often would not eat until everyone else in the tribe had e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honest.  They did not l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courageous.  They dared to do what needed to be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not afraid to face reality and defin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Lea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red about people, not just family, but the whole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spected the people around the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rved the people.  The leaders often would not eat until everyone else in the tribe had ea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honest.  They did not li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courageous.  They dared to do what needed to be d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not afraid to face reality and define proble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0920" y="684360"/>
            <a:ext cx="4556160" cy="3417840"/>
          </a:xfrm>
          <a:prstGeom prst="rect">
            <a:avLst/>
          </a:prstGeom>
          <a:ln w="0">
            <a:noFill/>
          </a:ln>
        </p:spPr>
      </p:sp>
      <p:sp>
        <p:nvSpPr>
          <p:cNvPr id="21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ummarizes some of the ideals, beliefs, and values of traditional Indian ways (ways before the Europeans colonized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need to hold on to if we wish to remain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build upon if we wish to grow as Indian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values we must spread to our non-Indian brothers and sisters if America is going to grow as a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summarizes some of the ideals, beliefs, and values of traditional Indian ways (ways before the Europeans colonized Americ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need to hold on to if we wish to remain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build upon if we wish to grow as Indian peo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values we must spread to our non-Indian brothers and sisters if America is going to grow as a coun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50920" y="684360"/>
            <a:ext cx="4556160" cy="3417840"/>
          </a:xfrm>
          <a:prstGeom prst="rect">
            <a:avLst/>
          </a:prstGeom>
          <a:ln w="0">
            <a:noFill/>
          </a:ln>
        </p:spPr>
      </p:sp>
      <p:sp>
        <p:nvSpPr>
          <p:cNvPr id="21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Methods &amp;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references used to prepare this presentation consisted of a research project (Becker, Poupart, &amp; Martinez, 20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project was to reflect on traditional American Indian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hieve this objective, several elders were intervi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ders represented Ojibwe, Lakota, Dakota, and Ho-Chunk n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men and women, born during World War II, particip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chose to remain 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ote from one of these elders is used in this presentation, the quote will be marked “Anonymous.”</a:t>
            </a:r>
            <a:r>
              <a:rPr b="0" lang="en-US" sz="1200" spc="-1" strike="noStrike">
                <a:solidFill>
                  <a:srgbClr val="000000"/>
                </a:solidFill>
                <a:latin typeface="Calibri"/>
              </a:rPr>
              <a:t>	</a:t>
            </a:r>
            <a:r>
              <a:rPr b="0" lang="en-US" sz="1200" spc="-1" strike="noStrike">
                <a:solidFill>
                  <a:srgbClr val="000000"/>
                </a:solidFill>
                <a:latin typeface="Calibri"/>
              </a:rPr>
              <a:t>     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of Methods &amp; Sour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ferences used to prepare this presentation consisted of a research project (Becker, Poupart, &amp; Martinez, 2002).</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project was to reflect on traditional American Indian way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this objective, several elders were interview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ers represented Ojibwe, Lakota, Dakota, and Ho-Chunk nation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men and women, born during World War II, particip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chose to remain 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quote from one of these elders is used in this presentation, the quote will be marked “Anonymous.”</a:t>
            </a:r>
            <a:r>
              <a:rPr b="0" lang="en-US" sz="1200" spc="-1" strike="noStrike">
                <a:solidFill>
                  <a:srgbClr val="000000"/>
                </a:solidFill>
                <a:latin typeface="Times New Roman"/>
              </a:rPr>
              <a:t>	</a:t>
            </a:r>
            <a:r>
              <a:rPr b="0" lang="en-US" sz="1200" spc="-1" strike="noStrike">
                <a:solidFill>
                  <a:srgbClr val="000000"/>
                </a:solidFill>
                <a:latin typeface="Times New Roman"/>
              </a:rPr>
              <a:t>     Thank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50920" y="684360"/>
            <a:ext cx="4556160" cy="3417840"/>
          </a:xfrm>
          <a:prstGeom prst="rect">
            <a:avLst/>
          </a:prstGeom>
          <a:ln w="0">
            <a:noFill/>
          </a:ln>
        </p:spPr>
      </p:sp>
      <p:sp>
        <p:nvSpPr>
          <p:cNvPr id="21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ker, T., Poupart, J., &amp; Martinez, C.  (2002).  Reflections on Traditional American Indian Ways.  St. Paul, MN: American Indian Policy Center.  Retrieved February 27, 2007 from American Indian Policy Center Web site, http://www.airpi.org/research/reflect.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y, J. A.  (1992).  Native American Independent Living.  Rural Special Educatin Quarterly, 11(1), 41-50.  Retrieved March 14, 2007 from http://rtc.ruralinstitute.umt.edu/Indian/NativeIL.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616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life is centered on the four seasons and the natur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spirituality is not a ‘religion’ so much as it is an integral seamless part of the very being of Indi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pirituality and beliefs are sacred.  To use them in any way other than the way they were intended would be sacrileg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to live in the traditional ways is not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nym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life is centered on the four seasons and the natur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spirituality is not a ‘religion’ so much as it is an integral seamless part of the very being of Indian socie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spirituality and beliefs are sacred.  To use them in any way other than the way they were intended would be sacrileg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to live in the traditional ways is not eas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thing he’s [The Great Spirit has] given you, you have to walk through, you have to experience it.  You can’t always walk in the grass, sometimes you have to walk through the sagebrus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ny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50920" y="684360"/>
            <a:ext cx="4556160" cy="3417840"/>
          </a:xfrm>
          <a:prstGeom prst="rect">
            <a:avLst/>
          </a:prstGeom>
          <a:ln w="0">
            <a:noFill/>
          </a:ln>
        </p:spPr>
      </p:sp>
      <p:sp>
        <p:nvSpPr>
          <p:cNvPr id="22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son, R. &amp; Fassinger, P.  (2007, January).  A Focus on American Indian Children.  Inform 5(1).  Retrieved March 14, 2007 from North Dakota Kids Count Web site at:  http://www.ndkidscount.org/publications/inform/5_1Inform.pdf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nnetta, J.  (2002, June).  The Plains Indians – Family Life, The Children, Duties.  Retrieved March 31, 2007 from SaskSchools.ca website:  http://www.saskschools.ca/~gregory/firstnations/family.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0920" y="684360"/>
            <a:ext cx="4556160" cy="3417840"/>
          </a:xfrm>
          <a:prstGeom prst="rect">
            <a:avLst/>
          </a:prstGeom>
          <a:ln w="0">
            <a:noFill/>
          </a:ln>
        </p:spPr>
      </p:sp>
      <p:sp>
        <p:nvSpPr>
          <p:cNvPr id="22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s, T. E.  (1998).  Dog Soldier Societies of the Plains.  New York, NY: Marlowe &amp; Company, Chapte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riam-Webster’s Collegiate Dictionary, Tenth Edition (Electronic Version).  (1995).  Dallas, TX: Zane Publishing, Inc. in cooperation with Merriam-Webster, In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ls, T. E.  (1998).  Dog Soldier Societies of the Plains.  New York, NY: Marlowe &amp; Company, Chapter 1.</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am-Webster’s Collegiate Dictionary, Tenth Edition (Electronic Version).  (1995).  Dallas, TX: Zane Publishing, Inc. in cooperation with Merriam-Webster, In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50920" y="684360"/>
            <a:ext cx="4556160" cy="3417840"/>
          </a:xfrm>
          <a:prstGeom prst="rect">
            <a:avLst/>
          </a:prstGeom>
          <a:ln w="0">
            <a:noFill/>
          </a:ln>
        </p:spPr>
      </p:sp>
      <p:sp>
        <p:nvSpPr>
          <p:cNvPr id="22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 (Continu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inson, B. A.  (2006, December 19).  Native American Spirituality.  Retrieved January 31, 2007 from RELIGIOUS TOLERANCE.ORG, Ontario Consultants on Religious Tolerance, Web site:  http://www.religioustolerance.org/nataspir.ht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s, R.  (2003, November 20).  Pride in Indian Culture, Heritage Resurging, Says Old Elk.  Retrieved January 31, 2007 from United States Department of Defense, American Forces Information Service, News Articles, Web site:  http://www.defenselink.mil/ news/Nov2003/n11202003_200311203.htm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616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fs Common to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Supreme Being, a Creator, a Great Spirit, G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the Great Spirit has created is g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lesser spirits wander the earth, some control weather, some interact with humans, some inhabit the under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as well as humans, are part of a spirit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irit world exists side-by-side with the physical world and often intermingles with this physical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you were conceived, before you were born, you had a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 body dies, your spirit will li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Mother Earth, and Mother Earth will take care of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fs Common to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upreme Being, a Creator, a Great Spirit, G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the Great Spirit has created is g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esser spirits wander the earth, some control weather, some interact with humans, some inhabit the under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nd animals, as well as humans, are part of a spirit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irit world exists side-by-side with the physical world and often intermingles with this physical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you were conceived, before you were born, you had a spir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body dies, your spirit will liv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Mother Earth, and Mother Earth will take care of you.</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616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urag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ead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Lo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titud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os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spons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nes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Rev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on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s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du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ag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eadershi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ov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titu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osi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sponsibili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nest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veren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no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sd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616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ing Ceremony – To give person a n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 Listening – Method of tea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on Quest – Passage from boyhood to man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Wow – Place to socialize with other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l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n Dance – a replay of cre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weat Lodge – for spiritual renewal and hea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Medicine Lodge – Good place to learn tra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ing Ceremonies – to appease spirits of animals k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Ceremony – To give person a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telling / Listening – Method of teach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 Quest – Passage from boyhood to manh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Wow – Place to socialize with other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l Celebr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n Dance – a replay of cre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weat Lodge – for spiritual renewal and heal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d Medicine Lodge – Good place to learn tradi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ing Ceremonies – to appease spirits of animals kill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616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of Most Plains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ily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cred Path – Day began with man walking reverently along a sacred path, among all living things on earth and under the supernatural powers dwelling in hea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tuals of Most Plains Trib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ily Practic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ellings – oriented with the doorway on the east so a person awakened to the rising sun.  The understanding was the Creator was sending daylight, warmth, growth and enlightenment to each person to begin a new da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ning Prayers – After awakening, the individual would pray, thanking the Creator for blessings and new opportunities.  A confession of responsibility was made to other people.  Sacrifices were gi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red Path – Day began with man walking reverently along a sacred path, among all living things on earth and under the supernatural powers dwelling in 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616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ek Knowledge from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o be Quiet and Lis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by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ect the E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arn, through play, by practicing what they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ek Knowledge from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o be Quiet and List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by Examp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ect the Eld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arn, through play, by practicing what they se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616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ors (Warriors) – Keep tribe sa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ers – Provided for t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ed 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items for Rituals/Cerem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 olde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ors (Warriors) – Keep tribe saf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ters – Provided for trib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ed 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items for Rituals/Ceremon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 older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616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Roles –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gar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camp or take down cam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care of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nded down through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Roles –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f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gar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camp or take down camp</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care of young child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ties handed down through wo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50C8B-62A7-49AC-AF9C-5B0346BE2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323AF-5A32-4109-BC25-13DC5AE6A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16F3D-BDAA-4B4B-A89C-70C7C74C8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6E7D4-BFA4-46C3-A4A1-FECE44063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8F221-CBB9-4E20-83DD-3FEC9EC6C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E648D-CCD7-41C5-A18B-5506A3A43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CA3F6-2885-4E62-AE80-85E75188B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E6F98-74F3-48F2-9266-792AA1391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8C80B-B8BC-499A-B18F-F93FA0E09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0E424-A686-4F23-BE30-CB0CD92C7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97032-5226-4181-8D70-D06625322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8E4F3-0DED-4151-B504-2FA3F88CC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53811-BFA6-40D3-A6B2-AE9238A64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5EDF2-6114-4871-B975-9F6252A28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074B8-5274-4FC1-89CB-890070E4A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C37D3-87CA-4623-907F-062EB2F4A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9AD38-29DF-4BF5-A54F-8FE3FD939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2820A-4AE7-4021-8F30-D6D1E5A13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65B71-47A5-4E0F-B4FC-1293B17A1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46C6E-AC69-4D1E-AAA4-BC1129C06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37A11-637A-40FB-98FF-D7CCA54D9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FA32-AA3D-45C8-BF04-96C293214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EFB0-BC7A-473F-9DBF-85E093925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4668E-50C6-4930-B7B0-16D2FF2D7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4086-8619-4D89-A3D7-7E1150BC6EA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4BDE-683D-4670-B916-CA7356CCB2D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143000" y="304920"/>
            <a:ext cx="7696080" cy="1066680"/>
          </a:xfrm>
          <a:prstGeom prst="rect">
            <a:avLst/>
          </a:prstGeom>
          <a:solidFill>
            <a:srgbClr val="dfd6c3">
              <a:alpha val="50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Plains Indians – Traditions, Customs, Spirituality</a:t>
            </a:r>
            <a:endParaRPr b="0" lang="en-US" sz="2800" spc="-1" strike="noStrike">
              <a:solidFill>
                <a:srgbClr val="000000"/>
              </a:solidFill>
              <a:latin typeface="Times New Roman"/>
            </a:endParaRPr>
          </a:p>
        </p:txBody>
      </p:sp>
      <p:sp>
        <p:nvSpPr>
          <p:cNvPr id="96" name="Rectangle 3"/>
          <p:cNvSpPr/>
          <p:nvPr/>
        </p:nvSpPr>
        <p:spPr>
          <a:xfrm>
            <a:off x="3962520" y="1905120"/>
            <a:ext cx="4876560" cy="434340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BLE OF CONTENT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verview</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lief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Values / Mor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itual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ole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Childr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Wome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Elder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lth &amp; the Disable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References</a:t>
            </a:r>
            <a:endParaRPr b="0" lang="en-US" sz="2000" spc="-1" strike="noStrike">
              <a:solidFill>
                <a:srgbClr val="000000"/>
              </a:solidFill>
              <a:latin typeface="Times New Roman"/>
            </a:endParaRPr>
          </a:p>
        </p:txBody>
      </p:sp>
      <p:pic>
        <p:nvPicPr>
          <p:cNvPr id="97" name="Picture 4" descr="C:\Documents and Settings\Susan\Application Data\Microsoft\Media Catalog\Downloaded Clips\cl3a\j0145147.jpg"/>
          <p:cNvPicPr/>
          <p:nvPr/>
        </p:nvPicPr>
        <p:blipFill>
          <a:blip r:embed="rId1"/>
          <a:stretch/>
        </p:blipFill>
        <p:spPr>
          <a:xfrm>
            <a:off x="990720" y="1905120"/>
            <a:ext cx="2801880" cy="4343400"/>
          </a:xfrm>
          <a:prstGeom prst="rect">
            <a:avLst/>
          </a:prstGeom>
          <a:ln w="0">
            <a:noFill/>
          </a:ln>
        </p:spPr>
      </p:pic>
      <p:sp>
        <p:nvSpPr>
          <p:cNvPr id="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Mediators</a:t>
            </a:r>
            <a:r>
              <a:rPr b="0" lang="en-US" sz="2400" spc="-1" strike="noStrike">
                <a:solidFill>
                  <a:srgbClr val="000000"/>
                </a:solidFill>
                <a:latin typeface="Footlight MT Light"/>
              </a:rPr>
              <a:t> – Traditionally, an elder would hear both sides to a story and mediate to solve the conflic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Disciplinarians</a:t>
            </a:r>
            <a:r>
              <a:rPr b="0" lang="en-US" sz="2400" spc="-1" strike="noStrike">
                <a:solidFill>
                  <a:srgbClr val="000000"/>
                </a:solidFill>
                <a:latin typeface="Footlight MT Light"/>
              </a:rPr>
              <a:t> – Grown children often lived with parents in an extended family situation.  The grandparents would discipline the children, not the par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Teachers</a:t>
            </a:r>
            <a:r>
              <a:rPr b="0" lang="en-US" sz="2400" spc="-1" strike="noStrike">
                <a:solidFill>
                  <a:srgbClr val="000000"/>
                </a:solidFill>
                <a:latin typeface="Footlight MT Light"/>
              </a:rPr>
              <a:t> – Grandparents were admired for their knowledge and wisdom which they often conveyed through stor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Leaders</a:t>
            </a:r>
            <a:r>
              <a:rPr b="0" lang="en-US" sz="2400" spc="-1" strike="noStrike">
                <a:solidFill>
                  <a:srgbClr val="000000"/>
                </a:solidFill>
                <a:latin typeface="Footlight MT Light"/>
              </a:rPr>
              <a:t> – Because of their knowledge and wisdom, elders often make decisions effecting the tribe.</a:t>
            </a:r>
            <a:endParaRPr b="0" lang="en-US" sz="2400" spc="-1" strike="noStrike">
              <a:solidFill>
                <a:srgbClr val="000000"/>
              </a:solidFill>
              <a:latin typeface="Times New Roman"/>
            </a:endParaRPr>
          </a:p>
        </p:txBody>
      </p:sp>
      <p:sp>
        <p:nvSpPr>
          <p:cNvPr id="12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Elders</a:t>
            </a:r>
            <a:endParaRPr b="0" lang="en-US" sz="2800" spc="-1" strike="noStrike">
              <a:solidFill>
                <a:srgbClr val="000000"/>
              </a:solidFill>
              <a:latin typeface="Times New Roman"/>
            </a:endParaRPr>
          </a:p>
        </p:txBody>
      </p:sp>
      <p:sp>
        <p:nvSpPr>
          <p:cNvPr id="12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ootlight MT Light"/>
              </a:rPr>
              <a:t>One Elder relates:</a:t>
            </a:r>
            <a:endParaRPr b="0" lang="en-US" sz="24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One thing I liked about the old people is that they had Indian thinking.  For example, my mother and I were driving down the highway and saw a stand of dying birch trees.  She asked me if I knew why they were dying.  I probably would have explained it as pollution or some other technical explanation.  She said the birch trees are dying because no one is using them anymore.  They are sad because they no longer have a use.  Now that, I think about it, this is kind of like the elders – no one is using them anymore.  That’s what I call Indian thinking.  They would relate themselves with the connection in nature.  (Becker, Poupart, &amp; Martinez, 2002, The Way it Was, p. 2)</a:t>
            </a:r>
            <a:endParaRPr b="0" lang="en-US" sz="2000" spc="-1" strike="noStrike">
              <a:solidFill>
                <a:srgbClr val="000000"/>
              </a:solidFill>
              <a:latin typeface="Times New Roman"/>
            </a:endParaRPr>
          </a:p>
          <a:p>
            <a:pPr lvl="1" marL="179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	</a:t>
            </a: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a:t>
            </a:r>
            <a:endParaRPr b="0" lang="en-US" sz="2800" spc="-1" strike="noStrike">
              <a:solidFill>
                <a:srgbClr val="000000"/>
              </a:solidFill>
              <a:latin typeface="Times New Roman"/>
            </a:endParaRPr>
          </a:p>
        </p:txBody>
      </p:sp>
      <p:sp>
        <p:nvSpPr>
          <p:cNvPr id="130" name="Rectangle 3"/>
          <p:cNvSpPr/>
          <p:nvPr/>
        </p:nvSpPr>
        <p:spPr>
          <a:xfrm>
            <a:off x="990720" y="1905120"/>
            <a:ext cx="7848360" cy="49528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raditionally being healthy and a whole person were essential to living a good li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ome tribes visualized health as a medicine wheel with four parts – spiritual, mental, physical, &amp; emotional.</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In order to be healthy, all aspects of the medicine wheel had to be in bala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nother concept is that man is three-fold – mind, body,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is harmony in body, mind, &amp; spirit.</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or unwellness) was (and is) often a choice.</a:t>
            </a:r>
            <a:endParaRPr b="0" lang="en-US" sz="2400" spc="-1" strike="noStrike">
              <a:solidFill>
                <a:srgbClr val="000000"/>
              </a:solidFill>
              <a:latin typeface="Times New Roman"/>
            </a:endParaRPr>
          </a:p>
        </p:txBody>
      </p:sp>
      <p:sp>
        <p:nvSpPr>
          <p:cNvPr id="13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3" name="Rectangle 3"/>
          <p:cNvSpPr/>
          <p:nvPr/>
        </p:nvSpPr>
        <p:spPr>
          <a:xfrm>
            <a:off x="1066680" y="1905120"/>
            <a:ext cx="7772400" cy="48006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A physical disability is irrelevant to a person’s state of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llness can be accomplished in a wheelchair or without a leg.  If the body is healthy, if the mind is sharp, if the individual is following their beliefs and choosing to be in harmony with their environment, then a physical disability is irrelevant to wellness.</a:t>
            </a:r>
            <a:endParaRPr b="0" lang="en-US" sz="2400" spc="-1" strike="noStrike">
              <a:solidFill>
                <a:srgbClr val="000000"/>
              </a:solidFill>
              <a:latin typeface="Times New Roman"/>
            </a:endParaRPr>
          </a:p>
          <a:p>
            <a:pPr lvl="1" marL="576360" indent="-39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ow to deal with a physical disability is not something an Indian would think about.  Instead, an Indian would probably look at how to enhance an individual’s ability to fulfill his or her role within the community.</a:t>
            </a:r>
            <a:endParaRPr b="0" lang="en-US" sz="2400" spc="-1" strike="noStrike">
              <a:solidFill>
                <a:srgbClr val="000000"/>
              </a:solidFill>
              <a:latin typeface="Times New Roman"/>
            </a:endParaRPr>
          </a:p>
        </p:txBody>
      </p:sp>
      <p:sp>
        <p:nvSpPr>
          <p:cNvPr id="13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6"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119160" indent="-4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e are all responsible for our state of wellness; with the way we promote harmony between ourselves and the people we meet.</a:t>
            </a:r>
            <a:endParaRPr b="0" lang="en-US" sz="2400" spc="-1" strike="noStrike">
              <a:solidFill>
                <a:srgbClr val="000000"/>
              </a:solidFill>
              <a:latin typeface="Times New Roman"/>
            </a:endParaRPr>
          </a:p>
          <a:p>
            <a:pPr lvl="2" marL="730080" indent="5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Footlight MT Light"/>
              </a:rPr>
              <a:t>It is not the events that happen to him [man] that create his harmony, but his response to those happenings.  Every human chooses the responses he makes, and thus in this way, he chooses whether or not to be in harmony.  Being able to stand firm in his harmony is a priceless accomplishment for the Indian, for it means the disruptions of the world cannot affect him.  (Locust, 1985, p. 11)</a:t>
            </a:r>
            <a:endParaRPr b="0" lang="en-US" sz="2400" spc="-1" strike="noStrike">
              <a:solidFill>
                <a:srgbClr val="000000"/>
              </a:solidFill>
              <a:latin typeface="Times New Roman"/>
            </a:endParaRPr>
          </a:p>
        </p:txBody>
      </p:sp>
      <p:sp>
        <p:nvSpPr>
          <p:cNvPr id="1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Health and the Disabled (Continued)</a:t>
            </a:r>
            <a:endParaRPr b="0" lang="en-US" sz="2800" spc="-1" strike="noStrike">
              <a:solidFill>
                <a:srgbClr val="000000"/>
              </a:solidFill>
              <a:latin typeface="Times New Roman"/>
            </a:endParaRPr>
          </a:p>
        </p:txBody>
      </p:sp>
      <p:sp>
        <p:nvSpPr>
          <p:cNvPr id="139"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state of harmony is like a </a:t>
            </a:r>
            <a:r>
              <a:rPr b="1" lang="en-US" sz="2400" spc="-1" strike="noStrike">
                <a:solidFill>
                  <a:srgbClr val="000000"/>
                </a:solidFill>
                <a:latin typeface="Footlight MT Light"/>
              </a:rPr>
              <a:t>protective shield</a:t>
            </a:r>
            <a:r>
              <a:rPr b="0" lang="en-US" sz="2400" spc="-1" strike="noStrike">
                <a:solidFill>
                  <a:srgbClr val="000000"/>
                </a:solidFill>
                <a:latin typeface="Footlight MT Light"/>
              </a:rPr>
              <a:t> keeping us from dangers inherent in negative or disharmonious situations.</a:t>
            </a:r>
            <a:endParaRPr b="0" lang="en-US" sz="24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In the Indian belief, it is each person’s responsibility to</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keep this protective shield strong and beautiful, not only</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for his own well-being, but for the well-being of the tribe.</a:t>
            </a:r>
            <a:endParaRPr b="0" lang="en-US" sz="2000" spc="-1" strike="noStrike">
              <a:solidFill>
                <a:srgbClr val="000000"/>
              </a:solidFill>
              <a:latin typeface="Times New Roman"/>
            </a:endParaRPr>
          </a:p>
          <a:p>
            <a:pPr lvl="1" marL="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Locust, 1985, p. 17)</a:t>
            </a:r>
            <a:endParaRPr b="0" lang="en-US" sz="2000" spc="-1" strike="noStrike">
              <a:solidFill>
                <a:srgbClr val="000000"/>
              </a:solidFill>
              <a:latin typeface="Times New Roman"/>
            </a:endParaRPr>
          </a:p>
          <a:p>
            <a:pPr lvl="1" marL="33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hen looking for ways to help disabled people on a reservation ask, “What can we do to help our people fulfill their roles within the community?”</a:t>
            </a:r>
            <a:endParaRPr b="0" lang="en-US" sz="2400" spc="-1" strike="noStrike">
              <a:solidFill>
                <a:srgbClr val="000000"/>
              </a:solidFill>
              <a:latin typeface="Times New Roman"/>
            </a:endParaRPr>
          </a:p>
        </p:txBody>
      </p:sp>
      <p:sp>
        <p:nvSpPr>
          <p:cNvPr id="14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Leaders</a:t>
            </a:r>
            <a:endParaRPr b="0" lang="en-US" sz="2800" spc="-1" strike="noStrike">
              <a:solidFill>
                <a:srgbClr val="000000"/>
              </a:solidFill>
              <a:latin typeface="Times New Roman"/>
            </a:endParaRPr>
          </a:p>
        </p:txBody>
      </p:sp>
      <p:sp>
        <p:nvSpPr>
          <p:cNvPr id="142" name="Rectangle 3"/>
          <p:cNvSpPr/>
          <p:nvPr/>
        </p:nvSpPr>
        <p:spPr>
          <a:xfrm>
            <a:off x="990720" y="2057400"/>
            <a:ext cx="7848360" cy="46483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cared</a:t>
            </a:r>
            <a:r>
              <a:rPr b="0" lang="en-US" sz="2400" spc="-1" strike="noStrike">
                <a:solidFill>
                  <a:srgbClr val="000000"/>
                </a:solidFill>
                <a:latin typeface="Footlight MT Light"/>
              </a:rPr>
              <a:t> about people, not just family, but the whole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respected</a:t>
            </a:r>
            <a:r>
              <a:rPr b="0" lang="en-US" sz="2400" spc="-1" strike="noStrike">
                <a:solidFill>
                  <a:srgbClr val="000000"/>
                </a:solidFill>
                <a:latin typeface="Footlight MT Light"/>
              </a:rPr>
              <a:t> the people around them.</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served</a:t>
            </a:r>
            <a:r>
              <a:rPr b="0" lang="en-US" sz="2400" spc="-1" strike="noStrike">
                <a:solidFill>
                  <a:srgbClr val="000000"/>
                </a:solidFill>
                <a:latin typeface="Footlight MT Light"/>
              </a:rPr>
              <a:t> the people.  The leaders often would not eat until everyone else in the tribe had ea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honest</a:t>
            </a:r>
            <a:r>
              <a:rPr b="0" lang="en-US" sz="2400" spc="-1" strike="noStrike">
                <a:solidFill>
                  <a:srgbClr val="000000"/>
                </a:solidFill>
                <a:latin typeface="Footlight MT Light"/>
              </a:rPr>
              <a:t>.  They did not li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courageous</a:t>
            </a:r>
            <a:r>
              <a:rPr b="0" lang="en-US" sz="2400" spc="-1" strike="noStrike">
                <a:solidFill>
                  <a:srgbClr val="000000"/>
                </a:solidFill>
                <a:latin typeface="Footlight MT Light"/>
              </a:rPr>
              <a:t>.  They dared to do what needed to be don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y </a:t>
            </a:r>
            <a:r>
              <a:rPr b="1" lang="en-US" sz="2400" spc="-1" strike="noStrike">
                <a:solidFill>
                  <a:srgbClr val="000000"/>
                </a:solidFill>
                <a:latin typeface="Footlight MT Light"/>
              </a:rPr>
              <a:t>were not afraid</a:t>
            </a:r>
            <a:r>
              <a:rPr b="0" lang="en-US" sz="2400" spc="-1" strike="noStrike">
                <a:solidFill>
                  <a:srgbClr val="000000"/>
                </a:solidFill>
                <a:latin typeface="Footlight MT Light"/>
              </a:rPr>
              <a:t> </a:t>
            </a:r>
            <a:r>
              <a:rPr b="1" lang="en-US" sz="2400" spc="-1" strike="noStrike">
                <a:solidFill>
                  <a:srgbClr val="000000"/>
                </a:solidFill>
                <a:latin typeface="Footlight MT Light"/>
              </a:rPr>
              <a:t>to face reality</a:t>
            </a:r>
            <a:r>
              <a:rPr b="0" lang="en-US" sz="2400" spc="-1" strike="noStrike">
                <a:solidFill>
                  <a:srgbClr val="000000"/>
                </a:solidFill>
                <a:latin typeface="Footlight MT Light"/>
              </a:rPr>
              <a:t> and </a:t>
            </a:r>
            <a:r>
              <a:rPr b="1" lang="en-US" sz="2400" spc="-1" strike="noStrike">
                <a:solidFill>
                  <a:srgbClr val="000000"/>
                </a:solidFill>
                <a:latin typeface="Footlight MT Light"/>
              </a:rPr>
              <a:t>define problems</a:t>
            </a:r>
            <a:r>
              <a:rPr b="0" lang="en-US" sz="2400" spc="-1" strike="noStrike">
                <a:solidFill>
                  <a:srgbClr val="000000"/>
                </a:solidFill>
                <a:latin typeface="Footlight MT Light"/>
              </a:rPr>
              <a:t>.</a:t>
            </a:r>
            <a:endParaRPr b="0" lang="en-US" sz="2400" spc="-1" strike="noStrike">
              <a:solidFill>
                <a:srgbClr val="000000"/>
              </a:solidFill>
              <a:latin typeface="Times New Roman"/>
            </a:endParaRPr>
          </a:p>
        </p:txBody>
      </p:sp>
      <p:sp>
        <p:nvSpPr>
          <p:cNvPr id="1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9072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Summary</a:t>
            </a:r>
            <a:endParaRPr b="0" lang="en-US" sz="2800" spc="-1" strike="noStrike">
              <a:solidFill>
                <a:srgbClr val="000000"/>
              </a:solidFill>
              <a:latin typeface="Times New Roman"/>
            </a:endParaRPr>
          </a:p>
        </p:txBody>
      </p:sp>
      <p:sp>
        <p:nvSpPr>
          <p:cNvPr id="145" name="Rectangle 3"/>
          <p:cNvSpPr/>
          <p:nvPr/>
        </p:nvSpPr>
        <p:spPr>
          <a:xfrm>
            <a:off x="99072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is presentation summarizes some of the ideals, beliefs, and values of traditional Indian ways (ways before the Europeans colonized America).</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need to hold on to if we wish to remain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build upon if we wish to grow as Indian peo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hese are the values we must spread to our non-Indian brothers and sisters if America is going to grow as a country.</a:t>
            </a:r>
            <a:endParaRPr b="0" lang="en-US" sz="2400" spc="-1" strike="noStrike">
              <a:solidFill>
                <a:srgbClr val="000000"/>
              </a:solidFill>
              <a:latin typeface="Times New Roman"/>
            </a:endParaRPr>
          </a:p>
        </p:txBody>
      </p:sp>
      <p:sp>
        <p:nvSpPr>
          <p:cNvPr id="1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143000" y="304920"/>
            <a:ext cx="769608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 of Methods &amp; Sources</a:t>
            </a:r>
            <a:endParaRPr b="0" lang="en-US" sz="2800" spc="-1" strike="noStrike">
              <a:solidFill>
                <a:srgbClr val="000000"/>
              </a:solidFill>
              <a:latin typeface="Times New Roman"/>
            </a:endParaRPr>
          </a:p>
        </p:txBody>
      </p:sp>
      <p:sp>
        <p:nvSpPr>
          <p:cNvPr id="148" name="Rectangle 3"/>
          <p:cNvSpPr/>
          <p:nvPr/>
        </p:nvSpPr>
        <p:spPr>
          <a:xfrm>
            <a:off x="1143000" y="1905120"/>
            <a:ext cx="769608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ctr">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OTE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One of the references used to prepare this presentation consisted of a research project (Becker, Poupart, &amp; Martinez, 2002).</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purpose of the project was to reflect on traditional American Indian way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o achieve this objective, several elders were interview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lders represented Ojibwe, Lakota, Dakota, and Ho-Chunk nations.  </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oth men and women, born during World War II, participate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articipants chose to remain anonym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a quote from one of these elders is used in this presentation, the quote will be marked “Anonymous.”</a:t>
            </a:r>
            <a:r>
              <a:rPr b="0" lang="en-US" sz="2000" spc="-1" strike="noStrike">
                <a:solidFill>
                  <a:srgbClr val="000000"/>
                </a:solidFill>
                <a:latin typeface="Footlight MT Light"/>
              </a:rPr>
              <a:t>	</a:t>
            </a:r>
            <a:r>
              <a:rPr b="0" lang="en-US" sz="2000" spc="-1" strike="noStrike">
                <a:solidFill>
                  <a:srgbClr val="000000"/>
                </a:solidFill>
                <a:latin typeface="Footlight MT Light"/>
              </a:rPr>
              <a:t>     Thank You!</a:t>
            </a:r>
            <a:endParaRPr b="0" lang="en-US" sz="2000" spc="-1" strike="noStrike">
              <a:solidFill>
                <a:srgbClr val="000000"/>
              </a:solidFill>
              <a:latin typeface="Times New Roman"/>
            </a:endParaRPr>
          </a:p>
        </p:txBody>
      </p:sp>
      <p:sp>
        <p:nvSpPr>
          <p:cNvPr id="14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a:t>
            </a:r>
            <a:endParaRPr b="0" lang="en-US" sz="2800" spc="-1" strike="noStrike">
              <a:solidFill>
                <a:srgbClr val="000000"/>
              </a:solidFill>
              <a:latin typeface="Times New Roman"/>
            </a:endParaRPr>
          </a:p>
        </p:txBody>
      </p:sp>
      <p:sp>
        <p:nvSpPr>
          <p:cNvPr id="15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Becker, T., Poupart, J., &amp; Martinez, C.  (2002).  Reflections on Traditional American Indian Ways.  St. Paul, MN: American Indian Policy Center.  Retrieved February 27, 2007 from American Indian Policy Center Web site, http://www.airpi.org/research/reflect.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lay, J. A.  (1992).  Native American Independent Living.  </a:t>
            </a:r>
            <a:r>
              <a:rPr b="0" i="1" lang="en-US" sz="2400" spc="-1" strike="noStrike">
                <a:solidFill>
                  <a:srgbClr val="000000"/>
                </a:solidFill>
                <a:latin typeface="Footlight MT Light"/>
              </a:rPr>
              <a:t>Rural Special Educatin Quarterly, 11</a:t>
            </a:r>
            <a:r>
              <a:rPr b="0" lang="en-US" sz="2400" spc="-1" strike="noStrike">
                <a:solidFill>
                  <a:srgbClr val="000000"/>
                </a:solidFill>
                <a:latin typeface="Footlight MT Light"/>
              </a:rPr>
              <a:t>(1), 41-50.  Retrieved March 14, 2007 from http://rtc.ruralinstitute.umt.edu/Indian/NativeIL.htm</a:t>
            </a: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Overview</a:t>
            </a:r>
            <a:endParaRPr b="0" lang="en-US" sz="2800" spc="-1" strike="noStrike">
              <a:solidFill>
                <a:srgbClr val="000000"/>
              </a:solidFill>
              <a:latin typeface="Times New Roman"/>
            </a:endParaRPr>
          </a:p>
        </p:txBody>
      </p:sp>
      <p:sp>
        <p:nvSpPr>
          <p:cNvPr id="100" name="Rectangle 3"/>
          <p:cNvSpPr/>
          <p:nvPr/>
        </p:nvSpPr>
        <p:spPr>
          <a:xfrm>
            <a:off x="990720" y="1905120"/>
            <a:ext cx="7848360" cy="44956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American Indian life is centered on the four seasons and the natur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raditional spirituality is not a ‘religion’ so much as it is an integral seamless part of the very being of Indian societ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Native spirituality and beliefs are sacred.  To use them in any way other than the way they were intended would be sacrilegiou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Learning to live in the traditional ways is not easy.</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	</a:t>
            </a:r>
            <a:r>
              <a:rPr b="0" i="1" lang="en-US" sz="2000" spc="-1" strike="noStrike">
                <a:solidFill>
                  <a:srgbClr val="000000"/>
                </a:solidFill>
                <a:latin typeface="Footlight MT Light"/>
              </a:rPr>
              <a:t>Everything he’s [The Great Spirit has] given you, you have to walk through, you have to experience it.  You can’t always walk in the grass, sometimes you have to walk through the sagebrush.</a:t>
            </a:r>
            <a:endParaRPr b="0" lang="en-US" sz="2000" spc="-1" strike="noStrike">
              <a:solidFill>
                <a:srgbClr val="000000"/>
              </a:solidFill>
              <a:latin typeface="Times New Roman"/>
            </a:endParaRPr>
          </a:p>
          <a:p>
            <a:pPr marL="457200" indent="-4572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Footlight MT Light"/>
              </a:rPr>
              <a:t>Anonymous</a:t>
            </a:r>
            <a:endParaRPr b="0" lang="en-US" sz="2000" spc="-1" strike="noStrike">
              <a:solidFill>
                <a:srgbClr val="000000"/>
              </a:solidFill>
              <a:latin typeface="Times New Roman"/>
            </a:endParaRPr>
          </a:p>
        </p:txBody>
      </p:sp>
      <p:sp>
        <p:nvSpPr>
          <p:cNvPr id="10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4"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nielson, R. &amp; Fassinger, P.  (2007, January).  A Focus on American Indian Children.  </a:t>
            </a:r>
            <a:r>
              <a:rPr b="0" i="1" lang="en-US" sz="2400" spc="-1" strike="noStrike">
                <a:solidFill>
                  <a:srgbClr val="000000"/>
                </a:solidFill>
                <a:latin typeface="Footlight MT Light"/>
              </a:rPr>
              <a:t>Inform 5</a:t>
            </a:r>
            <a:r>
              <a:rPr b="0" lang="en-US" sz="2400" spc="-1" strike="noStrike">
                <a:solidFill>
                  <a:srgbClr val="000000"/>
                </a:solidFill>
                <a:latin typeface="Footlight MT Light"/>
              </a:rPr>
              <a:t>(1).  Retrieved March 14, 2007 from North Dakota Kids Count Web site at:  http://www.ndkidscount.org/publications/inform/5_1Inform.pdf </a:t>
            </a:r>
            <a:endParaRPr b="0" lang="en-US" sz="2400" spc="-1" strike="noStrike">
              <a:solidFill>
                <a:srgbClr val="000000"/>
              </a:solidFill>
              <a:latin typeface="Times New Roman"/>
            </a:endParaRPr>
          </a:p>
          <a:p>
            <a:pPr lvl="1" marL="853920" indent="-734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ea typeface="Times New Roman"/>
              </a:rPr>
              <a:t>Giannetta, J.  (2002, June).  The Plains Indians – Family Life, The Children, Duties.  Retrieved March 31, 2007 from SaskSchools.ca website:  http://www.saskschools.ca/~gregory/firstnations/family.html</a:t>
            </a:r>
            <a:endParaRPr b="0" lang="en-US" sz="2400" spc="-1" strike="noStrike">
              <a:solidFill>
                <a:srgbClr val="000000"/>
              </a:solidFill>
              <a:latin typeface="Times New Roman"/>
            </a:endParaRPr>
          </a:p>
        </p:txBody>
      </p:sp>
      <p:sp>
        <p:nvSpPr>
          <p:cNvPr id="1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57"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Locust, C. C.  (1985).  American Indian beliefs concerning health and unwellness.  Tucson, AZ: Native American Research and Training Center, University of Arizona.  U. S. Congress (1989).  A report of the special committee on investigatins of the Select Committee on Indian Affairs of the United States Senate.  Washington, DC: U.S. Government Printing Office.</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ails, T. E.  (1998).  Dog Soldier Societies of the Plains.  New York, NY: Marlowe &amp; Company, Chapter 1.</a:t>
            </a:r>
            <a:endParaRPr b="0" lang="en-US" sz="2200" spc="-1" strike="noStrike">
              <a:solidFill>
                <a:srgbClr val="000000"/>
              </a:solidFill>
              <a:latin typeface="Times New Roman"/>
            </a:endParaRPr>
          </a:p>
          <a:p>
            <a:pPr lvl="1" marL="635040" indent="-455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ootlight MT Light"/>
              </a:rPr>
              <a:t>Merriam-Webster’s Collegiate Dictionary, Tenth Edition (Electronic Version).  (1995).  Dallas, TX: Zane Publishing, Inc. in cooperation with Merriam-Webster, Inc.</a:t>
            </a:r>
            <a:endParaRPr b="0" lang="en-US" sz="2200" spc="-1" strike="noStrike">
              <a:solidFill>
                <a:srgbClr val="000000"/>
              </a:solidFill>
              <a:latin typeface="Times New Roman"/>
            </a:endParaRPr>
          </a:p>
        </p:txBody>
      </p:sp>
      <p:sp>
        <p:nvSpPr>
          <p:cNvPr id="1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eferences (Continued)</a:t>
            </a:r>
            <a:endParaRPr b="0" lang="en-US" sz="2800" spc="-1" strike="noStrike">
              <a:solidFill>
                <a:srgbClr val="000000"/>
              </a:solidFill>
              <a:latin typeface="Times New Roman"/>
            </a:endParaRPr>
          </a:p>
        </p:txBody>
      </p:sp>
      <p:sp>
        <p:nvSpPr>
          <p:cNvPr id="160"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obinson, B. A.  (2006, December 19).  </a:t>
            </a:r>
            <a:r>
              <a:rPr b="0" i="1" lang="en-US" sz="2400" spc="-1" strike="noStrike">
                <a:solidFill>
                  <a:srgbClr val="000000"/>
                </a:solidFill>
                <a:latin typeface="Footlight MT Light"/>
              </a:rPr>
              <a:t>Native American Spirituality</a:t>
            </a:r>
            <a:r>
              <a:rPr b="0" lang="en-US" sz="2400" spc="-1" strike="noStrike">
                <a:solidFill>
                  <a:srgbClr val="000000"/>
                </a:solidFill>
                <a:latin typeface="Footlight MT Light"/>
              </a:rPr>
              <a:t>.  Retrieved January 31, 2007 from RELIGIOUS TOLERANCE.ORG, Ontario Consultants on Religious Tolerance, Web site:  http://www.religioustolerance.org/nataspir.htm</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Williams, R.  (2003, November 20).  </a:t>
            </a:r>
            <a:r>
              <a:rPr b="0" i="1" lang="en-US" sz="2400" spc="-1" strike="noStrike">
                <a:solidFill>
                  <a:srgbClr val="000000"/>
                </a:solidFill>
                <a:latin typeface="Footlight MT Light"/>
              </a:rPr>
              <a:t>Pride in Indian Culture, Heritage Resurging, Says Old Elk</a:t>
            </a:r>
            <a:r>
              <a:rPr b="0" lang="en-US" sz="2400" spc="-1" strike="noStrike">
                <a:solidFill>
                  <a:srgbClr val="000000"/>
                </a:solidFill>
                <a:latin typeface="Footlight MT Light"/>
              </a:rPr>
              <a:t>.  Retrieved January 31, 2007 from United States Department of Defense, American Forces Information Service, News Articles, Web site:  http://www.defenselink.mil/ news/Nov2003/n11202003_200311203.html</a:t>
            </a:r>
            <a:endParaRPr b="0" lang="en-US" sz="2400" spc="-1" strike="noStrike">
              <a:solidFill>
                <a:srgbClr val="000000"/>
              </a:solidFill>
              <a:latin typeface="Times New Roman"/>
            </a:endParaRPr>
          </a:p>
          <a:p>
            <a:pPr lvl="1" marL="635040" indent="-455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Beliefs Common to Most Plains Tribes</a:t>
            </a:r>
            <a:endParaRPr b="0" lang="en-US" sz="2800" spc="-1" strike="noStrike">
              <a:solidFill>
                <a:srgbClr val="000000"/>
              </a:solidFill>
              <a:latin typeface="Times New Roman"/>
            </a:endParaRPr>
          </a:p>
        </p:txBody>
      </p:sp>
      <p:sp>
        <p:nvSpPr>
          <p:cNvPr id="103" name="Rectangle 3"/>
          <p:cNvSpPr/>
          <p:nvPr/>
        </p:nvSpPr>
        <p:spPr>
          <a:xfrm>
            <a:off x="1066680" y="1981080"/>
            <a:ext cx="7772400" cy="449604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is a Supreme Being, a Creator, a Great Spirit, G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Everything the Great Spirit has created is goo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Many lesser spirits wander the earth, some control weather, some interact with humans, some inhabit the under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Plants and animals, as well as humans, are part of a spirit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pirit world exists side-by-side with the physical world and often intermingles with this physical world.</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efore you were conceived, before you were born, you had a spirit.</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When your body dies, your spirit will live on.</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ake care of Mother Earth, and Mother Earth will take care of you.</a:t>
            </a: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Values of Most Plains Tribes</a:t>
            </a:r>
            <a:endParaRPr b="0" lang="en-US" sz="2800" spc="-1" strike="noStrike">
              <a:solidFill>
                <a:srgbClr val="000000"/>
              </a:solidFill>
              <a:latin typeface="Times New Roman"/>
            </a:endParaRPr>
          </a:p>
        </p:txBody>
      </p:sp>
      <p:sp>
        <p:nvSpPr>
          <p:cNvPr id="106"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Courag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eadershi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Du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Love  </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Fortitude</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Respect</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Generosi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sponsibility</a:t>
            </a:r>
            <a:endParaRPr b="0" lang="en-US" sz="2400" spc="-1" strike="noStrike">
              <a:solidFill>
                <a:srgbClr val="000000"/>
              </a:solidFill>
              <a:latin typeface="Times New Roman"/>
            </a:endParaRPr>
          </a:p>
          <a:p>
            <a:pPr lvl="2" marL="13716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Honesty</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Reverenc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Honor</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Wisdom</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     </a:t>
            </a:r>
            <a:r>
              <a:rPr b="1" lang="en-US" sz="2400" spc="-1" strike="noStrike">
                <a:solidFill>
                  <a:srgbClr val="000000"/>
                </a:solidFill>
                <a:latin typeface="Footlight MT Light"/>
              </a:rPr>
              <a:t>Industry</a:t>
            </a:r>
            <a:endParaRPr b="0" lang="en-US" sz="2400" spc="-1" strike="noStrike">
              <a:solidFill>
                <a:srgbClr val="000000"/>
              </a:solidFill>
              <a:latin typeface="Times New Roman"/>
            </a:endParaRPr>
          </a:p>
        </p:txBody>
      </p:sp>
      <p:sp>
        <p:nvSpPr>
          <p:cNvPr id="1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p:txBody>
      </p:sp>
      <p:sp>
        <p:nvSpPr>
          <p:cNvPr id="109" name="Rectangle 3"/>
          <p:cNvSpPr/>
          <p:nvPr/>
        </p:nvSpPr>
        <p:spPr>
          <a:xfrm>
            <a:off x="1066680" y="1905120"/>
            <a:ext cx="7772400" cy="472428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Naming Ceremony</a:t>
            </a:r>
            <a:r>
              <a:rPr b="0" lang="en-US" sz="2400" spc="-1" strike="noStrike">
                <a:solidFill>
                  <a:srgbClr val="000000"/>
                </a:solidFill>
                <a:latin typeface="Footlight MT Light"/>
              </a:rPr>
              <a:t> – To give person a name</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Storytelling / Listening</a:t>
            </a:r>
            <a:r>
              <a:rPr b="0" lang="en-US" sz="2400" spc="-1" strike="noStrike">
                <a:solidFill>
                  <a:srgbClr val="000000"/>
                </a:solidFill>
                <a:latin typeface="Footlight MT Light"/>
              </a:rPr>
              <a:t> – Method of teach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Vision Quest</a:t>
            </a:r>
            <a:r>
              <a:rPr b="0" lang="en-US" sz="2400" spc="-1" strike="noStrike">
                <a:solidFill>
                  <a:srgbClr val="000000"/>
                </a:solidFill>
                <a:latin typeface="Footlight MT Light"/>
              </a:rPr>
              <a:t> – Passage from boyhood to manhood</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Pow-Wow</a:t>
            </a:r>
            <a:r>
              <a:rPr b="0" lang="en-US" sz="2400" spc="-1" strike="noStrike">
                <a:solidFill>
                  <a:srgbClr val="000000"/>
                </a:solidFill>
                <a:latin typeface="Footlight MT Light"/>
              </a:rPr>
              <a:t> – Place to socialize with other tribe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Renewal Celebra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un Dance</a:t>
            </a:r>
            <a:r>
              <a:rPr b="0" lang="en-US" sz="2400" spc="-1" strike="noStrike">
                <a:solidFill>
                  <a:srgbClr val="000000"/>
                </a:solidFill>
                <a:latin typeface="Footlight MT Light"/>
              </a:rPr>
              <a:t> – a replay of creatio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1" lang="en-US" sz="2400" spc="-1" strike="noStrike">
                <a:solidFill>
                  <a:srgbClr val="000000"/>
                </a:solidFill>
                <a:latin typeface="Footlight MT Light"/>
              </a:rPr>
              <a:t>Sweat Lodge</a:t>
            </a:r>
            <a:r>
              <a:rPr b="0" lang="en-US" sz="2400" spc="-1" strike="noStrike">
                <a:solidFill>
                  <a:srgbClr val="000000"/>
                </a:solidFill>
                <a:latin typeface="Footlight MT Light"/>
              </a:rPr>
              <a:t> – for spiritual renewal and healing</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Grand Medicine Lodge</a:t>
            </a:r>
            <a:r>
              <a:rPr b="0" lang="en-US" sz="2400" spc="-1" strike="noStrike">
                <a:solidFill>
                  <a:srgbClr val="000000"/>
                </a:solidFill>
                <a:latin typeface="Footlight MT Light"/>
              </a:rPr>
              <a:t> – Good place to learn traditions</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ootlight MT Light"/>
              </a:rPr>
              <a:t>Hunting Ceremonies</a:t>
            </a:r>
            <a:r>
              <a:rPr b="0" lang="en-US" sz="2400" spc="-1" strike="noStrike">
                <a:solidFill>
                  <a:srgbClr val="000000"/>
                </a:solidFill>
                <a:latin typeface="Footlight MT Light"/>
              </a:rPr>
              <a:t> – to appease spirits of animals killed</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Rituals of Most Plains Trib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aily Practices</a:t>
            </a:r>
            <a:endParaRPr b="0" lang="en-US" sz="2400" spc="-1" strike="noStrike">
              <a:solidFill>
                <a:srgbClr val="000000"/>
              </a:solidFill>
              <a:latin typeface="Times New Roman"/>
            </a:endParaRPr>
          </a:p>
        </p:txBody>
      </p:sp>
      <p:sp>
        <p:nvSpPr>
          <p:cNvPr id="112" name="Rectangle 3"/>
          <p:cNvSpPr/>
          <p:nvPr/>
        </p:nvSpPr>
        <p:spPr>
          <a:xfrm>
            <a:off x="990720" y="1752480"/>
            <a:ext cx="7848360" cy="510552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Dwellings – oriented with the doorway on the east so a person awakened to the rising sun.  The understanding was the Creator was sending daylight, warmth, growth and enlightenment to each person to begin a new day.</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orning Prayers – After awakening, the individual would pray, thanking the Creator for blessings and new opportunities.  A confession of responsibility was made to other people.  Sacrifices were given.</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acred Path – Day began with man walking reverently along a sacred path, among all living things on earth and under the supernatural powers dwelling in heaven.</a:t>
            </a:r>
            <a:endParaRPr b="0" lang="en-US" sz="2400" spc="-1" strike="noStrike">
              <a:solidFill>
                <a:srgbClr val="000000"/>
              </a:solidFill>
              <a:latin typeface="Times New Roman"/>
            </a:endParaRPr>
          </a:p>
        </p:txBody>
      </p:sp>
      <p:sp>
        <p:nvSpPr>
          <p:cNvPr id="1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Children</a:t>
            </a:r>
            <a:endParaRPr b="0" lang="en-US" sz="2800" spc="-1" strike="noStrike">
              <a:solidFill>
                <a:srgbClr val="000000"/>
              </a:solidFill>
              <a:latin typeface="Times New Roman"/>
            </a:endParaRPr>
          </a:p>
        </p:txBody>
      </p:sp>
      <p:sp>
        <p:nvSpPr>
          <p:cNvPr id="115"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Responsibilit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Seek Knowledge from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o be Quiet and List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by Exampl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Respect the Eld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r>
              <a:rPr b="0" lang="en-US" sz="2400" spc="-1" strike="noStrike">
                <a:solidFill>
                  <a:srgbClr val="000000"/>
                </a:solidFill>
                <a:latin typeface="Footlight MT Light"/>
              </a:rPr>
              <a:t>Learn, through play, by practicing what they see</a:t>
            </a:r>
            <a:endParaRPr b="0" lang="en-US" sz="2400" spc="-1" strike="noStrike">
              <a:solidFill>
                <a:srgbClr val="000000"/>
              </a:solidFill>
              <a:latin typeface="Times New Roman"/>
            </a:endParaRPr>
          </a:p>
        </p:txBody>
      </p:sp>
      <p:sp>
        <p:nvSpPr>
          <p:cNvPr id="1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Men</a:t>
            </a:r>
            <a:endParaRPr b="0" lang="en-US" sz="2800" spc="-1" strike="noStrike">
              <a:solidFill>
                <a:srgbClr val="000000"/>
              </a:solidFill>
              <a:latin typeface="Times New Roman"/>
            </a:endParaRPr>
          </a:p>
        </p:txBody>
      </p:sp>
      <p:sp>
        <p:nvSpPr>
          <p:cNvPr id="118"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tectors (Warriors) – Keep tribe saf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Hunters – Provided for tribe</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nducted 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de items for Rituals/Ceremonie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each older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066680" y="304920"/>
            <a:ext cx="7772400" cy="1066680"/>
          </a:xfrm>
          <a:prstGeom prst="rect">
            <a:avLst/>
          </a:prstGeom>
          <a:solidFill>
            <a:srgbClr val="dfd6c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ootlight MT Light"/>
              </a:rPr>
              <a:t>Traditional Roles – Women</a:t>
            </a:r>
            <a:endParaRPr b="0" lang="en-US" sz="2800" spc="-1" strike="noStrike">
              <a:solidFill>
                <a:srgbClr val="000000"/>
              </a:solidFill>
              <a:latin typeface="Times New Roman"/>
            </a:endParaRPr>
          </a:p>
        </p:txBody>
      </p:sp>
      <p:sp>
        <p:nvSpPr>
          <p:cNvPr id="121" name="Rectangle 3"/>
          <p:cNvSpPr/>
          <p:nvPr/>
        </p:nvSpPr>
        <p:spPr>
          <a:xfrm>
            <a:off x="1066680" y="1905120"/>
            <a:ext cx="7772400" cy="4343400"/>
          </a:xfrm>
          <a:prstGeom prst="rect">
            <a:avLst/>
          </a:prstGeom>
          <a:solidFill>
            <a:srgbClr val="ccffcc">
              <a:alpha val="50000"/>
            </a:srgbClr>
          </a:solidFill>
          <a:ln w="9360">
            <a:solidFill>
              <a:srgbClr val="000000"/>
            </a:solidFill>
            <a:miter/>
          </a:ln>
        </p:spPr>
        <p:style>
          <a:lnRef idx="0"/>
          <a:fillRef idx="0"/>
          <a:effectRef idx="0"/>
          <a:fontRef idx="minor"/>
        </p:style>
        <p:txBody>
          <a:bodyPr lIns="137160" rIns="137160" tIns="137160" bIns="13716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rocess food</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Cook</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Make garment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Set up camp or take down camp</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Take care of young childr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Planners</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Family ties handed down through women</a:t>
            </a:r>
            <a:endParaRPr b="0" lang="en-US" sz="2400" spc="-1" strike="noStrike">
              <a:solidFill>
                <a:srgbClr val="000000"/>
              </a:solidFill>
              <a:latin typeface="Times New Roman"/>
            </a:endParaRPr>
          </a:p>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otlight MT Light"/>
              </a:rPr>
              <a:t>	</a:t>
            </a:r>
            <a:endParaRPr b="0" lang="en-US" sz="2400" spc="-1" strike="noStrike">
              <a:solidFill>
                <a:srgbClr val="000000"/>
              </a:solidFill>
              <a:latin typeface="Times New Roman"/>
            </a:endParaRPr>
          </a:p>
        </p:txBody>
      </p:sp>
      <p:sp>
        <p:nvSpPr>
          <p:cNvPr id="1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5:57:43Z</dcterms:created>
  <dc:creator>Susan</dc:creator>
  <dc:description/>
  <dc:language>en-US</dc:language>
  <cp:lastModifiedBy>Legion</cp:lastModifiedBy>
  <dcterms:modified xsi:type="dcterms:W3CDTF">2017-07-05T12:22:40Z</dcterms:modified>
  <cp:revision>18</cp:revision>
  <dc:subject/>
  <dc:title>PowerPoint Presentation</dc:title>
</cp:coreProperties>
</file>