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9.png" ContentType="image/png"/>
  <Override PartName="/ppt/media/image38.jpeg" ContentType="image/jpeg"/>
  <Override PartName="/ppt/media/image11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44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5.png" ContentType="image/png"/>
  <Override PartName="/ppt/media/image35.png" ContentType="image/png"/>
  <Override PartName="/ppt/media/image4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E4D8-77AE-46BE-BB3D-6C82FCFE268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bies were taught at a very young age not to cry because it might scare off the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four years old the girls would accompany their mother with her chores and the boys would listen to war stories and practice their bow and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s and girls never played together, they knew they had separate roles in li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age of 13, men went on Vision Qu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layed a game like stick ball (hocke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 life k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were taught at a very young age not to cry because it might scare off the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our years old the girls would accompany their mother with her chores and the boys would listen to war stories and practice their bow and arrow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ys and girls never played together, they knew they had separate roles in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 of 13, men went on Vision 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layed a game like stick ball (hoc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y live 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pi (teepee) is a portable house, great for the nomadic life of a Plains Indi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made up of 3-4 poles and up to 12 buffalo skins sewn toge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ning always faced the morning 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bout one hour for a women to assemble the families ti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ive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pi (teepee) is a portable house, great for the nomadic life of a Plains Indi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3-4 poles and up to 12 buffalo skins sewn toge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ning always faced the morning su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bout one hour for a women to assemble the families ti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rav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 lives changed when they got horses. They traded or stole them from the Spanish settl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ses helped with hunting, intertribal trading and w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riors would paint their horses to show their history of batt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ra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 lives changed when they got horses. They traded or stole them from the Spanish settl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rses helped with hunting, intertribal trading and w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riors would paint their horses to show their history of batt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Fash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wardrobe of deerskin and a winter wardrobe of buffal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Indian wore a belt to hang tools, knives or cups off of, since there were no pocke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ribe made a different moccasin, some were made from deerskin, quills, and be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pipes, long thin beads made from bones, were woven into the hair and kept for lif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man has been a great warrior he would wear a war bonnet made of eagle feathers. The greater the warrior, the more feath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 Fash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wardrobe of deerskin and a winter wardrobe of buffal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Indian wore a belt to hang tools, knives or cups off of, since there were no po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be made a different moccasin, some were made from deerskin, quills, and b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pipes, long thin beads made from bones, were woven into the hair and kept for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man has been a great warrior he would wear a war bonnet made of eagle feathers. The greater the warrior, the more fea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hirts are made from human scalps…you don’t want to be a Plains Indian’s enem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hirts are made from human scalps…you don’t want to be a Plains Indian’s enem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each hunt they performed a buffalo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foot it took a whole tribe to catch a buffalo, they are very dangero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 heart was left on the plains as an off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and women would record their lives on buffalo hides using pictograph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ff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each hunt they performed a buffalo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foot it took a whole tribe to catch a buffalo, they are very dangero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ffalo heart was left on the plains as an off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and women would record their lives on buffalo hides using pictograph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 lived in the middle region of the United Sta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roughly west of the Mississippi River and east of the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and is made up of miles of treeless grasslands….which is perfect grazing fields for buffal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 lived in the middle region of the United St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roughly west of the Mississippi River and east of the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nd is made up of miles of treeless grasslands….which is perfect grazing fields for buffal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hite man c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 were the tribes to hold onto their culture the longest out of all of the American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ecause the plains were the last to be settled and the hardest to live off 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hite man came, it changed where they lived, the tools they used, and what they 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of the largest Indian Reservations are located in the Great Plains today. (South Dakota and Oklahom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hite man c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 were the tribes to hold onto their culture the longest out of all of the American India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plains were the last to be settled and the hardest to live off o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hite man came, it changed where they lived, the tools they used, and what they 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of the largest Indian Reservations are located in the Great Plains today. (South Dakota and Oklahom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ting Bu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zy Ho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ting B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zy 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ndian Reservations ar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ndian Reservations are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between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 and the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etween the Mississ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 and the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ell known tribes in the Plains region are th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a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y moved around a lot you will find variations in the tribes, ex: the dakota-sioux, teton-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ll known tribes in the Plains region are th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moved around a lot you will find variations in the tribes, ex: the dakota-sioux, teton-sio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est hunters had the highest rank in their trib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also judged by how many horses he was able to obtain and if he shared th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hunted deer, rabbit and el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gs would pull their catch back to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 Life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hunters had the highest rank in their trib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was also judged by how many horses he was able to obtain and if he shared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hunted deer, rabbit and el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s would pull their catch back to cam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women excelled at quillwor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quills were sewn in clothing and used for artwork on tip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chores were fetching water, sweeping, hoeing the fields, cooking and sew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nd far from rivers were tough to garden, but near rivers they would grow corn, squash and sun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ostly picked berries and n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een as inferior, not to speak unless spoke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 Lif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women excelled at quill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ills were sewn in clothing and used for artwork on tip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chores were fetching water, sweeping, hoeing the fields, cooking and sew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 far from rivers were tough to garden, but near rivers they would grow corn, squash and sun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stly picked berries and 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een as inferior, not to speak unless spoke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9B5-2363-4586-BC74-6F2C8FB2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783-68F5-4A84-AB6E-7096B226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322AD-4596-48A8-AEA3-054DD9D0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E73BD-4A4A-44DD-AF7E-0C788D57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F55B6-0084-4805-B33B-3BCC5500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C160C-E622-4CCC-BC74-9717B997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1C90E-AB70-4265-9E6C-A4F7C634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FEFC7-01D8-440C-AF92-6A948842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F27C1-D170-47FE-8EB0-432BFF0B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5B7D0-5536-456D-B650-C9D6D964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ED1F3-0B2C-452B-99AF-6A14F73B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B96-E8F9-4FD2-A847-FF453465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5AB-9F29-48F3-85D0-5ABEA343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9A98-F4FD-47BF-A8AF-9925BFEC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7547-44D7-4C07-857B-F5F9D23B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D17A-2297-4AB5-9AC4-B111785F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468F-7569-4FD4-BB03-B6F4BEBE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DB2D-D18D-43DA-804B-BF3F3671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7684-4C35-4ABA-B5C9-205B591A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7D6B-5D56-4840-BE0A-735CA245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BEF2-6529-4562-A522-C037B16A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8F80-C6CF-45E9-B1BD-222FBBEF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0146-D0A2-4523-B4F5-E6EAF360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949E-4B47-4B1A-A0D2-0E24AAB0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72EB-C0D0-4C5B-BEB0-8C7BEBB3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C746-0ACA-40B4-BE41-25F87129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7D028-57DB-410F-A4F2-AE7180CC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D528C-0944-4DCE-82BC-D1F9CC4A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33142-78C8-4301-8868-748F73EF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E65D8-6DBB-443B-8914-60F0E908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C9B5F-EF07-4F4A-8CCC-6143881A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649-4472-488A-95CA-6AE69F20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65F04-47BC-4B31-B4C8-972A267E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77353-FC2B-4F0E-86D7-975029E3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86DA4-246F-4106-BAF9-BB2D0154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4D6B5-8A43-4122-88DF-AAC0019C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754FC-C6BE-4873-92EB-C331DF31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64177-E567-4BDB-9933-EFA9D19E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4AA96-22A9-4D92-943C-D985507C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1EC01-88E3-4672-901E-D869CAE6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A310E-5483-49C8-88A5-072BFD73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CB405-B5DE-415E-B532-773140F8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3A9-A78B-4930-8B4B-79DF3C26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3EC8F-F0D0-4076-97AB-CB91C9BA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89CB9-0E95-4C38-B22C-0D2F3FEE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DABAD-994E-432D-B2BC-8A771BE2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E8380-BCF8-454C-9375-B55A9C66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6E0BE-E135-4ACC-83DC-63A60266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3B3EA-A779-4B11-9D2B-1FD1C490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55684-A5BA-44E5-9C18-35457358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6D377-6C5A-43B5-A54E-19EEAC2A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68E25-DEBC-4CBC-A409-9F995245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A67DC-7743-4A92-9F38-7B48B7B6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FABB-377C-40F3-B80B-3240015E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E7795-E6AA-42A7-96F6-49F93AFA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9FCEC-E990-4625-A09C-D8BBCCD9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020A2-DC41-47A1-B9C4-E49F8EDB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400F7-445C-4635-9233-87FF9A42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346DA-0DA7-4DB6-B25D-2580D94C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28CEE-7EC1-437F-A941-F38150EE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8B88E-0F13-45EB-AEC0-048B20DB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7D4BD-65D8-4391-9F8B-D6396B89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8673A-5E56-4BED-894C-3FE6D171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D0F74-4FE8-477A-AD85-68755A5E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829-BBA8-4457-834C-23CDE7E5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DEDC1-6472-4D89-9B63-B1DC5289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5D2D1-8F9B-472E-B748-6C68EA7D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236C5-9CC1-47FA-8B33-D57036B0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2B1D2-7DC3-4447-B881-29AFBD63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949DE-F742-4407-AE40-FB99CB16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FE23C-8D02-4159-AACB-CFED248F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B53D7-58FB-4A3D-B223-08895828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387FF-0675-44EE-B57B-16C95AAA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7EC5D-B028-4461-90C7-57DBE9CC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95AE1-A0D3-4049-8E30-57317EF6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D5BB-38EA-4F75-BF41-2E3E148C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BA3E1-1BDE-4284-9653-DACC4472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AFA79-C0B8-4146-9CDE-5495228F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BA228-21A2-4736-AAA3-FDE0AA5A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7FD9C-B8D3-41A2-BE0D-EBF521DF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2448A-347D-41E1-B72A-5A5AB895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07618-08A0-4A5B-AE03-21580740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7435E-5C7C-4A95-BFDD-6D1409F1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9ABAF-4F51-447B-ADB1-788CE1AE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F6D04-CB6A-4B23-B167-F7006847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A4051-D6C8-4258-AF49-762B3028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420-1D64-49E2-994D-F8210768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D6F7B-FE38-40F2-A3AF-1BB31660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F496F-B661-442B-BDCD-679958DC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1458A-8B1B-4EB1-A2D7-10BF1DCB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72DB1-2368-4A17-BB15-FB4B2436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869B3-3ED5-4E82-ACDE-ECC9B8DF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70828-8FD7-4C44-9EA1-14FAA71D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148DA-2997-4F8A-A9A1-250678FC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F5688-8C21-4B24-80D8-BE2DF309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3C11C-B882-4727-91BF-22A6F518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F9783-8B77-442B-8EC7-A9BC6B1C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C0D-3AF6-406A-85C8-2783B6ED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6586D-5AC2-4B34-8717-AD48C09E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7EEF0-CD5A-4B83-AD66-1A85D271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EDAB8-A307-47EE-8542-FF67E1C9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55C3C-61EC-4156-8A42-FA87F23B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11D82-68CD-44CE-9AF3-7E72BA83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639C9-375D-442D-913C-4D92DF6E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348C9-4879-47CB-A99B-972DF9F1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7E4AC-3E0F-4105-ACD4-D7723CB5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39FB0-C9D8-4831-ACD2-2EFD3B70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D8EFA-8C45-425F-830E-315BEFF0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F19B-DA29-492E-A195-3835107158CC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F4C0-44D5-431F-9329-302F479680C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0D26-C285-4166-846C-945F26674B66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9B55-BA31-487F-B88E-BC19CF79913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4C63-B203-46D5-88EF-388FB06F5589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5137-4CC1-4173-9AFC-23F81063F42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6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2024-09D0-48F8-BB1C-D730D9A7C36B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3B20-2891-4D92-8E04-5808F7F26FF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0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Straight Connector 10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03F2-CCEA-4D6F-A91A-C59996AD1BF8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6312-AC29-4B1F-AB85-AE8050D1376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2BCD-D0FF-4254-A38C-89E7B03D47DF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91C5-5BCC-4DD1-9920-5D46F3B03A8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7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DAC7-69F7-4686-B1FA-0445093DAC14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FB8B-5D14-49A1-AA4C-FC705D85E14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F086-2718-4E73-BD6A-0CE09DA3CF67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5A07-DD45-4469-B1D1-B54BC0303B6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1517-F347-4CA5-9D82-F6D03723E9B6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30A9-DED5-49C7-9B41-5543E05AFA0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rds.yahoo.com/_ylt=A0WTb_hzv81IHJsAFWOJzbkF;_ylu=X3oDMTBpZm5udGl1BHBvcwM1BHNlYwNzcgR2dGlkAw--/SIG=1mp4j4fvv/EXP=1221529843/**http:/images.search.yahoo.com/images/view?back=http://images.search.yahoo.com/search/images?ei=UTF-8&amp;p=eagle%20feather%20headdress&amp;fr2=tab-web&amp;fr=yfp-t-501&amp;w=263&amp;h=450&amp;imgurl=www.liverpoolmuseums.org.uk/wml/humanworld/worldcultures/americas/Hiawatha/graphics/large/Feather_headdress.jpg&amp;rurl=http://www.liverpoolmuseums.org.uk/wml/humanworld/worldcultures/americas/hiawatha/feather_headdress.asp&amp;size=19.2kB&amp;name=Feather_headdress.jpg&amp;p=eagle+feather+headdress&amp;type=JPG&amp;oid=5b010c7f52811078&amp;no=5&amp;tt=36&amp;sigr=1377flcf2&amp;sigi=13fvpftqd&amp;sigb=13c612lkj" TargetMode="External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d/Nordamerikanische_Kulturareale_en.png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gendsofamerica.com/photos-nativeamerican/SiouxChiefs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egendsofamerica.com/photos-nativeamerican/SiouxIndians.jpg" TargetMode="External"/><Relationship Id="rId2" Type="http://schemas.openxmlformats.org/officeDocument/2006/relationships/hyperlink" Target="http://www.legendsofamerica.com/photos-nativeamerican/SiouxIndians.jpg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hyperlink" Target="http://rds.yahoo.com/_ylt=A0WTbx5Qwc1I0PsAtSyJzbkF;_ylu=X3oDMTBqY2pzbGhoBHBvcwMxMQRzZWMDc3IEdnRpZAM-/SIG=1jh8vq0u7/EXP=1221530320/**http:/images.search.yahoo.com/images/view?back=http://images.search.yahoo.com/search/images?p=dog+travois&amp;js=1&amp;ni=18&amp;ei=utf-8&amp;fr=yfp-t-501&amp;xargs=0&amp;pstart=1&amp;b=1&amp;w=449&amp;h=242&amp;imgurl=historyforkids.utah.gov/jump_in/images/kids--dogtravois_000.jpg&amp;rurl=http://historyforkids.utah.gov/jump_in/AncientDogsofUtah.html&amp;size=30.6kB&amp;name=kids--dogtravois_000.jpg&amp;p=dog+travois&amp;type=JPG&amp;oid=66e775b10f0d458c&amp;no=11&amp;tt=64&amp;sigr=11ts3fvvm&amp;sigi=11voji627&amp;sigb=13gvk743g" TargetMode="Externa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ld-picture.com/indians/Indian-Woman-Cooking.htm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old-picture.com/indians/Sioux-Indian-Maiden.htm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9000" y="4761000"/>
            <a:ext cx="8650080" cy="1315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Native American Teepee"/>
          <p:cNvPicPr/>
          <p:nvPr/>
        </p:nvPicPr>
        <p:blipFill>
          <a:blip r:embed="rId2"/>
          <a:stretch/>
        </p:blipFill>
        <p:spPr>
          <a:xfrm>
            <a:off x="2286000" y="990720"/>
            <a:ext cx="5010120" cy="330516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abies were taught at a very young age not to cry because it might scare off the food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t four years old the girls would accompany their mother with her chores and the boys would listen to war stories and practice their bow and arrow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oys and girls never played together, they knew they had separate roles in life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t the age of 13, men went on Vision Ques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y played a game like stick ball (hockey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tipi (teepee) is a portable house, great for the nomadic life of a Plains Indian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is made up of 3-4 poles and up to 12 buffalo skins sewn together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opening always faced the morning sun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takes about one hour for a women to assemble the families tip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Sioux tipis-tipi.co.uk,tipi,teepee,wigwam"/>
          <p:cNvPicPr/>
          <p:nvPr/>
        </p:nvPicPr>
        <p:blipFill>
          <a:blip r:embed="rId1"/>
          <a:stretch/>
        </p:blipFill>
        <p:spPr>
          <a:xfrm>
            <a:off x="380880" y="304920"/>
            <a:ext cx="4286520" cy="2952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Making Camp"/>
          <p:cNvPicPr/>
          <p:nvPr/>
        </p:nvPicPr>
        <p:blipFill>
          <a:blip r:embed="rId2"/>
          <a:stretch/>
        </p:blipFill>
        <p:spPr>
          <a:xfrm>
            <a:off x="3962520" y="2979720"/>
            <a:ext cx="5181480" cy="387828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lains Indians lives changed when they got horses. They traded or stole them from the Spanish settler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horses helped with hunting, intertribal trading and war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arriors would paint their horses to show their history of battl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http://rds.yahoo.com/_ylt=A0WTefhLuM1IRTwBdgajzbkF/SIG=129ovqv06/EXP=1221528011/**http%3A/eee.uci.edu/clients/tcthorne/Hist15/horses.gif"/>
          <p:cNvPicPr/>
          <p:nvPr/>
        </p:nvPicPr>
        <p:blipFill>
          <a:blip r:embed="rId1"/>
          <a:stretch/>
        </p:blipFill>
        <p:spPr>
          <a:xfrm>
            <a:off x="228600" y="838080"/>
            <a:ext cx="4600440" cy="49532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http://www.americanwest.com/critters/animages/gazette/pix56.jpg"/>
          <p:cNvPicPr/>
          <p:nvPr/>
        </p:nvPicPr>
        <p:blipFill>
          <a:blip r:embed="rId2"/>
          <a:stretch/>
        </p:blipFill>
        <p:spPr>
          <a:xfrm>
            <a:off x="4876920" y="533520"/>
            <a:ext cx="2857320" cy="19526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Shoshone Warrior &amp; Horse by Nativestock Pictures."/>
          <p:cNvPicPr/>
          <p:nvPr/>
        </p:nvPicPr>
        <p:blipFill>
          <a:blip r:embed="rId3"/>
          <a:stretch/>
        </p:blipFill>
        <p:spPr>
          <a:xfrm>
            <a:off x="4952880" y="2590920"/>
            <a:ext cx="2743200" cy="3998880"/>
          </a:xfrm>
          <a:prstGeom prst="rect">
            <a:avLst/>
          </a:prstGeom>
          <a:ln w="0">
            <a:noFill/>
          </a:ln>
        </p:spPr>
      </p:pic>
      <p:sp>
        <p:nvSpPr>
          <p:cNvPr id="454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Summer wardrobe of deerskin and a winter wardrobe of buffalo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very Indian wore a belt to hang tools, knives or cups off of, since there were no pocket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ach tribe made a different moccasin, some were made from deerskin, quills, and bead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Hairpipes, long thin beads made from bones, were woven into the hair and kept for lif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f a man has been a great warrior he would wear a war bonnet made of eagle feathers. The greater the warrior, the more feather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Scalp Shirts"/>
          <p:cNvPicPr/>
          <p:nvPr/>
        </p:nvPicPr>
        <p:blipFill>
          <a:blip r:embed="rId1"/>
          <a:stretch/>
        </p:blipFill>
        <p:spPr>
          <a:xfrm>
            <a:off x="152280" y="228600"/>
            <a:ext cx="4614840" cy="3276720"/>
          </a:xfrm>
          <a:prstGeom prst="rect">
            <a:avLst/>
          </a:prstGeom>
          <a:ln w="0">
            <a:noFill/>
          </a:ln>
        </p:spPr>
      </p:pic>
      <p:sp>
        <p:nvSpPr>
          <p:cNvPr id="459" name="TextBox 4"/>
          <p:cNvSpPr/>
          <p:nvPr/>
        </p:nvSpPr>
        <p:spPr>
          <a:xfrm>
            <a:off x="228600" y="35053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hese shirts are made from human scalps…you don’t want to be a Plains Indian’s enem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4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457200"/>
            <a:ext cx="1609560" cy="27813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http://www.d.umn.edu/~cheaslip/headdress.jpg"/>
          <p:cNvPicPr/>
          <p:nvPr/>
        </p:nvPicPr>
        <p:blipFill>
          <a:blip r:embed="rId4"/>
          <a:stretch/>
        </p:blipFill>
        <p:spPr>
          <a:xfrm>
            <a:off x="5127480" y="3886200"/>
            <a:ext cx="4016520" cy="27813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0" descr="Go to fullsize image"/>
          <p:cNvPicPr/>
          <p:nvPr/>
        </p:nvPicPr>
        <p:blipFill>
          <a:blip r:embed="rId5"/>
          <a:stretch/>
        </p:blipFill>
        <p:spPr>
          <a:xfrm>
            <a:off x="1447920" y="4202280"/>
            <a:ext cx="1676160" cy="265572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30492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efore each hunt they performed a buffalo da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n foot it took a whole tribe to catch a buffalo, they are very dangerou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buffalo heart was left on the plains as an offer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en and women would record their lives on buffalo hides using pictograph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http://rds.yahoo.com/_ylt=A0WTeffxuM1ILzMA2GCjzbkF/SIG=12i98eifn/EXP=1221528177/**http%3A/www.saskschools.ca/~gregory/firstnations/scans/uses.jpg"/>
          <p:cNvPicPr/>
          <p:nvPr/>
        </p:nvPicPr>
        <p:blipFill>
          <a:blip r:embed="rId1"/>
          <a:stretch/>
        </p:blipFill>
        <p:spPr>
          <a:xfrm>
            <a:off x="0" y="609480"/>
            <a:ext cx="9091440" cy="5715000"/>
          </a:xfrm>
          <a:prstGeom prst="rect">
            <a:avLst/>
          </a:prstGeom>
          <a:ln w="0">
            <a:noFill/>
          </a:ln>
        </p:spPr>
      </p:pic>
      <p:sp>
        <p:nvSpPr>
          <p:cNvPr id="46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Winter Count Hide"/>
          <p:cNvPicPr/>
          <p:nvPr/>
        </p:nvPicPr>
        <p:blipFill>
          <a:blip r:embed="rId1"/>
          <a:stretch/>
        </p:blipFill>
        <p:spPr>
          <a:xfrm>
            <a:off x="0" y="990720"/>
            <a:ext cx="5340240" cy="4419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Image: Herd of buffalo feeding on the plain"/>
          <p:cNvPicPr/>
          <p:nvPr/>
        </p:nvPicPr>
        <p:blipFill>
          <a:blip r:embed="rId2"/>
          <a:stretch/>
        </p:blipFill>
        <p:spPr>
          <a:xfrm>
            <a:off x="4952880" y="380880"/>
            <a:ext cx="3048120" cy="2000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http://upload.wikimedia.org/wikipedia/commons/thumb/8/8d/American_bison_k5680-1.jpg/180px-American_bison_k5680-1.jpg"/>
          <p:cNvPicPr/>
          <p:nvPr/>
        </p:nvPicPr>
        <p:blipFill>
          <a:blip r:embed="rId3"/>
          <a:stretch/>
        </p:blipFill>
        <p:spPr>
          <a:xfrm>
            <a:off x="5105520" y="2819520"/>
            <a:ext cx="3824280" cy="2485800"/>
          </a:xfrm>
          <a:prstGeom prst="rect">
            <a:avLst/>
          </a:prstGeom>
          <a:ln w="0">
            <a:noFill/>
          </a:ln>
        </p:spPr>
      </p:pic>
      <p:sp>
        <p:nvSpPr>
          <p:cNvPr id="47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lains Indians lived in the middle region of the United Stat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is roughly west of the Mississippi River and east of the Rocky Mountai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land is made up of miles of treeless grasslands….which is perfect grazing fields for buffalo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30492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lains Indians were the tribes to hold onto their culture the longest out of all of the American Indian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is because the plains were the last to be settled and the hardest to live off of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en the white man came, it changed where they lived, the tools they used, and what they at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 of the largest Indian Reservations are located in the Great Plains today. (South Dakota and Oklahoma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8" descr="Chief Sitting Bull"/>
          <p:cNvPicPr/>
          <p:nvPr/>
        </p:nvPicPr>
        <p:blipFill>
          <a:blip r:embed="rId1"/>
          <a:stretch/>
        </p:blipFill>
        <p:spPr>
          <a:xfrm>
            <a:off x="6934320" y="152280"/>
            <a:ext cx="2066760" cy="29718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Crazy"/>
          <p:cNvPicPr/>
          <p:nvPr/>
        </p:nvPicPr>
        <p:blipFill>
          <a:blip r:embed="rId2"/>
          <a:stretch/>
        </p:blipFill>
        <p:spPr>
          <a:xfrm>
            <a:off x="0" y="152280"/>
            <a:ext cx="3238560" cy="47628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Crazy Horse model in foreground with mountain in background."/>
          <p:cNvPicPr/>
          <p:nvPr/>
        </p:nvPicPr>
        <p:blipFill>
          <a:blip r:embed="rId3"/>
          <a:stretch/>
        </p:blipFill>
        <p:spPr>
          <a:xfrm>
            <a:off x="2209680" y="3186000"/>
            <a:ext cx="5334120" cy="3672000"/>
          </a:xfrm>
          <a:prstGeom prst="rect">
            <a:avLst/>
          </a:prstGeom>
          <a:ln w="0">
            <a:noFill/>
          </a:ln>
        </p:spPr>
      </p:pic>
      <p:sp>
        <p:nvSpPr>
          <p:cNvPr id="479" name="TextBox 10"/>
          <p:cNvSpPr/>
          <p:nvPr/>
        </p:nvSpPr>
        <p:spPr>
          <a:xfrm>
            <a:off x="5715000" y="45720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tting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1"/>
          <p:cNvSpPr/>
          <p:nvPr/>
        </p:nvSpPr>
        <p:spPr>
          <a:xfrm>
            <a:off x="304920" y="53341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razy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Image:Indian reservations.gif"/>
          <p:cNvPicPr/>
          <p:nvPr/>
        </p:nvPicPr>
        <p:blipFill>
          <a:blip r:embed="rId1"/>
          <a:stretch/>
        </p:blipFill>
        <p:spPr>
          <a:xfrm>
            <a:off x="152280" y="609480"/>
            <a:ext cx="8956800" cy="6058080"/>
          </a:xfrm>
          <a:prstGeom prst="rect">
            <a:avLst/>
          </a:prstGeom>
          <a:ln w="0">
            <a:noFill/>
          </a:ln>
        </p:spPr>
      </p:pic>
      <p:sp>
        <p:nvSpPr>
          <p:cNvPr id="483" name="TextBox 2"/>
          <p:cNvSpPr/>
          <p:nvPr/>
        </p:nvSpPr>
        <p:spPr>
          <a:xfrm>
            <a:off x="2666880" y="6858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here Indian Reservations are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515240" y="-3290760"/>
            <a:ext cx="22860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3" name="Picture 5" descr="Image:Nordamerikanische Kulturareale e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Straight Arrow Connector 5" descr=""/>
          <p:cNvPicPr/>
          <p:nvPr/>
        </p:nvPicPr>
        <p:blipFill>
          <a:blip r:embed="rId3"/>
          <a:stretch/>
        </p:blipFill>
        <p:spPr>
          <a:xfrm>
            <a:off x="1731960" y="3371760"/>
            <a:ext cx="4565520" cy="15606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6"/>
          <p:cNvSpPr/>
          <p:nvPr/>
        </p:nvSpPr>
        <p:spPr>
          <a:xfrm>
            <a:off x="304920" y="190512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n between the Mississi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River and the Rocky 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ome well known tribes in the Plains region are the…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row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oux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eyen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pach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nce they moved around a lot you will find variations in the tribes, ex: the dakota-sioux, teton-sioux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Sioux Chief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4479840" cy="3200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Lakota Sioux Indian Village"/>
          <p:cNvPicPr/>
          <p:nvPr/>
        </p:nvPicPr>
        <p:blipFill>
          <a:blip r:embed="rId3"/>
          <a:stretch/>
        </p:blipFill>
        <p:spPr>
          <a:xfrm>
            <a:off x="3429000" y="2647800"/>
            <a:ext cx="5715000" cy="421020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best hunters had the highest rank in their tribe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 man was also judged by how many horses he was able to obtain and if he shared them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en hunted deer, rabbit and elk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ogs would pull their catch back to camp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2">
            <a:hlinkClick r:id="rId1"/>
          </p:cNvPr>
          <p:cNvSpPr/>
          <p:nvPr/>
        </p:nvSpPr>
        <p:spPr>
          <a:xfrm>
            <a:off x="123840" y="-1257480"/>
            <a:ext cx="243828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Sioux Warrio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609480"/>
            <a:ext cx="3124080" cy="3355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Stock Photo of  native american indians ogallala sioux archival photo  "/>
          <p:cNvPicPr/>
          <p:nvPr/>
        </p:nvPicPr>
        <p:blipFill>
          <a:blip r:embed="rId4"/>
          <a:stretch/>
        </p:blipFill>
        <p:spPr>
          <a:xfrm>
            <a:off x="4495680" y="533520"/>
            <a:ext cx="4280040" cy="31431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http://rds.yahoo.com/_ylt=A0WTb_4cwc1Ifw0Bt8KjzbkF/SIG=12t0egdf0/EXP=1221530268/**http%3A/www.majesticview1.com/images/NAID%2520Pics/dog_indians_travois.jpg"/>
          <p:cNvPicPr/>
          <p:nvPr/>
        </p:nvPicPr>
        <p:blipFill>
          <a:blip r:embed="rId5"/>
          <a:stretch/>
        </p:blipFill>
        <p:spPr>
          <a:xfrm>
            <a:off x="5029200" y="4114800"/>
            <a:ext cx="2428920" cy="22478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90720" y="4648320"/>
            <a:ext cx="3182760" cy="1704960"/>
          </a:xfrm>
          <a:prstGeom prst="rect">
            <a:avLst/>
          </a:prstGeom>
          <a:ln w="0">
            <a:noFill/>
          </a:ln>
        </p:spPr>
      </p:pic>
      <p:sp>
        <p:nvSpPr>
          <p:cNvPr id="43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 Plains women excelled at quillwork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se quills were sewn in clothing and used for artwork on tipi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Women chores were fetching water, sweeping, hoeing the fields, cooking and sewing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 land far from rivers were tough to garden, but near rivers they would grow corn, squash and sunflower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y mostly picked berries and nu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y were seen as inferior, not to speak unless spoken t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Indian Woman Cook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971800" cy="39225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Sioux Indian Maide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228600"/>
            <a:ext cx="3429000" cy="47782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http://rds.yahoo.com/_ylt=A0WTb_iOwM1IS70ACSejzbkF/SIG=12pm9ipi3/EXP=1221530126/**http%3A/www.digital.library.upenn.edu/women/buffalo/garden/plate-3.gif"/>
          <p:cNvPicPr/>
          <p:nvPr/>
        </p:nvPicPr>
        <p:blipFill>
          <a:blip r:embed="rId5"/>
          <a:stretch/>
        </p:blipFill>
        <p:spPr>
          <a:xfrm>
            <a:off x="3200400" y="2838600"/>
            <a:ext cx="2828880" cy="4019400"/>
          </a:xfrm>
          <a:prstGeom prst="rect">
            <a:avLst/>
          </a:prstGeom>
          <a:ln w="0">
            <a:noFill/>
          </a:ln>
        </p:spPr>
      </p:pic>
      <p:sp>
        <p:nvSpPr>
          <p:cNvPr id="43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3:24:19Z</dcterms:created>
  <dc:creator>Christine Goff</dc:creator>
  <dc:description/>
  <dc:language>en-US</dc:language>
  <cp:lastModifiedBy>Legion</cp:lastModifiedBy>
  <dcterms:modified xsi:type="dcterms:W3CDTF">2017-07-05T12:20:17Z</dcterms:modified>
  <cp:revision>25</cp:revision>
  <dc:subject/>
  <dc:title>The Plains Indians</dc:title>
</cp:coreProperties>
</file>