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BF6E2-D293-48F4-AA04-F4A7012A031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ins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: Aureliano Adame Jr., Zach Roth, Paul Fisher, and Kyle Gerw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ins India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: Aureliano Adame Jr., Zach Roth, Paul Fisher, and Kyle Gerw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Interesting Facts About the Pawm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wnee name derived from Caddoan pariki, meaning “horn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 were excellent hunt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hunted quail, raccoons, skunks, and prairie chicke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Interesting Facts About the Pawm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wnee name derived from Caddoan pariki, meaning “horn”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n were excellent hunt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hunted quail, raccoons, skunks, and prairie chicke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ackFoot Tri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d- Monta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hey Lived- They were excellent warriors. They were also very good hunt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ey Wore- They wore many animals skins and used mother nature to supply there col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lackFoot Trib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ed- Monta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They Lived- They were excellent warriors. They were also very good hunt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They Wore- They wore many animals skins and used mother nature to supply there col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Interesting Facts About Blackf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alled Blackfoot because of how they wore black moccas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part of the buffalo was used for various reasons. It was never was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lived in buffalo made teepe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Interesting Facts About Blackfoo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are called Blackfoot because of how they wore black moccasi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 part of the buffalo was used for various reasons. It was never wast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lived in buffalo made teepe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 Ci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utexas.edu/courses/wilson/ant304/projects/projects98/krochenskip/krochenskip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en.wikipedia.org/wiki/Cheyen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cheyenneindian.com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accessgenealogy.com/native/tribes/pawnee/pawneehist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kshs.org/places/pawneeindian/history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onofthesouth.net/union-generals/sioux-indians/sioux-indians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eiu.edu/~lewclark/bvsioux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Ci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utexas.edu/courses/wilson/ant304/projects/projects98/krochenskip/krochenskip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en.wikipedia.org/wiki/Cheyen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cheyenneindian.com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accessgenealogy.com/native/tribes/pawnee/pawneehist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kshs.org/places/pawneeindian/history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sonofthesouth.net/union-generals/sioux-indians/sioux-indians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eiu.edu/~lewclark/bvsioux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apaho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ikara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iniboine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sina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ule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yenne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pewyan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e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ow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kota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datsa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inah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dan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glala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age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o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egan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nca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paw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rsi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ksika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ton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chita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anktonai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ib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apaho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ikara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siniboine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sina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ule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yenne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ipewyan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ee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ow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kota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datsa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ainah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ndan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glala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age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to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egan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nca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apaw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rsi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ksika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ton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chita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anktonai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oux Tri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d: Dakota’s, Kansas, Nebraska, Montana, and Wyom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hey lived: Nomadic and moved frequently followed buffalo herds and lodged in teepe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matter how often they moved they were a united trib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oux Trib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ed: Dakota’s, Kansas, Nebraska, Montana, and Wyom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they lived: Nomadic and moved frequently followed buffalo herds and lodged in teepe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matter how often they moved they were a united trib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oux Tribe Con’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ey wore: strips of leather in their hair to keep their hair pulled bac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thes were all made of animal skin (mostly deer skin). Women wore long dresses and leggings, men wore deerskins shirts and tight legg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oux Tribe Con’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they wore: strips of leather in their hair to keep their hair pulled back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othes were all made of animal skin (mostly deer skin). Women wore long dresses and leggings, men wore deerskins shirts and tight legging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Interesting Facts On Siou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oux means “Little Snake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 themselves to Lakota/Dako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cial activities powow, rodeos, and r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Interesting Facts On Siou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oux means “Little Snake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fer themselves to Lakota/Dako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cial activities powow, rodeos, and ra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yenne Tri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d- Great Plains east of Rocky Mountains west of Mississippi River, Settled in Montana and Oklahom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hey Lived- Took care of morning chores after waking up, men prepared to start hunting, women would keep the camp in or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yenne Trib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ed- Great Plains east of Rocky Mountains west of Mississippi River, Settled in Montana and Oklahom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They Lived- Took care of morning chores after waking up, men prepared to start hunting, women would keep the camp in ord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yenne Tri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ey Wore- Men wore hip-leggings made of deerskin, women wore moccasins knee length leggings and dresses made of deersk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yenne Trib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They Wore- Men wore hip-leggings made of deerskin, women wore moccasins knee length leggings and dresses made of deersk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Interesting Facts About the Cheyenn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yenee customs was smoking of the peace pi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had their own langu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ir homes were made from logs and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Interesting Facts About the Cheyenn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yenee customs was smoking of the peace pip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had their own languag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ir homes were made from logs and ear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wnee Tri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d- Valley of Platte River, Nebras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hey Lived- Women grew crops and made pottery, women were perceived as the power of life, men would hu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ey Wore- Women wore skirts and moccasins, and in the winter they wore buckskin dresses, men would wear loin cloths in warmer wea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wnee Trib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ed- Valley of Platte River, Nebrask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They Lived- Women grew crops and made pottery, women were perceived as the power of life, men would hu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They Wore- Women wore skirts and moccasins, and in the winter they wore buckskin dresses, men would wear loin cloths in warmer wea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7549-BF52-48CE-9A1F-767D643D1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F839-EE2F-4959-9CAA-890668D3E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3C81-E2C8-409D-9EB0-BD17368C2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355A-91EC-4165-9526-24BEF884B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2BF09-CBF1-457A-8740-CFA88AB27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89831-77A8-4F67-A436-863DF734C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16043-36A0-4EF2-A396-BCF84A01B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0767E-B2E6-4232-9A96-A840CBCE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9E26C-3711-46C1-BA4E-0D1D2E136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21B9F-E4DE-40F2-A860-F3B64393D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C4B0B-6E3B-458A-8D47-118B5F03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54CF-FF03-4EB0-91E7-FD5358D77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64B0E-4264-4464-B191-E2A17C51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C22A2-1BF6-4CD4-B2B6-6449148E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0ACE3-6BE6-4E2D-9097-B6AF344BF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A7F2B-6FA5-4293-84F1-DAA1AFD07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3ACCA-8314-4668-8100-E9D12D5F1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F787-830F-4CCC-8FC1-45611FF47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BDF0-937F-43F4-9789-FAD6B5B5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C41E-DD3E-40DE-9D97-25BAAEF63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21CE-3720-4875-B7BF-A10154A4D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26B7-4A22-49D0-A360-91DC61EB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F8FF-745C-4A4D-96C9-7B3F057E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828B-A74D-435F-8982-8EBE610C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587E4-ECB3-490B-B07F-5454D2AD4D3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83589-38D3-484E-B151-28DC270BE62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utexas.edu/courses/wilson/ant304/projects/projects98/krochenskip/krochenskip.html" TargetMode="External"/><Relationship Id="rId2" Type="http://schemas.openxmlformats.org/officeDocument/2006/relationships/hyperlink" Target="http://en.wikipedia.org/wiki/Cheyenne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Plains Indians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y: Aureliano Adame Jr., Zach Roth, Paul Fisher, and Kyle Gerwi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25116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 Interesting Facts About the Pawme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awnee name derived from Caddoan pariki, meaning “horn”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n were excellent hunter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y hunted quail, raccoons, skunks, and prairie chicken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lackFoot Trib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Lived- Montana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w They Lived- They were excellent warriors. They were also very good hunter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They Wore- They wore many animals skins and used mother nature to supply there colthi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 Interesting Facts About Blackfoo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y are called Blackfoot because of how they wore black moccasin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very part of the buffalo was used for various reasons. It was never wast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y lived in buffalo made teepee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k Cite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9900"/>
                </a:solidFill>
                <a:uFillTx/>
                <a:latin typeface="Arial"/>
                <a:hlinkClick r:id="rId1"/>
              </a:rPr>
              <a:t>http://www.utexas.edu/courses/wilson/ant304/projects/projects98/krochenskip/krochenskip.htm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9900"/>
                </a:solidFill>
                <a:uFillTx/>
                <a:latin typeface="Arial"/>
                <a:hlinkClick r:id="rId2"/>
              </a:rPr>
              <a:t>http://en.wikipedia.org/wiki/Cheyenn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ttp://www.cheyenneindian.com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ttp://www.accessgenealogy.com/native/tribes/pawnee/pawneehist.ht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ttp://www.kshs.org/places/pawneeindian/history.ht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ttp://www.sonofthesouth.net/union-generals/sioux-indians/sioux-indians.ht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ttp://www.eiu.edu/~lewclark/bvsioux.htm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ib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44956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Arapaho Indian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Arikara Indian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Assiniboine Indian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Atsina Indian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Brule Indian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Cheyenne Indian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Chipewyan Indian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Cree Indian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Crow Indian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Dakota Indian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Hidatsa Indian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7" descr="plainsT"/>
          <p:cNvPicPr/>
          <p:nvPr/>
        </p:nvPicPr>
        <p:blipFill>
          <a:blip r:embed="rId1"/>
          <a:stretch/>
        </p:blipFill>
        <p:spPr>
          <a:xfrm>
            <a:off x="5486400" y="1828800"/>
            <a:ext cx="3170160" cy="37004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9"/>
          <p:cNvSpPr/>
          <p:nvPr/>
        </p:nvSpPr>
        <p:spPr>
          <a:xfrm>
            <a:off x="3429000" y="1752480"/>
            <a:ext cx="3276720" cy="37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Kainah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ndan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glala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sage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to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iegan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nca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apaw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rsi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ksika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ton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chita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Yanktonai Indian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ioux Trib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Lived: Dakota’s, Kansas, Nebraska, Montana, and Wyoming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w they lived: Nomadic and moved frequently followed buffalo herds and lodged in teepee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o matter how often they moved they were a united trib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ioux Tribe Con’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they wore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ips of leather in their hair to keep their hair pulled back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thes were all made of animal skin (mostly deer skin). Women wore long dresses and leggings, men wore deerskins shirts and tight legging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 Interesting Facts On Sioux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oux means “Little Snake”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fer themselves to Lakota/Dakota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ocial activities powow, rodeos, and rac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eyenne Trib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Lived- Great Plains east of Rocky Mountains west of Mississippi River, Settled in Montana and Oklahoma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w They Lived- Took care of morning chores after waking up, men prepared to start hunting, women would keep the camp in order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eyenne Trib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They Wore- Men wore hip-leggings made of deerskin, women wore moccasins knee length leggings and dresses made of deerski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 Interesting Facts About the Cheyenne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yenee customs was smoking of the peace pip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had their own langu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homes were made from logs and ear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awnee Trib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Lived- Valley of Platte River, Nebraska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w They Lived- Women grew crops and made pottery, women were perceived as the power of life, men would hun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They Wore- Women wore skirts and moccasins, and in the winter they wore buckskin dresses, men would wear loin cloths in warmer weathe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8T15:51:54Z</dcterms:created>
  <dc:creator>Penta Career Center</dc:creator>
  <dc:description/>
  <dc:language>en-US</dc:language>
  <cp:lastModifiedBy>Legion</cp:lastModifiedBy>
  <dcterms:modified xsi:type="dcterms:W3CDTF">2017-07-05T12:26:24Z</dcterms:modified>
  <cp:revision>6</cp:revision>
  <dc:subject/>
  <dc:title>Plains Indians</dc:title>
</cp:coreProperties>
</file>