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2D09-4EF0-4B8E-AEF9-F6E4D744233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ins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: Aureliano Adame Jr., Zach Roth, Paul Fisher, and Kyle Gerw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ins Indi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: Aureliano Adame Jr., Zach Roth, Paul Fisher, and Kyle Gerw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Interesting Facts About the Pawm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wnee name derived from Caddoan pariki, meaning “horn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were excellent hun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unted quail, raccoons, skunks, and prairie chick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Interesting Facts About the Pawm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wnee name derived from Caddoan pariki, meaning “horn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 were excellent hunt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hunted quail, raccoons, skunks, and prairie chicke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Foot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- Monta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y Lived- They were excellent warriors. They were also very good hun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Wore- They wore many animals skins and used mother nature to supply there col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ackFoot Tri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d- Monta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hey Lived- They were excellent warriors. They were also very good hunt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They Wore- They wore many animals skins and used mother nature to supply there col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Interesting Facts About Blackf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Blackfoot because of how they wore black moccas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part of the buffalo was used for various reasons. It was never was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ved in buffalo made teepe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Interesting Facts About Blackfo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called Blackfoot because of how they wore black moccasi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part of the buffalo was used for various reasons. It was never was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lived in buffalo made teepe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 C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utexas.edu/courses/wilson/ant304/projects/projects98/krochenskip/krochenskip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en.wikipedia.org/wiki/Cheyen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cheyenneindian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ccessgenealogy.com/native/tribes/pawnee/pawneehist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kshs.org/places/pawneeindian/history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onofthesouth.net/union-generals/sioux-indians/sioux-indians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iu.edu/~lewclark/bvsioux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Ci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utexas.edu/courses/wilson/ant304/projects/projects98/krochenskip/krochenskip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en.wikipedia.org/wiki/Cheyen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cheyenneindian.com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accessgenealogy.com/native/tribes/pawnee/pawneehist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kshs.org/places/pawneeindian/history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sonofthesouth.net/union-generals/sioux-indians/sioux-indians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iu.edu/~lewclark/bvsioux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apaho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ikar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iniboine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sin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ule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ne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pewyan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e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w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kot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dats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inah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dan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glal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age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o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egan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nc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paw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si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ksik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ton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chita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anktonai Indi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ib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apaho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ikar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siniboine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sin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ule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yenne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ipewyan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e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ow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kot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dats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ainah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ndan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glal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age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o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egan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nc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apaw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rsi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ksik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ton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chita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anktonai India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: Dakota’s, Kansas, Nebraska, Montana, and Wyom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y lived: Nomadic and moved frequently followed buffalo herds and lodged in teepe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atter how often they moved they were a united trib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oux Tri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d: Dakota’s, Kansas, Nebraska, Montana, and Wyom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hey lived: Nomadic and moved frequently followed buffalo herds and lodged in teepe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matter how often they moved they were a united trib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 Tribe Con’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wore: strips of leather in their hair to keep their hair pulled bac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thes were all made of animal skin (mostly deer skin). Women wore long dresses and leggings, men wore deerskins shirts and tight legg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oux Tribe Con’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they wore: strips of leather in their hair to keep their hair pulled back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thes were all made of animal skin (mostly deer skin). Women wore long dresses and leggings, men wore deerskins shirts and tight legging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Interesting Facts On Sio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 means “Little Snak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 themselves to Lakota/Dako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activities powow, rodeos, and r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Interesting Facts On Siou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oux means “Little Snak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fer themselves to Lakota/Dako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cial activities powow, rodeos, and ra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ne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- Great Plains east of Rocky Mountains west of Mississippi River, Settled in Montana and Oklaho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y Lived- Took care of morning chores after waking up, men prepared to start hunting, women would keep the camp in 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yenne Tri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d- Great Plains east of Rocky Mountains west of Mississippi River, Settled in Montana and Oklahom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hey Lived- Took care of morning chores after waking up, men prepared to start hunting, women would keep the camp in ord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ne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Wore- Men wore hip-leggings made of deerskin, women wore moccasins knee length leggings and dresses made of deersk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yenne Tri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They Wore- Men wore hip-leggings made of deerskin, women wore moccasins knee length leggings and dresses made of deersk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Interesting Facts About the Cheyenn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ee customs was smoking of the peace pi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d their own langu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ir homes were made from logs and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Interesting Facts About the Cheyenn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yenee customs was smoking of the peace pi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had their own langu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ir homes were made from logs and ear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wnee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- Valley of Platte River, Nebras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y Lived- Women grew crops and made pottery, women were perceived as the power of life, men would h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y Wore- Women wore skirts and moccasins, and in the winter they wore buckskin dresses, men would wear loin cloths in warmer wea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wnee Tri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d- Valley of Platte River, Nebrask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hey Lived- Women grew crops and made pottery, women were perceived as the power of life, men would hu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They Wore- Women wore skirts and moccasins, and in the winter they wore buckskin dresses, men would wear loin cloths in warmer 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B254-2006-4A6C-A764-B407D33BB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044B-4CAA-488A-93F7-F6903998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18C2-71EA-45B3-9BC8-5C447CFE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482B-6960-4613-988B-93D91D678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5EA7-35A2-4A87-8CDE-7CFC48F7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1CE9-628A-4428-B0F3-73A4F8F5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3798-3D16-4E8F-8CEC-6DDD3EAA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F9FF-179B-426A-AF8E-F764CD0C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88FD-8F75-4614-AAF9-445143C6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FD8D-2320-46D8-AA53-30439DE8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E7F2-303F-4F8C-AF78-405224BF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45E1-FC68-4129-A6BA-3B8F5BFD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F5E4-6111-4FCF-8223-A052742C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C821-D6DF-4F15-BEDD-2A417303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B092-2784-4B31-A5E8-F3A73294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7D9E-56AD-4432-8F49-8FC2407B8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1348-C1C4-4394-8CAC-9AC84A5B7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9449-2F16-4653-9DF4-B5BC66D5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65A2-45DE-4A3A-94AB-FF3C3AAE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1789-EF80-4388-9F6B-1A9D98CC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BF4C-7B6B-4807-9FC0-1CF7A4A8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E357-B5F5-4FA7-AA5E-4D4BDF0C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9FC0-353C-4496-9885-CFC5FFFE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FFAC-227B-4AAC-B515-D32A2399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37BC-85FD-4645-86D6-744684FE52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890C-B676-473F-A818-0F39607185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utexas.edu/courses/wilson/ant304/projects/projects98/krochenskip/krochenskip.html" TargetMode="External"/><Relationship Id="rId2" Type="http://schemas.openxmlformats.org/officeDocument/2006/relationships/hyperlink" Target="http://en.wikipedia.org/wiki/Cheyenn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Plains Indians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y: Aureliano Adame Jr., Zach Roth, Paul Fisher, and Kyle Gerw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25116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 Interesting Facts About the Pawme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awnee name derived from Caddoan pariki, meaning “horn”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n were excellent hunter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hunted quail, raccoons, skunks, and prairie chicken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lackFoot Trib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ived- Montan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w They Lived- They were excellent warriors. They were also very good hunter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They Wore- They wore many animals skins and used mother nature to supply there colth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 Interesting Facts About Blackfoo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are called Blackfoot because of how they wore black moccasin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very part of the buffalo was used for various reasons. It was never wast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lived in buffalo made teepe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k Cit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9900"/>
                </a:solidFill>
                <a:uFillTx/>
                <a:latin typeface="Arial"/>
                <a:hlinkClick r:id="rId1"/>
              </a:rPr>
              <a:t>http://www.utexas.edu/courses/wilson/ant304/projects/projects98/krochenskip/krochenskip.htm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9900"/>
                </a:solidFill>
                <a:uFillTx/>
                <a:latin typeface="Arial"/>
                <a:hlinkClick r:id="rId2"/>
              </a:rPr>
              <a:t>http://en.wikipedia.org/wiki/Cheyen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cheyenneindian.com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accessgenealogy.com/native/tribes/pawnee/pawneehist.ht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kshs.org/places/pawneeindian/history.ht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sonofthesouth.net/union-generals/sioux-indians/sioux-indians.ht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eiu.edu/~lewclark/bvsioux.htm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ib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44956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rapaho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rikara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ssiniboine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tsina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Brule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heyenne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hipewyan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ree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row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Dakota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Hidatsa Indian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7" descr="plainsT"/>
          <p:cNvPicPr/>
          <p:nvPr/>
        </p:nvPicPr>
        <p:blipFill>
          <a:blip r:embed="rId1"/>
          <a:stretch/>
        </p:blipFill>
        <p:spPr>
          <a:xfrm>
            <a:off x="5486400" y="1828800"/>
            <a:ext cx="3170160" cy="3700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3429000" y="1752480"/>
            <a:ext cx="3276720" cy="37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ainah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ndan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glala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sage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to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iegan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nca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apaw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rsi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ksika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ton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chita India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anktonai India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oux Trib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ived: Dakota’s, Kansas, Nebraska, Montana, and Wyoming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w they lived: Nomadic and moved frequently followed buffalo herds and lodged in teepe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 matter how often they moved they were a united trib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oux Tribe Con’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they wore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ips of leather in their hair to keep their hair pulled bac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thes were all made of animal skin (mostly deer skin). Women wore long dresses and leggings, men wore deerskins shirts and tight leggin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 Interesting Facts On Siou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oux means “Little Snake”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fer themselves to Lakota/Dakot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ocial activities powow, rodeos, and rac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yenne Trib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ived- Great Plains east of Rocky Mountains west of Mississippi River, Settled in Montana and Oklahoma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w They Lived- Took care of morning chores after waking up, men prepared to start hunting, women would keep the camp in ord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yenne Trib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They Wore- Men wore hip-leggings made of deerskin, women wore moccasins knee length leggings and dresses made of deerski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 Interesting Facts About the Cheyenne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yenee customs was smoking of the peace pi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ad their own langu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homes were made from logs and ear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wnee Trib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ived- Valley of Platte River, Nebrask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w They Lived- Women grew crops and made pottery, women were perceived as the power of life, men would hu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They Wore- Women wore skirts and moccasins, and in the winter they wore buckskin dresses, men would wear loin cloths in warmer weath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15:51:54Z</dcterms:created>
  <dc:creator>Penta Career Center</dc:creator>
  <dc:description/>
  <dc:language>en-US</dc:language>
  <cp:lastModifiedBy>Legion</cp:lastModifiedBy>
  <dcterms:modified xsi:type="dcterms:W3CDTF">2017-07-05T12:26:24Z</dcterms:modified>
  <cp:revision>6</cp:revision>
  <dc:subject/>
  <dc:title>Plains Indians</dc:title>
</cp:coreProperties>
</file>