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69FB-0EBE-4297-86D7-1D40FC41A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k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k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r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r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r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r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ver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ver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man with Wolve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man with Wolve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ve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ve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wk Ma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wk Ma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quito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quito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Coast Tribes:  Tlingit (Tooling git), Tsimshian (Chim she an), Haida (Hi duh), Nootka, Kwakiutl (Quack ee oodle), Coast Salish, Bellabella and Bella Co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lands have plenty of rain, trees and a mild climate. The ocean and rivers provide food, transportation and trade. These people were not farm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Coast Tribes:  Tlingit (Tooling git), Tsimshian (Chim she an), Haida (Hi duh), Nootka, Kwakiutl (Quack ee oodle), Coast Salish, Bellabella and Bella Co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lands have plenty of rain, trees and a mild climate. The ocean and rivers provide food, transportation and trade. These people were not farm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bliograph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Indian Designs by Caren Car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tional Design Library , 19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North American Art by Janet C. Berlo &amp; Ruth B. Phil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ns of the Northwest Traditions, History, Legends, and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ra Press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ivilization.ca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lcheringa-gallery.com/ http://www.blacktush.ca/ http://www.serial-design.com/ - http://www.serial-design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hichesterinc.com/NWCMask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n Indian Motifs CD-Rom and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ver Publications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bliograph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Indian Designs by Caren Car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tional Design Library , 19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North American Art by Janet C. Berlo &amp; Ruth B. Phil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ns of the Northwest Traditions, History, Legends, and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ra Press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ivilization.ca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lcheringa-gallery.com/ http://www.blacktush.ca/ http://www.serial-design.com/ - http://www.serial-design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hichesterinc.com/NWCMask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n Indian Motifs CD-Rom and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ver Publications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need to complete one of these work sheets once you have finished your mask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need to complete one of these work sheets once you have finished your mask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rait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rait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 Ma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 Ma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d Woma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d Woma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F1B4-C653-45DD-BBE4-0EFB358DB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280D-7FF3-47CB-A859-9A00BE64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E99E-6CC8-40F4-A446-A5EE55070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784E-80F7-487E-B814-CBAD54BC3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901B-5D59-4E40-9263-6A1DD9662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CC6B-2726-41AD-9A2C-299136A4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32F5-2930-4D8A-BA8C-9236EBCC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36B0-F7B1-4DC5-AF5F-F4C4A2E7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F348A-180F-40AF-9E53-C7417D00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C881-38F6-4B42-A687-0E18A639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7EF9C-3035-4D80-B3C9-D7A5946D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04FE-5A18-46DD-8A8E-E602BBD2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1EEE4-7AFA-4AE1-BF30-4F5F093E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C354-B1D4-473E-A904-37B8C738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8B7B-1458-4B7B-AA21-2001DCD0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C4631-C04F-4813-BEEB-35276C8D4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983B-D11A-4EC7-B5E8-7DA754509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EA3E5-28EA-4F83-B9AA-2BAE3DAB0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CBB81-8AD8-41B7-99CF-12A8150E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ACAB0-C64A-461B-A367-CC2B9271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6D9B9-766B-491A-8B58-F91D2BE9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E0C03-EF62-4D52-909C-8AC489AD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CABD-A0EE-4A5B-8FE1-AFE2506B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D04D2-B0E0-4913-A327-959297EC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094A2-49F2-4355-BA3E-1A2E8564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9FAF3-9F66-4A72-B502-2302C620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8D35F-C431-400D-883E-D786D1A9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C3F92-CA96-4A60-B353-FDE5C664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6B87D-B859-4684-90B5-F0A559EA7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C27DA-ED4D-46D1-AAB2-AB7D2C9F8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48CE-A64C-47F8-BB3B-D342F3AF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0273-4A77-4548-BF5A-B9E3F441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A6BA-42D0-4DAB-8863-9ABE36F3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9A58-7C89-4F4C-93CD-B9B224B6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529C-B8B6-4B1F-BFAD-2BAE968A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3EDD-0B9E-4063-B1AC-72668794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C3C8-3BB6-4043-8F8B-A6CE52B43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E124-ECCE-4D5F-9726-5DDAD4BDA5B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106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107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493D-AC3B-46C3-ADA6-B90D1D79D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1066680" y="380880"/>
            <a:ext cx="7772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Su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" descr=""/>
          <p:cNvPicPr/>
          <p:nvPr/>
        </p:nvPicPr>
        <p:blipFill>
          <a:blip r:embed="rId1"/>
          <a:stretch/>
        </p:blipFill>
        <p:spPr>
          <a:xfrm>
            <a:off x="3505320" y="992160"/>
            <a:ext cx="5486400" cy="541332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Shark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4952880" y="76320"/>
            <a:ext cx="3954600" cy="661824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Bear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"/>
          <p:cNvPicPr/>
          <p:nvPr/>
        </p:nvPicPr>
        <p:blipFill>
          <a:blip r:embed="rId1"/>
          <a:stretch/>
        </p:blipFill>
        <p:spPr>
          <a:xfrm>
            <a:off x="4275000" y="457200"/>
            <a:ext cx="4616640" cy="591804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Bear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1"/>
          <a:stretch/>
        </p:blipFill>
        <p:spPr>
          <a:xfrm>
            <a:off x="4038480" y="303120"/>
            <a:ext cx="4572000" cy="632628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Beaver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"/>
          <p:cNvPicPr/>
          <p:nvPr/>
        </p:nvPicPr>
        <p:blipFill>
          <a:blip r:embed="rId1"/>
          <a:stretch/>
        </p:blipFill>
        <p:spPr>
          <a:xfrm>
            <a:off x="4114800" y="152280"/>
            <a:ext cx="4921200" cy="655344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1"/>
          <a:stretch/>
        </p:blipFill>
        <p:spPr>
          <a:xfrm>
            <a:off x="3429000" y="990720"/>
            <a:ext cx="5548320" cy="440532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3"/>
          <p:cNvSpPr/>
          <p:nvPr/>
        </p:nvSpPr>
        <p:spPr>
          <a:xfrm>
            <a:off x="1066680" y="3581280"/>
            <a:ext cx="2667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Shaman with Wolves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Rave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2971800" y="2057400"/>
            <a:ext cx="5962680" cy="443700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3"/>
          <p:cNvSpPr/>
          <p:nvPr/>
        </p:nvSpPr>
        <p:spPr>
          <a:xfrm>
            <a:off x="990720" y="4876920"/>
            <a:ext cx="312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Hawk Ma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4237200" y="762120"/>
            <a:ext cx="4197240" cy="523692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Bee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3429000" y="1057320"/>
            <a:ext cx="5638680" cy="557064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"/>
          <p:cNvPicPr/>
          <p:nvPr/>
        </p:nvPicPr>
        <p:blipFill>
          <a:blip r:embed="rId1"/>
          <a:stretch/>
        </p:blipFill>
        <p:spPr>
          <a:xfrm>
            <a:off x="1066680" y="2719440"/>
            <a:ext cx="7925040" cy="406224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7"/>
          <p:cNvSpPr/>
          <p:nvPr/>
        </p:nvSpPr>
        <p:spPr>
          <a:xfrm>
            <a:off x="4724280" y="121932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Mosquito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990720" y="7632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cc"/>
                </a:solidFill>
                <a:uFillTx/>
                <a:latin typeface="Arial"/>
              </a:rPr>
              <a:t>Northwest Coast Tribes:</a:t>
            </a: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  Tlingit (Tooling git), Tsimshian (Chim she an), Haida (Hi duh), Nootka, Kwakiutl (Quack ee oodle), Coast Salish, Bellabella and Bella Co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2438280" y="1895400"/>
            <a:ext cx="5486400" cy="34387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6"/>
          <p:cNvSpPr/>
          <p:nvPr/>
        </p:nvSpPr>
        <p:spPr>
          <a:xfrm>
            <a:off x="1219320" y="525780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These lands have plenty of rain, trees and a mild climate. The ocean and rivers provide food, transportation and trade. These people were not farm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5"/>
          <p:cNvSpPr/>
          <p:nvPr/>
        </p:nvSpPr>
        <p:spPr>
          <a:xfrm>
            <a:off x="1219320" y="228600"/>
            <a:ext cx="754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Bibliograp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aintStroke"/>
              </a:rPr>
              <a:t>Northwest Indian Designs</a:t>
            </a: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 by Caren Car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International Design Library , 19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aintStroke"/>
              </a:rPr>
              <a:t>Native North American Art</a:t>
            </a: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 by Janet C. Berlo &amp; Ruth B. Phill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aintStroke"/>
              </a:rPr>
              <a:t>Indians of the Northwest Traditions</a:t>
            </a: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, History, Legends, and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Petra Press,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http://www.civilization.ca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http://www.alcheringa-gallery.com/ http://www.blacktush.ca/ http://www.serial-design.com/ - http://www.serial-design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PaintStroke"/>
              </a:rPr>
              <a:t>www.chichesterinc.com/NWCMask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aintStroke"/>
              </a:rPr>
              <a:t>North American Indian Motifs</a:t>
            </a: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 CD-Rom and 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Dover Publications,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5" descr="Picture 2"/>
          <p:cNvPicPr/>
          <p:nvPr/>
        </p:nvPicPr>
        <p:blipFill>
          <a:blip r:embed="rId1"/>
          <a:stretch/>
        </p:blipFill>
        <p:spPr>
          <a:xfrm>
            <a:off x="3414600" y="30240"/>
            <a:ext cx="5119920" cy="679608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6"/>
          <p:cNvSpPr/>
          <p:nvPr/>
        </p:nvSpPr>
        <p:spPr>
          <a:xfrm>
            <a:off x="304920" y="907920"/>
            <a:ext cx="3047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will need to complete one of these work sheets once you have finished your mask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7"/>
          <p:cNvSpPr/>
          <p:nvPr/>
        </p:nvSpPr>
        <p:spPr>
          <a:xfrm>
            <a:off x="2590920" y="1295280"/>
            <a:ext cx="1066680" cy="609840"/>
          </a:xfrm>
          <a:prstGeom prst="rightArrow">
            <a:avLst>
              <a:gd name="adj1" fmla="val 50000"/>
              <a:gd name="adj2" fmla="val 437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8"/>
          <p:cNvSpPr/>
          <p:nvPr/>
        </p:nvSpPr>
        <p:spPr>
          <a:xfrm>
            <a:off x="2590920" y="4572000"/>
            <a:ext cx="1066680" cy="609480"/>
          </a:xfrm>
          <a:prstGeom prst="rightArrow">
            <a:avLst>
              <a:gd name="adj1" fmla="val 50000"/>
              <a:gd name="adj2" fmla="val 437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3954600" y="304920"/>
            <a:ext cx="4732200" cy="624816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Portrait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3"/>
          <p:cNvSpPr/>
          <p:nvPr/>
        </p:nvSpPr>
        <p:spPr>
          <a:xfrm>
            <a:off x="990720" y="4876920"/>
            <a:ext cx="297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Wild Ma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4002120" y="228600"/>
            <a:ext cx="4836960" cy="647712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3"/>
          <p:cNvSpPr/>
          <p:nvPr/>
        </p:nvSpPr>
        <p:spPr>
          <a:xfrm>
            <a:off x="990720" y="4876920"/>
            <a:ext cx="358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Old Woma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4454640" y="304920"/>
            <a:ext cx="4460760" cy="624816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Moo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3651120" y="380880"/>
            <a:ext cx="5416560" cy="586764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Moo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/>
          <a:stretch/>
        </p:blipFill>
        <p:spPr>
          <a:xfrm>
            <a:off x="3465360" y="914400"/>
            <a:ext cx="5526360" cy="571500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Su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3429000" y="1087560"/>
            <a:ext cx="5638680" cy="486864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Su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"/>
          <p:cNvPicPr/>
          <p:nvPr/>
        </p:nvPicPr>
        <p:blipFill>
          <a:blip r:embed="rId1"/>
          <a:stretch/>
        </p:blipFill>
        <p:spPr>
          <a:xfrm>
            <a:off x="3657600" y="1015920"/>
            <a:ext cx="5334120" cy="508644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20:34:31Z</dcterms:created>
  <dc:creator>LPS Lincoln Public Schools</dc:creator>
  <dc:description/>
  <dc:language>en-US</dc:language>
  <cp:lastModifiedBy>Legion</cp:lastModifiedBy>
  <cp:lastPrinted>2008-09-25T22:15:34Z</cp:lastPrinted>
  <dcterms:modified xsi:type="dcterms:W3CDTF">2017-07-05T12:15:59Z</dcterms:modified>
  <cp:revision>4</cp:revision>
  <dc:subject/>
  <dc:title>PowerPoint Presentation</dc:title>
</cp:coreProperties>
</file>