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2246-3EF4-45AA-9770-1B614583C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257-322D-4FFD-9D97-5A89D6B8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E9C-EDCC-4F8F-88E0-8619DA79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585-3229-4CAD-8C83-96623D7D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E3E-4A98-4BCB-BB83-3605A2FB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7736-5B8F-4C06-9E7E-7E66991C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AB6B-F12D-4483-8930-D3836D0A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4287-F058-44C2-9E56-1CE80125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8A04-3472-4BDD-A55E-5199F3C3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DDD6-B260-4675-9BF7-15F760FA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9D75-E0A9-41DF-9839-0388B107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5F52-D06B-4D49-8810-A8E97155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93C-4149-48FB-ABA3-998893EA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F720-DE0F-499B-84DD-7BD78D3E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7428-9DD7-4747-9FE6-74B2D953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E395-283F-4E09-A69A-2A00CD1C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7A08-D86C-4091-85C7-FA424413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60FA-2D23-4270-A0C7-83950FFB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0D9B4-5FDF-4AD4-AD8A-4C269144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E07ED-6497-40CD-A4A1-9798967E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2B27-164E-41F1-A96B-D236D1B1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D2264-2340-4C1E-93D0-EB057B01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59867-8856-4B25-AE0F-38BC34C1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3F8-76CE-4878-9182-C5093CEC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0067E-D8CB-42EB-A46F-C0C4973E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9E0EB-6701-42F6-889E-04577E82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E7016-9090-4534-8EA3-378237DF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40E92-5D68-4D18-9F3E-6646C48C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74BB2-3219-4D4D-BBD6-72716FC7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DE6E-349B-43CC-A648-383B4923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CF38-7DA3-4575-B2C5-59D74A70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89F-D9C3-4CC7-9E74-27BD9A22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3E8-866B-46D3-8DCF-FC67248C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20C-D9F0-4448-832D-4FC9024E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941-B9D5-4DC4-BCE3-38E1D07A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B51-9460-48B4-970F-7FCF0669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67F7-D037-4DF6-95CE-17E09A15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7F84-4534-4C2B-9A93-705EF65A9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67B0-79DB-474A-B8D6-7288C39440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6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107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EF07-B6C1-48AF-AF7D-A432A7D6E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066680" y="380880"/>
            <a:ext cx="7772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3505320" y="992160"/>
            <a:ext cx="5486400" cy="541332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rk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952880" y="76320"/>
            <a:ext cx="3954600" cy="66182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4275000" y="457200"/>
            <a:ext cx="4616640" cy="59180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4038480" y="303120"/>
            <a:ext cx="4572000" cy="63262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ve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4114800" y="152280"/>
            <a:ext cx="4921200" cy="6553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5548320" cy="44053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1066680" y="3581280"/>
            <a:ext cx="266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man with Wolves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Rave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5962680" cy="44370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990720" y="487692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Hawk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237200" y="762120"/>
            <a:ext cx="4197240" cy="52369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e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3429000" y="1057320"/>
            <a:ext cx="5638680" cy="5570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>
            <a:off x="1066680" y="2719440"/>
            <a:ext cx="7925040" cy="40622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4724280" y="12193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squito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990720" y="76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cc"/>
                </a:solidFill>
                <a:uFillTx/>
                <a:latin typeface="Arial"/>
              </a:rPr>
              <a:t>Northwest Coast Tribes: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 Tlingit (Tooling git), Tsimshian (Chim she an), Haida (Hi duh), Nootka, Kwakiutl (Quack ee oodle), Coast Salish, Bellabella and Bella Co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438280" y="1895400"/>
            <a:ext cx="5486400" cy="3438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219320" y="525780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1219320" y="228600"/>
            <a:ext cx="754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Bibl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west Indian Desig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Caren Car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nternational Design Library , 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ative North American Art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Janet C. Berlo &amp; Ruth B. Phil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Indians of the Northwest Traditio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, History, Legends,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Petra Pres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civilization.ca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alcheringa-gallery.com/ http://www.blacktush.ca/ http://www.serial-design.com/ - http://www.serial-design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PaintStroke"/>
              </a:rPr>
              <a:t>www.chichesterinc.com/NWCMask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 American Indian Motif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CD-Rom and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Dover Publication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Picture 2"/>
          <p:cNvPicPr/>
          <p:nvPr/>
        </p:nvPicPr>
        <p:blipFill>
          <a:blip r:embed="rId1"/>
          <a:stretch/>
        </p:blipFill>
        <p:spPr>
          <a:xfrm>
            <a:off x="3414600" y="30240"/>
            <a:ext cx="5119920" cy="67960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907920"/>
            <a:ext cx="3047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590920" y="1295280"/>
            <a:ext cx="1066680" cy="609840"/>
          </a:xfrm>
          <a:prstGeom prst="rightArrow">
            <a:avLst>
              <a:gd name="adj1" fmla="val 50000"/>
              <a:gd name="adj2" fmla="val 437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2590920" y="4572000"/>
            <a:ext cx="1066680" cy="609480"/>
          </a:xfrm>
          <a:prstGeom prst="rightArrow">
            <a:avLst>
              <a:gd name="adj1" fmla="val 50000"/>
              <a:gd name="adj2" fmla="val 43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954600" y="304920"/>
            <a:ext cx="4732200" cy="62481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Portrait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990720" y="48769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Wild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4002120" y="228600"/>
            <a:ext cx="4836960" cy="64771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990720" y="48769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Old Wo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4454640" y="304920"/>
            <a:ext cx="4460760" cy="62481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651120" y="380880"/>
            <a:ext cx="5416560" cy="5867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3465360" y="914400"/>
            <a:ext cx="5526360" cy="5715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3429000" y="1087560"/>
            <a:ext cx="5638680" cy="48686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3657600" y="1015920"/>
            <a:ext cx="5334120" cy="50864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0:34:31Z</dcterms:created>
  <dc:creator>LPS Lincoln Public Schools</dc:creator>
  <dc:description/>
  <dc:language>en-US</dc:language>
  <cp:lastModifiedBy>Legion</cp:lastModifiedBy>
  <cp:lastPrinted>2008-09-25T22:15:34Z</cp:lastPrinted>
  <dcterms:modified xsi:type="dcterms:W3CDTF">2017-07-05T12:15:59Z</dcterms:modified>
  <cp:revision>4</cp:revision>
  <dc:subject/>
  <dc:title>PowerPoint Presentation</dc:title>
</cp:coreProperties>
</file>