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507E-1EE7-4BF9-A119-8A7317644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k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aver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man with Wolves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ve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wk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Coast Tribes:  Tlingit (Tooling git), Tsimshian (Chim she an), Haida (Hi duh), Nootka, Kwakiutl (Quack ee oodle), Coast Salish, Bellabella and Bella Co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bliograph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Indian Designs by Caren Car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Design Library , 19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North American Art by Janet C. Berlo &amp; Ruth B. Phil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s of the Northwest Traditions, History, Legends, and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ra Pres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ivilization.ca/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alcheringa-gallery.com/ http://www.blacktush.ca/ http://www.serial-design.com/ - http://www.serial-design.co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hichesterinc.com/NWCMask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n Indian Motifs CD-Rom and 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ver Publications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rait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Woma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M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west Native American M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681-3DC2-40E5-A46C-A2E2E9BA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096-0828-4336-8D9F-710BC83F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CC7E-B6AB-4BDB-BEF7-7B437C8DC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7C57-7482-4DD3-8339-3100F773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1D61-1304-41D3-90B9-1F8B4826F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7840-6407-4CCA-8DB2-F553BD45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8482F-DBE6-4840-BA8C-9D3099F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2ECA-815D-49CA-B4A8-562EA428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74CD-436A-476D-8F67-F35DABFB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C06F-B470-4492-B1FF-5413DEE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ED1D-83A1-452C-80C6-BAAD1C4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039-5067-49B5-A936-DFA91809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B48E-C4C1-42D8-9ED2-1C7BE512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5732A-3E0B-42D3-8D5C-F91F55C7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C650B-1B2F-4857-975A-E908E89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0A01-D957-46EA-A916-981B41A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F003-669F-4BBD-8E11-7C01FF4F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1192C-3070-4944-9A44-A134C21F6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36DFC-E734-4E6C-A95D-2160BA6B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06C4-34C7-4589-946D-AD0C7B04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47F16-2F57-46A2-BF1A-D08619DF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D845B-5671-4F5F-9736-E590F38A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395-EBF8-4F8C-89CA-6408756E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79395-F952-4F1F-9B68-EA6448C4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B5543-46C2-4427-88DE-02525C76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09282-FC5E-4AEB-B0B1-5F9FBAAF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6132C-3FE7-4A8A-9875-D67C4AF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15324-0C92-4345-975A-7D4031BB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18DE0-6A83-495F-8E57-FA9FACF6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E4B21-BA5B-4026-A2F5-44CCCBC3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C61E-0DA6-4C45-9F34-A48EDB21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007-4D4A-4181-93FD-CE06DD67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91DB-E2F3-4898-87DC-C2A6DEE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2BFB-651B-405B-B731-CAB2497D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CB97-6BE7-4B37-8CE2-4F013042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566-C946-43FB-B0EC-14295F2B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7A62-5062-4299-8558-5C4960CCA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B553-8265-4F2F-BAE9-E909DF31F0D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106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107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A97A-49BF-433D-9E1E-9C301F66B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4"/>
          <p:cNvSpPr/>
          <p:nvPr/>
        </p:nvSpPr>
        <p:spPr>
          <a:xfrm>
            <a:off x="1066680" y="380880"/>
            <a:ext cx="77724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3505320" y="992160"/>
            <a:ext cx="5486400" cy="541332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rk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952880" y="76320"/>
            <a:ext cx="3954600" cy="661824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"/>
          <p:cNvPicPr/>
          <p:nvPr/>
        </p:nvPicPr>
        <p:blipFill>
          <a:blip r:embed="rId1"/>
          <a:stretch/>
        </p:blipFill>
        <p:spPr>
          <a:xfrm>
            <a:off x="4275000" y="457200"/>
            <a:ext cx="4616640" cy="59180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4038480" y="303120"/>
            <a:ext cx="4572000" cy="632628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aver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4114800" y="152280"/>
            <a:ext cx="4921200" cy="655344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"/>
          <p:cNvPicPr/>
          <p:nvPr/>
        </p:nvPicPr>
        <p:blipFill>
          <a:blip r:embed="rId1"/>
          <a:stretch/>
        </p:blipFill>
        <p:spPr>
          <a:xfrm>
            <a:off x="3429000" y="990720"/>
            <a:ext cx="5548320" cy="4405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1066680" y="3581280"/>
            <a:ext cx="2667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haman with Wolves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Rave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5962680" cy="443700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3"/>
          <p:cNvSpPr/>
          <p:nvPr/>
        </p:nvSpPr>
        <p:spPr>
          <a:xfrm>
            <a:off x="990720" y="4876920"/>
            <a:ext cx="3124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Hawk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237200" y="762120"/>
            <a:ext cx="4197240" cy="5236920"/>
          </a:xfrm>
          <a:prstGeom prst="rect">
            <a:avLst/>
          </a:prstGeom>
          <a:ln w="0">
            <a:noFill/>
          </a:ln>
        </p:spPr>
      </p:pic>
      <p:sp>
        <p:nvSpPr>
          <p:cNvPr id="24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Bee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3429000" y="1057320"/>
            <a:ext cx="5638680" cy="557064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"/>
          <p:cNvPicPr/>
          <p:nvPr/>
        </p:nvPicPr>
        <p:blipFill>
          <a:blip r:embed="rId1"/>
          <a:stretch/>
        </p:blipFill>
        <p:spPr>
          <a:xfrm>
            <a:off x="1066680" y="2719440"/>
            <a:ext cx="7925040" cy="40622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4724280" y="12193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squito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990720" y="76320"/>
            <a:ext cx="8001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99cc"/>
                </a:solidFill>
                <a:uFillTx/>
                <a:latin typeface="Arial"/>
              </a:rPr>
              <a:t>Northwest Coast Tribes:</a:t>
            </a:r>
            <a:r>
              <a:rPr b="1" lang="en-US" sz="2800" spc="-1" strike="noStrike">
                <a:solidFill>
                  <a:srgbClr val="0099cc"/>
                </a:solidFill>
                <a:latin typeface="Arial"/>
              </a:rPr>
              <a:t>  Tlingit (Tooling git), Tsimshian (Chim she an), Haida (Hi duh), Nootka, Kwakiutl (Quack ee oodle), Coast Salish, Bellabella and Bella Co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438280" y="1895400"/>
            <a:ext cx="5486400" cy="343872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1219320" y="52578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These lands have plenty of rain, trees and a mild climate. The ocean and rivers provide food, transportation and trade. These people were not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5"/>
          <p:cNvSpPr/>
          <p:nvPr/>
        </p:nvSpPr>
        <p:spPr>
          <a:xfrm>
            <a:off x="1219320" y="228600"/>
            <a:ext cx="754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Bibliograph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west Indian Desig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Caren Car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nternational Design Library , 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ative North American Art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by Janet C. Berlo &amp; Ruth B. Phill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Indians of the Northwest Tradition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, History, Legends, and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Petra Pres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civilization.ca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http://www.alcheringa-gallery.com/ http://www.blacktush.ca/ http://www.serial-design.com/ - http://www.serial-design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PaintStroke"/>
              </a:rPr>
              <a:t>www.chichesterinc.com/NWCMasks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PaintStroke"/>
              </a:rPr>
              <a:t>North American Indian Motifs</a:t>
            </a: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 CD-Rom and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intStroke"/>
              </a:rPr>
              <a:t>Dover Publications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Picture 2"/>
          <p:cNvPicPr/>
          <p:nvPr/>
        </p:nvPicPr>
        <p:blipFill>
          <a:blip r:embed="rId1"/>
          <a:stretch/>
        </p:blipFill>
        <p:spPr>
          <a:xfrm>
            <a:off x="3414600" y="30240"/>
            <a:ext cx="5119920" cy="679608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907920"/>
            <a:ext cx="3047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You will need to complete one of these work sheets once you have finished your mask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7"/>
          <p:cNvSpPr/>
          <p:nvPr/>
        </p:nvSpPr>
        <p:spPr>
          <a:xfrm>
            <a:off x="2590920" y="1295280"/>
            <a:ext cx="1066680" cy="609840"/>
          </a:xfrm>
          <a:prstGeom prst="rightArrow">
            <a:avLst>
              <a:gd name="adj1" fmla="val 50000"/>
              <a:gd name="adj2" fmla="val 437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"/>
          <p:cNvSpPr/>
          <p:nvPr/>
        </p:nvSpPr>
        <p:spPr>
          <a:xfrm>
            <a:off x="2590920" y="4572000"/>
            <a:ext cx="1066680" cy="609480"/>
          </a:xfrm>
          <a:prstGeom prst="rightArrow">
            <a:avLst>
              <a:gd name="adj1" fmla="val 50000"/>
              <a:gd name="adj2" fmla="val 437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954600" y="304920"/>
            <a:ext cx="473220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6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Portrait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990720" y="4876920"/>
            <a:ext cx="297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Wild 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4002120" y="228600"/>
            <a:ext cx="483696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3"/>
          <p:cNvSpPr/>
          <p:nvPr/>
        </p:nvSpPr>
        <p:spPr>
          <a:xfrm>
            <a:off x="990720" y="4876920"/>
            <a:ext cx="358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Old Woma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4454640" y="304920"/>
            <a:ext cx="4460760" cy="624816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651120" y="380880"/>
            <a:ext cx="5416560" cy="58676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Moo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"/>
          <p:cNvPicPr/>
          <p:nvPr/>
        </p:nvPicPr>
        <p:blipFill>
          <a:blip r:embed="rId1"/>
          <a:stretch/>
        </p:blipFill>
        <p:spPr>
          <a:xfrm>
            <a:off x="3465360" y="914400"/>
            <a:ext cx="5526360" cy="571500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"/>
          <p:cNvPicPr/>
          <p:nvPr/>
        </p:nvPicPr>
        <p:blipFill>
          <a:blip r:embed="rId1"/>
          <a:stretch/>
        </p:blipFill>
        <p:spPr>
          <a:xfrm>
            <a:off x="3429000" y="1087560"/>
            <a:ext cx="5638680" cy="486864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990720" y="487692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cc"/>
                </a:solidFill>
                <a:latin typeface="Arial"/>
              </a:rPr>
              <a:t>Sun Mas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990720" y="228600"/>
            <a:ext cx="3200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Northwest Native American Mas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3657600" y="1015920"/>
            <a:ext cx="5334120" cy="50864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20:34:31Z</dcterms:created>
  <dc:creator>LPS Lincoln Public Schools</dc:creator>
  <dc:description/>
  <dc:language>en-US</dc:language>
  <cp:lastModifiedBy>Legion</cp:lastModifiedBy>
  <cp:lastPrinted>2008-09-25T22:15:34Z</cp:lastPrinted>
  <dcterms:modified xsi:type="dcterms:W3CDTF">2017-07-05T12:15:59Z</dcterms:modified>
  <cp:revision>4</cp:revision>
  <dc:subject/>
  <dc:title>PowerPoint Presentation</dc:title>
</cp:coreProperties>
</file>