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7DD0-EF4B-497A-9181-B92716B6DD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DEF-5CE3-4990-89F9-62ED61D8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412-4016-4998-805D-C34674F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E5E-D681-40C5-AF6F-A073787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8BE-9CCE-44F6-A5A7-54F62FEB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067-80A6-48CA-B532-AC7593B9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E5F-8B67-4873-9D60-86394073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498-C096-4521-8BE3-DDE2F8AE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5DF-62DC-4438-91A2-22BCC76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3B2-BA73-4324-84E1-D4DB2AF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1B3-583D-48C0-90A7-95AD6E08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BED-76BA-4DD4-972D-A9BD1C7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BD4-9F25-48DD-8770-94A851C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3F7-8216-421D-9558-7FE22E5C9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127080"/>
            <a:ext cx="7086600" cy="6399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424836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815364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980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0"/>
            <a:ext cx="385596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54:23Z</dcterms:created>
  <dc:creator>dgreenberg</dc:creator>
  <dc:description/>
  <dc:language>en-US</dc:language>
  <cp:lastModifiedBy>Legion</cp:lastModifiedBy>
  <dcterms:modified xsi:type="dcterms:W3CDTF">2017-07-05T11:57:39Z</dcterms:modified>
  <cp:revision>5</cp:revision>
  <dc:subject/>
  <dc:title>No Slide Title</dc:title>
</cp:coreProperties>
</file>