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084A-5FEC-4AD0-A790-3C4A3CEAC90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LI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Excerp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QUOIS LI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xcerp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people lived in longhouses. Ten or more families lived in one long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quois people lived in longhouses. Ten or more families lived in one longho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Si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women grew corn, beans, and squash. These were called  the three sist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hree S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quois women grew corn, beans, and squash. These were called  the three si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 also hunted  for  their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nimals they hunted we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r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key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ar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alo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bbits,  and  ge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H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also hunted  for  their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nimals they hunted we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er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urkey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r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ffalo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bbits,  and  gee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 liked to have fun by playing different gam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games they played ar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wl Catc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ss and Cat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ross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B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s Cra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 liked to have fun by playing different gam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games they played ar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wl Catc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ss and Ca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ros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B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s Cra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roquois played the Bowl Catch game with muskrat  tee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quois played the Bowl Catch game with muskrat  tee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roquois invented lacrosse a long time ag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roquois invented lacrosse a long time ag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E86C-3B1E-4561-973D-6A89F75C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582D-C552-40E2-8D55-2D61DC393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4458-9F23-4008-9464-7A53D9ED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2BD0-BD46-46CD-908A-2E6518C6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2168-C5CB-495C-A2B0-449A6699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FD19-D102-4121-A5EF-CC406B2F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BA09-20E0-40F5-A7E4-2068DE21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D63A-0043-431E-9122-AE2E72AE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AA79-1849-4ABB-BD04-47E748F8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CE4C-2203-4F8A-B65C-721F22F3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6280-49A8-4403-9E47-476FBB00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74E2-3088-4FD3-AA0D-830E5C99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C379-9ED0-4603-9D96-6A4A95DEE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ROQUOIS LIF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cer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69960" y="4232160"/>
            <a:ext cx="222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1127160" y="3774960"/>
            <a:ext cx="123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1"/>
          <a:stretch/>
        </p:blipFill>
        <p:spPr>
          <a:xfrm>
            <a:off x="0" y="2057400"/>
            <a:ext cx="3265560" cy="4572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_x0010_clan animals.jpg                                               002C9A96_x000c_Macintosh HD                   B8439062: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546280"/>
          </a:xfrm>
          <a:prstGeom prst="rect">
            <a:avLst/>
          </a:prstGeom>
          <a:ln w="0">
            <a:noFill/>
          </a:ln>
        </p:spPr>
      </p:pic>
      <p:pic>
        <p:nvPicPr>
          <p:cNvPr id="53" name="Reco2851.WAV" descr=""/>
          <p:cNvPicPr/>
          <p:nvPr/>
        </p:nvPicPr>
        <p:blipFill>
          <a:blip r:embed="rId3"/>
          <a:stretch/>
        </p:blipFill>
        <p:spPr>
          <a:xfrm>
            <a:off x="7391520" y="6019920"/>
            <a:ext cx="635040" cy="6350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643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62120" y="48769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quois people lived in longhouses. Ten or more families lived in one long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_x000f_longhouse 2.jpg                                                00017A9D_x000e_mac hard drive                 ABA78158:"/>
          <p:cNvPicPr/>
          <p:nvPr/>
        </p:nvPicPr>
        <p:blipFill>
          <a:blip r:embed="rId1"/>
          <a:stretch/>
        </p:blipFill>
        <p:spPr>
          <a:xfrm>
            <a:off x="4267080" y="1328760"/>
            <a:ext cx="4618080" cy="3170160"/>
          </a:xfrm>
          <a:prstGeom prst="rect">
            <a:avLst/>
          </a:prstGeom>
          <a:ln w="0">
            <a:noFill/>
          </a:ln>
        </p:spPr>
      </p:pic>
      <p:pic>
        <p:nvPicPr>
          <p:cNvPr id="57" name="Reco2851.WAV" descr=""/>
          <p:cNvPicPr/>
          <p:nvPr/>
        </p:nvPicPr>
        <p:blipFill>
          <a:blip r:embed="rId2"/>
          <a:stretch/>
        </p:blipFill>
        <p:spPr>
          <a:xfrm>
            <a:off x="7543800" y="4952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_x0010_longhouseslg.jpg                                               002C99AF_x000c_Macintosh HD                   B8439062:"/>
          <p:cNvPicPr/>
          <p:nvPr/>
        </p:nvPicPr>
        <p:blipFill>
          <a:blip r:embed="rId3"/>
          <a:stretch/>
        </p:blipFill>
        <p:spPr>
          <a:xfrm>
            <a:off x="228600" y="914400"/>
            <a:ext cx="3809880" cy="254016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94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hree Sis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7760" y="1523520"/>
            <a:ext cx="5257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oquois women grew corn, beans, and squash. These were called  the three sis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_x000c_cornmeal.jpg                                                   00015010_x000e_Mac hard drive                 ABA78158:"/>
          <p:cNvPicPr/>
          <p:nvPr/>
        </p:nvPicPr>
        <p:blipFill>
          <a:blip r:embed="rId1"/>
          <a:stretch/>
        </p:blipFill>
        <p:spPr>
          <a:xfrm>
            <a:off x="1447920" y="1447920"/>
            <a:ext cx="1646280" cy="4114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>
            <a:off x="4572000" y="2895480"/>
            <a:ext cx="3592440" cy="50292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ig Hu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s also hunted  for  their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nimals they hunted w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er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rke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ar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al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bbits,  and  gees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&#9;Deer3.JPG                                                      00017A8C_x000e_mac hard drive                 ABA78158:"/>
          <p:cNvPicPr/>
          <p:nvPr/>
        </p:nvPicPr>
        <p:blipFill>
          <a:blip r:embed="rId1"/>
          <a:stretch/>
        </p:blipFill>
        <p:spPr>
          <a:xfrm>
            <a:off x="685800" y="2084400"/>
            <a:ext cx="3809880" cy="39085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00240" y="18284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 Americans liked to have fun by playing different gam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games they played ar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wl Cat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ss and C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cros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t 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ts Crad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_x0010_cornhskdolls.jpg                                               00017A97_x000e_mac hard drive                 ABA78158:"/>
          <p:cNvPicPr/>
          <p:nvPr/>
        </p:nvPicPr>
        <p:blipFill>
          <a:blip r:embed="rId1"/>
          <a:stretch/>
        </p:blipFill>
        <p:spPr>
          <a:xfrm>
            <a:off x="1101600" y="1981080"/>
            <a:ext cx="2976840" cy="411480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roquois played the Bowl Catch game with muskrat  tee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_x0010_elm barkdish.jpg                                               0000B96D_x000e_mac hard drive                 ABA78158:"/>
          <p:cNvPicPr/>
          <p:nvPr/>
        </p:nvPicPr>
        <p:blipFill>
          <a:blip r:embed="rId1"/>
          <a:stretch/>
        </p:blipFill>
        <p:spPr>
          <a:xfrm>
            <a:off x="4648320" y="3162240"/>
            <a:ext cx="3809880" cy="175284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124080" y="5028840"/>
            <a:ext cx="50292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roquois invented lacrosse a long time ag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_x0012_lacrossestick1.jpg                                             0001501B_x000e_Mac hard drive                 ABA78158:"/>
          <p:cNvPicPr/>
          <p:nvPr/>
        </p:nvPicPr>
        <p:blipFill>
          <a:blip r:embed="rId1"/>
          <a:stretch/>
        </p:blipFill>
        <p:spPr>
          <a:xfrm>
            <a:off x="731880" y="3581280"/>
            <a:ext cx="3809880" cy="8114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4327560" y="508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6" descr="&#13;lacrosse4.jpg                                                  0001501B_x000e_Mac hard drive                 ABA78158:"/>
          <p:cNvPicPr/>
          <p:nvPr/>
        </p:nvPicPr>
        <p:blipFill>
          <a:blip r:embed="rId2"/>
          <a:stretch/>
        </p:blipFill>
        <p:spPr>
          <a:xfrm>
            <a:off x="5181480" y="380880"/>
            <a:ext cx="2757600" cy="43880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6T03:24:05Z</dcterms:created>
  <dc:creator>Roberta Schnorr</dc:creator>
  <dc:description/>
  <dc:language>en-US</dc:language>
  <cp:lastModifiedBy>Legion</cp:lastModifiedBy>
  <dcterms:modified xsi:type="dcterms:W3CDTF">2017-07-05T11:21:00Z</dcterms:modified>
  <cp:revision>13</cp:revision>
  <dc:subject/>
  <dc:title>IROQUOIS LIFE  LONG AGO</dc:title>
</cp:coreProperties>
</file>