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014F-16CC-4061-AED6-9116DED623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09A-A7E5-4F04-ADD2-6DB8A025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C7B-1109-47A3-B2CF-C8D8312D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1C1-9B55-4BF0-BF9C-45B6056C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D00-8918-4077-A256-240EBE81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5CF0-03BD-446F-93E4-19BECA39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E53A-6465-44D8-AE1E-FCD11B52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DF30-EF22-4DEE-BC75-6FC98CD6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5F4A-8B16-42AD-B11F-861B932D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5B86-D9D1-4189-BD66-9708FDFC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96AA-BF8C-4A19-8DDD-27136DC5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9F23-D973-4809-B193-84C81806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67F-759C-4219-A00D-4AFB412B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4123-F966-461F-9813-257B5C5D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7E80-01F2-442B-AC47-71F20893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43FD-77D1-44E0-B062-8D58CA53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BEBB-86DC-4C54-ABD7-7D95E38C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25D2-DCDE-4C58-8CFC-B79C5DAF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565-6201-4017-B5E1-A859B0B4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4DE-D50F-4584-9694-8C14C94E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922-B2AA-472C-8795-DB631D81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872-504A-464D-B952-350CEA99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06D-F0E9-43B3-858E-34CF1C05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221-1265-490D-94F3-B8AA194D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F27-6839-4B20-9DB2-02527EBF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C97A-839D-4E40-B7C3-359253E38F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A279-34CD-4810-ABFF-EB07FD9756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7776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BELLWORK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</a:t>
            </a:r>
            <a:r>
              <a:rPr b="0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 mass and how does it compare to wei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word is used to describe the amount of space an object takes 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Substances contain only one kind of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of these two is a substan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H20  or Lemona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samples of a substance have the same physical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crystals of sucrose taste sweet and dissolve completely i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physical property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is a quality or condition of a substance that can be observed or measured without changing the substance’s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of physical properti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1.- CO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2.- SOLU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3.- O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4.- HARD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5.-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6.- MELT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7.- BOIL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Physical properties help chem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dentify a substance based on their characteris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substance is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100 ˚C    and melts at 0 ˚C”     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78 ˚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d melts at -117 ˚C”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577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608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HN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Important properties of the States of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erty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id 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 or vap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ansion on he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y sl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essi-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dily 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17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SOL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Coal, sugar, ice and ir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Definite shape and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shape doesn’t depend on the shape of their conta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particles are packed tightly together,  they are almost incompre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olids expand only lightly when h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LIQ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Water, milk and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of their container (flow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packed closely together, but not rigidly pack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volume that a liquid occupies is always constant, no matter what shape it ta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Almost incompressible, with a tendency to expand when he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G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and form of their container (flowa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spaced far apa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expand without limit to fill any 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are easily compres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514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HN" sz="3200" spc="-1" strike="noStrike">
                <a:solidFill>
                  <a:srgbClr val="ffffff"/>
                </a:solidFill>
                <a:latin typeface="Tahoma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VA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gaseous state of a substance that is generally a liquid or solid at room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team (the gaseous state of matter) is referred to as a vapor because water is a liquid at room temperatu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Moist air contains water vap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type of change that alters a given material without changing it’s chemical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include: cutting, grinding, bending, the melting of the metal gallium, the freezing of water and the condensation of steam to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Other verbs or actions related to physical changes include: boil, freeze, dissolve, melt, condense, break, split, crack, grind, cut, crush and b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ything that takes up space and ha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eight is a measure of the pull of gravity on an object; mass is the amount of matter the object conta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Volu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states of matter are represented in the photograp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must you do to a substance to change it’s physical stat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pix-6-lava-bowl-8-094"/>
          <p:cNvPicPr/>
          <p:nvPr/>
        </p:nvPicPr>
        <p:blipFill>
          <a:blip r:embed="rId1"/>
          <a:stretch/>
        </p:blipFill>
        <p:spPr>
          <a:xfrm>
            <a:off x="1066680" y="1905120"/>
            <a:ext cx="7543800" cy="426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4" descr="CB022225"/>
          <p:cNvPicPr/>
          <p:nvPr/>
        </p:nvPicPr>
        <p:blipFill>
          <a:blip r:embed="rId1"/>
          <a:stretch/>
        </p:blipFill>
        <p:spPr>
          <a:xfrm>
            <a:off x="838080" y="198108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golf_ball_walking_hg_wht"/>
          <p:cNvPicPr/>
          <p:nvPr/>
        </p:nvPicPr>
        <p:blipFill>
          <a:blip r:embed="rId2"/>
          <a:stretch/>
        </p:blipFill>
        <p:spPr>
          <a:xfrm>
            <a:off x="457200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logo"/>
          <p:cNvPicPr/>
          <p:nvPr/>
        </p:nvPicPr>
        <p:blipFill>
          <a:blip r:embed="rId3"/>
          <a:stretch/>
        </p:blipFill>
        <p:spPr>
          <a:xfrm>
            <a:off x="85680" y="6219720"/>
            <a:ext cx="136224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erials differ in terms of the kind of matter they con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able sugar is always 100% sucr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t always has the same chemical composi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 that has a uniform and definite composition is calle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Picture 4" descr="sucrose"/>
          <p:cNvPicPr/>
          <p:nvPr/>
        </p:nvPicPr>
        <p:blipFill>
          <a:blip r:embed="rId1"/>
          <a:stretch/>
        </p:blipFill>
        <p:spPr>
          <a:xfrm>
            <a:off x="1143000" y="1781280"/>
            <a:ext cx="6934320" cy="4314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2:45:32Z</dcterms:created>
  <dc:creator>Marco A. Mass Pascua</dc:creator>
  <dc:description/>
  <dc:language>en-US</dc:language>
  <cp:lastModifiedBy>RomaK</cp:lastModifiedBy>
  <dcterms:modified xsi:type="dcterms:W3CDTF">2015-09-02T05:56:58Z</dcterms:modified>
  <cp:revision>18</cp:revision>
  <dc:subject/>
  <dc:title>Matter and Change</dc:title>
</cp:coreProperties>
</file>