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92A2-8AFC-46EA-A766-F5D31BEF0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E1E-0543-460A-8135-0FA4752A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FBD-1267-48E9-94CD-F02F9680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1055-6F15-4816-B899-142105C7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470-8563-4981-81EA-707E7836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B744-AAAB-4EB0-A2CB-A146D50A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9678-6C18-411A-8586-0FDCA363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ECC5-9BE8-45DE-AFD0-CAE709FE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A503-045C-4CA9-90B1-1DFA3899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09C-DF86-4F86-A81D-20E61EA8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E05-6E51-4BAD-9BB1-A1D31DF8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9719-FFD4-49C1-B6A3-CF0E21E9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E06-2117-4C69-9648-D5FB2D53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8043-F0E5-47D8-9501-4DA33FF3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B2FE-3B53-46CE-A083-E8B8F8C5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2663-CCB8-4438-8746-2E7BE06B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B0B0-1A6C-4E2D-AF05-8C22CD5E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EB84-A925-4EE3-86B5-FD61B375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742-0AC6-490E-8A2A-7696FD1C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18A-A476-4B14-9B25-7DEB3C72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380-8A6E-4B89-8EB5-798DB897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186-C709-42C3-8DF4-E95A7CE0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62E-5ED5-4686-AD3E-67A551DD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1DE-A7DE-4609-8108-99D213A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F2A-E05A-420C-8F86-E314911C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00E2-81A8-4542-B15F-B683F8CC45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EDC7-2E4C-4E09-8AC6-073F8D800D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776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BELLWORK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</a:t>
            </a:r>
            <a:r>
              <a:rPr b="0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 mass and how does it compare to we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word is used to describe the amount of space an object takes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Substances contain only one kind of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of these two is a substa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H20  or Lemon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samples of a substance have the same phys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crystals of sucrose taste sweet and dissolve completely i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physical property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is a quality or condition of a substance that can be observed or measured without changing the substance’s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of physical properti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1.-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2.- SOLU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3.- O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4.- HAR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5.-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6.- MELT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7.- BOIL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Physical properties help chem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dentify a substance based on their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substance is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100 ˚C    and melts at 0 ˚C”     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78 ˚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d melts at -117 ˚C”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5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608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HN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Important properties of the States of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ty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 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 or vap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sion on h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 s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ssi-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ily 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7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SOL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Coal, sugar, ice and i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Definite shape and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shape doesn’t depend on the shape of their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particles are packed tightly together,  they are almost incompre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olids expand only lightly when h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Water, milk and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of their container (flow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packed closely together, but not rigidly pack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volume that a liquid occupies is always constant, no matter what shape it t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Almost incompressible, with a tendency to expand when he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and form of their container (flowa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spaced far apa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expand without limit to fill any 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are easily compre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14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3200" spc="-1" strike="noStrike">
                <a:solidFill>
                  <a:srgbClr val="ffffff"/>
                </a:solidFill>
                <a:latin typeface="Tahoma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gaseous state of a substance that is generally a liquid or solid at room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team (the gaseous state of matter) is referred to as a vapor because water is a liquid at room tempera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Moist air contains water vap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type of change that alters a given material without changing it’s chemical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include: cutting, grinding, bending, the melting of the metal gallium, the freezing of water and the condensation of steam to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Other verbs or actions related to physical changes include: boil, freeze, dissolve, melt, condense, break, split, crack, grind, cut, crush and b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ything that takes up space and ha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eight is a measure of the pull of gravity on an object; mass is the amount of matter the object cont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Volu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states of matter are represented in the photograp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must you do to a substance to change it’s physical stat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pix-6-lava-bowl-8-094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CB022225"/>
          <p:cNvPicPr/>
          <p:nvPr/>
        </p:nvPicPr>
        <p:blipFill>
          <a:blip r:embed="rId1"/>
          <a:stretch/>
        </p:blipFill>
        <p:spPr>
          <a:xfrm>
            <a:off x="83808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olf_ball_walking_hg_wht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3"/>
          <a:stretch/>
        </p:blipFill>
        <p:spPr>
          <a:xfrm>
            <a:off x="85680" y="6219720"/>
            <a:ext cx="136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erials differ in terms of the kind of matter they con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able sugar is always 100% sucr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t always has the same chemical composi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 that has a uniform and definite composition is calle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Picture 4" descr="sucrose"/>
          <p:cNvPicPr/>
          <p:nvPr/>
        </p:nvPicPr>
        <p:blipFill>
          <a:blip r:embed="rId1"/>
          <a:stretch/>
        </p:blipFill>
        <p:spPr>
          <a:xfrm>
            <a:off x="1143000" y="1781280"/>
            <a:ext cx="6934320" cy="43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2:45:32Z</dcterms:created>
  <dc:creator>Marco A. Mass Pascua</dc:creator>
  <dc:description/>
  <dc:language>en-US</dc:language>
  <cp:lastModifiedBy>RomaK</cp:lastModifiedBy>
  <dcterms:modified xsi:type="dcterms:W3CDTF">2015-09-02T05:56:58Z</dcterms:modified>
  <cp:revision>18</cp:revision>
  <dc:subject/>
  <dc:title>Matter and Change</dc:title>
</cp:coreProperties>
</file>