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D06D-CAEB-42B4-9C3F-D3D03E8AE55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roquois Confede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udenosaunee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ondag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haw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ec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i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yug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scaro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Iroquois Confederacy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Haudenosaunee Tribes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Onondaga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Mohawk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Seneca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Oneida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Cayuga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uscarora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ming of the Iroquo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ound 1570, Hiawatha (an Onondaga chief) and Dekanawida (a Mohawk Chief) decided to stop their tribes from f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ve nations formed the Iroquois Leag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Forming of the Iroquois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Around 1570, Hiawatha (an Onondaga chief) and Dekanawida (a Mohawk Chief) decided to stop their tribes from fighting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five nations formed the Iroquois League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Princi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live in peace with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trade with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go to war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tribe elected Sachems to run the Confeder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ind ourselves together by taking hold of each other’s hands. …  Our strength shall be in union. …  Carry no anger and hold no grudg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Iroquois Principles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y would live in peace with each other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y would trade with each other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y would go to war TOGETHER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Each tribe elected Sachems to run the Confederacy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e bind ourselves together by taking hold of each other’s hands. …  Our strength shall be in union. …  Carry no anger and hold no grudges”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Ho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 foot long houses that held 10-20 families.  Each family had a section of the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owned the longhouses and a husband would move into his wife’s mother’s long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Long Houses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100 foot long houses that held 10-20 families.  Each family had a section of the house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omen owned the longhouses and a husband would move into his wife’s mother’s longhouse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THREE SISTERS” of corn, beans and squash were farmed by the wo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r, beaver, and moose were hunted by the m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Iroquois Culture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“THREE SISTERS” of corn, beans and squash were farmed by the women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Deer, beaver, and moose were hunted by the men. 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 of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grazing land for he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est provided w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 animals gave the Iroquois food and 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needed crops they could store for the long winter in a temperate clim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hort growing season allowed for the 3 sisters to gro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effect of ENVIRONMENT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No grazing land for herds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forest provided wood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Forest animals gave the Iroquois food and clothing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y needed crops they could store for the long winter in a temperate climate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A short growing season allowed for the 3 sisters to grow. 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87C7-4D86-4C78-965A-BD596BBE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E7C4-3B54-4E27-9342-96698227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41E6-41AB-4F0E-B0C2-C45BC510C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F400-F3A3-4198-BD29-1C92FF79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AB4D-B318-4FC2-B9DA-2FA72B98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FD02-5B17-49AE-B94D-4CD54D74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CE45-6EAE-484C-BD5D-6DD39BD2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E39E-26CD-42F6-96C3-5B13C2CC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8290-6D31-492A-A38A-D76419D8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18A3-29D4-4119-94AE-A9F41934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FD7F-A1A4-44B9-90D2-1C2791AE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99D5-6BF7-4A5E-A5F9-AA560607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1D31-9BB5-4DC8-8B9D-C256B3A4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D6CF-B540-4C09-9A0E-12EFE9BF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77A3-BDBF-495E-A378-7D7E918D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90A9-39C2-4D6B-B0FD-BB16AA6E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ED6D-12ED-408D-B70A-0C05897F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DFE9-F54C-4FF3-897A-69108515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F4CE-2338-4D72-A811-7585AD11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6AB9-B931-456B-BCC2-4A2A7B5E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3575-6042-42AA-9468-C248C10A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75DB-0B0A-4059-8EE3-1B22062E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4AF0-1F1D-4DC2-BE07-BD06DD70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715-D0A9-474F-8F4B-762AA80D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1024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pic>
            <p:nvPicPr>
              <p:cNvPr id="3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4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10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2078-0C9E-4BAB-A240-1AD229B8A664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5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21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10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23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grpSp>
            <p:nvGrpSpPr>
              <p:cNvPr id="65" name="Group 2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6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8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7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8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8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8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887F-F5CA-40C9-BCD6-D1D6C43DB416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he Iroquois Confederac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26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udenosaunee Trib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Onondaga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Times New Roman"/>
              </a:rPr>
              <a:t>Mohaw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Seneca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One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Cayuga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scar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4320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he Forming of the Iroquois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ound 1570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awath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(an Onondaga chief)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kanawi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(a Mohawk Chief) decided to stop their tribes from f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ve nations formed the Iroquois Leag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rcRect l="1820" t="0" r="13470" b="0"/>
          <a:stretch/>
        </p:blipFill>
        <p:spPr>
          <a:xfrm>
            <a:off x="1752480" y="5029200"/>
            <a:ext cx="7086600" cy="13971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roquois Principl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hey would live in peace with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hey would trade with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hey would go to war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OGETHER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Each tribe elected Sachems to run the Confede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bind ourselves together by taking hold of each other’s hands. …  Our strength shall be in union. …  Carry no anger and hold no grudg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0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Arial"/>
                <a:ea typeface="Arial"/>
              </a:rPr>
              <a:t>Long Hous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0 foot long houses that held 10-20 families.  Each family had a section of the 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3760" y="19807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Women owned the longhouses and a husband would move into his wife’s mother’s long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rcRect l="2194" t="0" r="2194" b="0"/>
          <a:stretch/>
        </p:blipFill>
        <p:spPr>
          <a:xfrm>
            <a:off x="3200400" y="4084560"/>
            <a:ext cx="5562720" cy="25066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roquois Cultur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79240" y="1980720"/>
            <a:ext cx="37782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e “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REE SISTERS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” of corn, beans and squash were farmed by the wo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600200" y="4267080"/>
            <a:ext cx="37749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Deer, beaver, and moose were hunted by the me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6858000" y="1981080"/>
            <a:ext cx="1995480" cy="1984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5638680" y="2133720"/>
            <a:ext cx="1568520" cy="4438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6" presetSubtype="2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00"/>
                </a:solidFill>
                <a:latin typeface="Arial"/>
                <a:ea typeface="Arial"/>
              </a:rPr>
              <a:t>The effect of </a:t>
            </a:r>
            <a:r>
              <a:rPr b="1" i="1" lang="en-US" sz="4400" spc="-1" strike="noStrike">
                <a:solidFill>
                  <a:srgbClr val="800000"/>
                </a:solidFill>
                <a:latin typeface="Arial"/>
                <a:ea typeface="Arial"/>
              </a:rPr>
              <a:t>ENVIRONMEN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No grazing land for he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The forest provided 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Forest animals gave the Iroquois food and cl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They needed crops they could store for the long winter in a temperate clim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A short growing season allowed for the 3 sisters to grow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0T01:28:12Z</dcterms:created>
  <dc:creator>David &amp; Diana Hills</dc:creator>
  <dc:description/>
  <dc:language>en-US</dc:language>
  <cp:lastModifiedBy>Legion</cp:lastModifiedBy>
  <dcterms:modified xsi:type="dcterms:W3CDTF">2017-07-05T11:16:58Z</dcterms:modified>
  <cp:revision>9</cp:revision>
  <dc:subject/>
  <dc:title>The Iroquois Confederacy</dc:title>
</cp:coreProperties>
</file>