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A459-B901-44BA-8C82-5FEC2903EE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Confede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udenosaunee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nda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haw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e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yu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sca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Iroquois Confederacy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Haudenosaunee Trib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onda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Mohawk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Senec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eid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Cayu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uscaror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ing of the Iroqu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1570, Hiawatha (an Onondaga chief) and Dekanawida (a Mohawk Chief) decided to stop their tribes from f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ve nations formed the Iroquois Leag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ming of the Iroquoi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round 1570, Hiawatha (an Onondaga chief) and Dekanawida (a Mohawk Chief) decided to stop their tribes from fighting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ive nations formed the Iroquois Leagu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live in peac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d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go to war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elected Sachems to run the Confede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ind ourselves together by taking hold of each other’s hands. …  Our strength shall be in union. …  Carry no anger and hold no grudg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Principl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live in peac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trad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go to war TOGE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Each tribe elected Sachems to run the Confederacy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 foot long houses that held 10-20 families.  Each family had a section of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owned the longhouses and a husband would move into his wife’s mother’s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Long Hous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100 foot long houses that held 10-20 families.  Each family had a section of the 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omen owned the longhouses and a husband would move into his wife’s mother’s long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THREE SISTERS” of corn, beans and squash were farmed by the wo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beaver, and moose were hunted by the 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Culture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“THREE SISTERS” of corn, beans and squash were farmed by the women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Deer, beaver, and moose were hunted by the men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razing land for he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est provid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animals gave the Iroquois food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ed crops they could store for the long winter in a temperate clim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ort growing season allowed for the 3 sisters to g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effect of ENVIRONMENT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No grazing land for herd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est provided wood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Forest animals gave the Iroquois food and clothing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needed crops they could store for the long winter in a temperate climat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 short growing season allowed for the 3 sisters to grow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DB3-D503-4DCF-A582-33ECB908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862-DD0E-4780-BF11-CDB2A661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255-1314-435E-A513-9A30D3F4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EA0-DB00-4E71-94E4-1274E6CC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C683-693B-41FD-AE59-3546481D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5B5D-AB42-4876-B996-E9F2F39B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BCCD-D730-4B01-9A39-4F9B0F72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1CDF-75D8-4342-8386-7D4D246E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03E0-44C0-4CC0-B705-FF2CF708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237D-D071-4855-BA22-019DAAFB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03B4-93DF-4B46-BD30-5C996156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408-3AB3-4943-B689-C517B9F5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0887-1B86-43D2-A0E3-B23FC4B6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FBE5-AE62-45E3-A57D-DBD176B6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9427-CCF7-47A7-8BFE-58070F38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34E4-076C-4E8D-9884-0C17C9E8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1DB7-F65F-4969-97DE-1C6360CA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CA4-F5B0-4296-8181-DCE5304A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A6D-B50C-4284-B02A-590ACC59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31D-8FA2-46DA-B753-AE5DF6D8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7D9-A687-4F17-81B9-1E3C9D66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501-B0D7-4778-974E-BAE6708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F90-4721-4CB1-82A7-9A302876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01E-2B2C-45DF-9D24-011F4450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1358-D88A-4843-9BCE-8F4A80CA32F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A160-DDEA-4143-83EA-0F65D9E4188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Iroquois Confederac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26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udenosaunee Tri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Onondaga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Moha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Senec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One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Cayug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scar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4320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Forming of the Iroquois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ound 1570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awat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n Onondaga chief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kanaw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 Mohawk Chief) decided to stop their tribes from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nations formed the Iroquois Lea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20" t="0" r="13470" b="0"/>
          <a:stretch/>
        </p:blipFill>
        <p:spPr>
          <a:xfrm>
            <a:off x="1752480" y="5029200"/>
            <a:ext cx="7086600" cy="13971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Princip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live in peac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trad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go to war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OGETHER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ach tribe elected Sachems to run the Confede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  <a:ea typeface="Arial"/>
              </a:rPr>
              <a:t>Long Hou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foot long houses that held 10-20 families.  Each family had a section of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omen owned the longhouses and a husband would move into his wife’s mother’s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2194" t="0" r="2194" b="0"/>
          <a:stretch/>
        </p:blipFill>
        <p:spPr>
          <a:xfrm>
            <a:off x="3200400" y="4084560"/>
            <a:ext cx="5562720" cy="25066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Cultu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377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“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REE SISTERS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” of corn, beans and squash were farmed by the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600200" y="4267080"/>
            <a:ext cx="37749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er, beaver, and moose were hunted by the me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95480" cy="198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1568520" cy="443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The effect of 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ENVIRONMEN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o grazing land for he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 forest provided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orest animals gave the Iroquois food and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y needed crops they could store for the long winter in a temperate cl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 short growing season allowed for the 3 sisters to gr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01:28:12Z</dcterms:created>
  <dc:creator>David &amp; Diana Hills</dc:creator>
  <dc:description/>
  <dc:language>en-US</dc:language>
  <cp:lastModifiedBy>Legion</cp:lastModifiedBy>
  <dcterms:modified xsi:type="dcterms:W3CDTF">2017-07-05T11:16:58Z</dcterms:modified>
  <cp:revision>9</cp:revision>
  <dc:subject/>
  <dc:title>The Iroquois Confederacy</dc:title>
</cp:coreProperties>
</file>