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6858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FACB-4F33-4448-964B-82DAA94A9C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ek 3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ek 3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ilroads: Pioneering in U.S.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“big business” in the U.S. – developed c. 18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ed the transportation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 had size and complex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d a management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Association of American Railroads (AA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ailroads: Pioneering in U.S.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rst “big business” in the U.S. – developed c. 183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arted the transportation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 had size and complex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quired a managemen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Association of American Railroads (AA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graph, patented by Samuel Morse in 1837, started concurrent  revolution in commun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1860, about 50,000 miles of wires extended over the eastern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matic effect on business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Sears used the telegraph to see gold watches – the first electronic comme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M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unicatio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legraph, patented by Samuel Morse in 1837, started concurrent  revolution in communic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y 1860, about 50,000 miles of wires extended over the eastern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amatic effect on business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ichard Sears used the telegraph to see gold watches – the first electronic comme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M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ge of Rai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 (1815-187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a system of managing on the Erie Railro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job descri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rate performance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it basis for pay and pro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al chart to show lines of authority, responsibility, and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telegraph for dispatching trains and checking on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, Circa 18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ge of Rai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McCallum (1815-187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a system of managing on the Erie Railro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pecific job descri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curate performance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rit basis for pay and pro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anizational chart to show lines of authority, responsibility, and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 of telegraph for dispatching trains and checking on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McCallum, Circa 18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management relied on division of labor, personal responsibility, and organ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a formal organization ch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highest state of the art information manage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 his job when the locomotive engineers would not follow his r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s were on strike for ten days in June 1854 then 6 months in 1857 in defiance of McCallum’s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cessful career building bridges and served as master of the Union’s railroads in the Civil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McCal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stem of management relied on division of labor, personal responsibility, and orga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a formal organization ch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highest state of the art information manag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st his job when the locomotive engineers would not follow his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s were on strike for ten days in June 1854 then 6 months in 1857 in defiance of McCallum’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ccessful career building bridges and served as master of the Union’s railroads in the Civil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ie Railroad Organizational Ch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perhaps the first organizational chart ever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Callum created the organizational chart to explain the Erie Railroad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ie Railroad Organization Chart of 1855.  Library of Congress, Haer, N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rie Railroad Organizational 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is perhaps the first organizational chart ever m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cCallum created the organizational chart to explain the Erie Railroad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rie Railroad Organization Chart of 1855.  Library of Congress, Haer, N.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. Poor (1812-1905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oader Management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 of the American Railroad Jou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“conscience” of first U.S. big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ed for broader principles of railroad operations (financing, regulation, and role of U.S. Railroad in lif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three principles based on McCallum’s ideas: organization, information, and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arnum P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V. Poor (1812-1905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Broader Managem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ditor of the American Railroad Jou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came “conscience” of first U.S. big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oked for broader principles of railroad operations (financing, regulation, and role of U.S. Railroad in lif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three principles based on McCallum’s ideas: organization, information, and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Varnum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. P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ater work, Poor felt the answer to problems of top management was through better 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y in the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ng leaders on mer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better information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Pics4Learning. http://pics.tech4learni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V.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later work, Poor felt the answer to problems of top management was through better 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ty in the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lecting leaders on me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ing better informatio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Pics4Learning. http://pics.tech4learn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ing Governance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es were partnerships or sole proprietorshi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, requiring large amounts of capital, saw the growth of joint-stock compa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uniform, adequate laws in Great Britain, management malfeasance occur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Poor wrote about the need for government regulation but not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merging Governance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rly industries were partnerships or sole proprietorshi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, requiring large amounts of capital, saw the growth of joint-stock compa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ithout uniform, adequate laws in Great Britain, management malfeasance occur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Poor wrote about the need for government regulation but not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dependence to 1860, the U.S. grew and developed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was critical to development of the modern enterpr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 and the telegraph allowed firms to grow for economies of scale and 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s were required for large, complex organ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lity of life for people was impro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rom independence to 1860, the U.S. grew and developed indus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iod was critical to development of the modern enterp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 and the telegraph allowed firms to grow for economies of scale and sc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nagers were required for large, complex organiz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life for people was impr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S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S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ndustrial Revolution – 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ritish mercantilism kept the U.S. as a colony which delayed economic develop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eat Britain prohibited the sale of manufacturing equipment and emigration of skilled labor to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am Smith influenced writing of the U.S. Constitution and economic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onwealth vs. Hunt 1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merican System of Manufa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ustrial Revolution –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mercantilism kept the U.S. as a colony which delayed economic develo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 prohibited the sale of manufacturing equipment and emigration of skilled labor to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m Smith influenced writing of the U.S. Constitution and economic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wealth vs. Hunt 184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System of Manufa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of enterprise was facilitated by transportation and communication revolutions as well as manufacture by interchangeable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wth of enterprise was facilitated by transportation and communication revolutions as well as manufacture by interchangeable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dler wrote about the evolution of U.S. Corporations in 1962 book Strategy and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veloped his ideas from the study of U.S. corporations during this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, J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Harvard Business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ndler wrote about the evolution of U.S. Corporations in 1962 book Strategy and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 developed his ideas from the study of U.S. corporations during this peri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, J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Harvard Business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the late 19th century as the accumulation of resources with growth occurring because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combinations of firms in smaller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integration – forward and back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firms and the growth of hierarchy of managers to coordinate and integrate operations were the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to success was good management, not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scribed the late 19th century as the accumulation of resources with growth occurring because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rizontal combinations of firms in smaller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tical integration – forward and back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rger firms and the growth of hierarchy of managers to coordinate and integrate operations were th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ey to success was good management, not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(1835-1919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arned McCallum’s system of management on the Pennsylvania Rail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the new Bessemer furnace technology to begin vertically and horizontally integrating his firm in the steel indust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cost accounting to guide his pricing strategy and drive costs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(1835-1919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ed McCallum’s system of management on the Pennsylvania Railro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he new Bessemer furnace technology to begin vertically and horizontally integrating his firm in the steel indust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cost accounting to guide his pricing strategy and drive costs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creased the “throughput” velocity to gain economies of scale and to fully utilize his 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was a declining price of steel for the consu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’s  his first job was in a textile mill lik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 increased the “throughput” velocity to gain economies of scale and to fully utilize his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sult was a declining price of steel for the consu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’s  his first job was in a textile mill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engineers (especially Henry R. Towne) became important in improving factory operations – they often became the manag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ous others began to take an interest in manag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good management was critical in a firm gained credence with engineers and economi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chanical engineers (especially Henry R. Towne) became important in improving factory operations – they often became the ma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umerous others began to take an interest in manag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dea that good management was critical in a firm gained credence with engineers and economi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bor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“Social Gospel” proponents felt that workers should join unions, share in profits, and have arbitration instead of stri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ers and others felt that better work methods and systems were the answer, including pay for performance incentiv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895 Frederick W.Taylor proposed a rate setting and piece-rate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Labor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me “Social Gospel” proponents felt that workers should join unions, share in profits, and have arbitration instead of stri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gineers and others felt that better work methods and systems were the answer, including pay for performance incentive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1895 Frederick W.Taylor proposed a rate setting and piece-rat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&amp;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Josephson characterized the business leaders of this time as “Robber Baron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evidence that business leaders did engage in some corrupt practices: watering stock, bribery of government officials, manipulating stock, and conspir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motivation was alleged to be “survival of the fittest” and desire for monopo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ion was also drive for economies of scale that led to lower pr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&amp;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tthew Josephson characterized the business leaders of this time as “Robber Barons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re is evidence that business leaders did engage in some corrupt practices: watering stock, bribery of government officials, manipulating stock, and conspira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ir motivation was alleged to be “survival of the fittest” and desire for monopo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tivation was also drive for economies of scale that led to lower p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 conscience of the 19th century entrepreneur gave rise to individual philanthrop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zra Cornell – his money founded Cornell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Colgate – college changed its name to his as result of his generos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Hopkins –  founded John Hopkins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lius Vanderbilt – founded Vanderbilt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lius Vanderb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ocial conscience of the 19th century entrepreneur gave rise to individual philanthrop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zra Cornell – his money founded Cornell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illiam Colgate – college changed its name to his as result of his generos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Hopkins –  founded John Hopkins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rnelius Vanderbilt – founded Vanderbilt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rnelius Vanderbi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hilanthrop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eph Wharton – grant enabled first business school at University of Pennsylv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Tuck – gift to Dartmouth started Amos Tuck School of Admin. &amp; Fin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land Stanford – honored his son with a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Stevens – provided for the Stevens Institute of Techn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B. Duke – Trinity College (later renamed for the fami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Drew – promise of funds led to Drew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es Brown – founded Rhode Island College; became Brown University in 18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re Philanthrop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seph Wharton – grant enabled first business school at University of Pennsylv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dward Tuck – gift to Dartmouth started Amos Tuck School of Admin. &amp; Fi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land Stanford – honored his son with a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Stevens – provided for the Stevens Institute of Techn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ames B. Duke – Trinity College (later renamed for the famil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Drew – promise of funds led to Drew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ses Brown – founded Rhode Island College; became Brown University in 18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rly Industrial Development– Textile M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rgest industry at the time was text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ven though the textile industry was the largest business, factories were still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oto” on the left depicts an early textile m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al Development– Textile M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dustry at the time was text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the textile industry was the largest business, factories were still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” on the left depicts an early textile m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. Rockefeller – given half a billion dollars by the time of his death as well as establishing the Rockefeller Found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efeller is pictured here in 1907 beside a buildi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. Rockefe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cago Daily News negatives collection, DN-0051595. Courtesy of the Chicago Historical Socie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D. Rockefeller – given half a billion dollars by the time of his death as well as establishing the Rockefeller Found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ckefeller is pictured here in 1907 beside a build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D. Rockefe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icago Daily News negatives collection, DN-0051595. Courtesy of the Chicago Historical Soci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– gave away $350 million by the time of his death in addition to his libraries, university, and the Carnegie Found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– gave away $350 million by the time of his death in addition to his libraries, university, and the Carnegie Found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efeller and 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pite generosity by both individuals, the Congressional Committee on Industrial Relations in 1915 denounced both as “menaces to societ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efeller Archiv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Free Library &amp; Music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ckefeller and 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spite generosity by both individuals, the Congressional Committee on Industrial Relations in 1915 denounced both as “menaces to society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ckefeller Archiv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Free Library &amp; Music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wealth v. Hunt decision (1842) broke the British tradition of unions as conspiracies in restraint of t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craft unions and brotherhoods of railroad workers were successful in the late 19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orts to organize other workers were generally unsuccess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violence in the late 1800s fueled public fear of un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ommonwealth v. Hunt decision (1842) broke the British tradition of unions as conspiracies in restraint of t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.S. craft unions and brotherhoods of railroad workers were successful in the late 19th centu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fforts to organize other workers were generally unsuccess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bor violence in the late 1800s fueled public fear of un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Federation of Labor organized in 1886 under Samuel Gom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unions, and despite growing numbers of immigrants, U.S. workers found their wages and real (purchasing power) wages rising during the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Gompers,                         courtesy of  Library of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merican Federation of Labor organized in 1886 under Samuel Gom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ithout unions, and despite growing numbers of immigrants, U.S. workers found their wages and real (purchasing power) wages rising during the peri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Gompers,                         courtesy of  Library of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ntive and Innovative Impul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: made travel possible and pleasurable; fostered a retailing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graph and telephone: aided growth of commerce and transportation through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ustries developed and gre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mark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wing mach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v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ventive and Innovative Impul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: made travel possible and pleasurable; fostered a retailing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legraph and telephone: aided growth of commerce and transportation through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industries developed and gr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ss mark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wing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arve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and Government: The  Seeds of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lastic clause,” the commerce clause, of the U.S. Constitution expanded during this period with regulation of rail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state Commerce Act and the Sherman Antitrust Act were attempts to regulate business but these laws were generally ineffect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row Wilson (then a college professor) advocated better management of gover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row Wilson, courtesy of        The Constitution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and Government: The  Seeds of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“elastic clause,” the commerce clause, of the U.S. Constitution expanded during this period with regulation of railro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nterstate Commerce Act and the Sherman Antitrust Act were attempts to regulate business but these laws were generally ineffect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odrow Wilson (then a college professor) advocated better management of gover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odrow Wilson, courtesy of        The Constitution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ar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ined management thought prior to the scientific management era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civilizations placed  a low value on economic 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chnical and cultural changes of the Industrial Revolution presented managerial problems in : organizing, motivating people, and fusing people and proce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mmary of Par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amined management thought prior to the scientific management era in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rly civilizations placed  a low value on economic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technical and cultural changes of the Industrial Revolution presented managerial problems in : organizing, motivating people, and fusing people and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6-1         Synopsis of early management thou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gure 6-1         Synopsis of early management thou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ademy of Management – Management History Division Websi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omhistory.baker.edu/departments/leadership/mgthistory/link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of Internet Resources compiled by Charles Booth http://www.jiscmail.ac.uk/files/MANAGEMENT-HISTORY/link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stern Libraries Business Library – Biographies of G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ib.uwo.ca/business/guru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s from Ancient Hist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ccel-team.com/scientific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 Web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aculty.rsu.edu/~felwell/Theorists/Weber/Whome.ht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lo Machiavelli – Medieval Source Book – The Prince 15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ordham.edu/halsall/basis/machiavelli-princ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Locke 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lupete.com/Literature/Biographies/Philosophy/Locke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m Sm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cserv2.socsci.mcmaster.ca/~econ/ugcm/3ll3/smith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Watt by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istory.rochester.edu/steam/carneg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s during the Industrial Revolu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ccel-team.com/scientific/scientific_01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ademy of Management – Management History Division Websi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omhistory.baker.edu/departments/leadership/mgthistory/lin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ist of Internet Resources compiled by Charles Booth http://www.jiscmail.ac.uk/files/MANAGEMENT-HISTORY/link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stern Libraries Business Library – Biographies of Gu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lib.uwo.ca/business/guru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ments from Ancient Hist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ccel-team.com/scientific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x Web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faculty.rsu.edu/~felwell/Theorists/Weber/Whom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icolo Machiavelli – Medieval Source Book – The Prince 15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fordham.edu/halsall/basis/machiavelli-prin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Locke Bi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blupete.com/Literature/Biographies/Philosophy/Lock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am Sm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socserv2.socsci.mcmaster.ca/~econ/ugcm/3ll3/smit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ames Watt by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history.rochester.edu/steam/carneg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ments during the Industrial Revolu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ccel-team.com/scientific/scientific_0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Slater – “Rhode Island Syste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o use steam-driven power lo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d on sole proprietorship or partnership form of ownership ini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d on family for labor – with growth had to hire professional manag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ly integrated operations forward and backw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S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Slater – “Rhode Island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rst to use steam-driven power lo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lied on sole proprietorship or partnership form of ownership init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lied on family for labor – with growth had to hire professional ma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tically integrated operations forward an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S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bert Owen Muse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robert-owen.midwales.com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es Babbage Instit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bi.umn.edu/exhibits/cb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Ure - The Philosophy of the Manufacturers 18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ordham.edu/halsall/mod/1835ur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es Dupin Biograph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-groups.dcs.st-and.ac.uk/~history/Mathematicians/Dupin.htm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rus McCormick - 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vaes.vt.edu/steeles/mccormick/bio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F.B. Mor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emory.loc.gov/ammem/atthtml/mrshom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R. Towne – Address delivered at Purdue University (19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slib.org/stamford/towne1905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mericaslibrary.gov/cgi-bin/page.cgi/aa/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ckefellers – PBS Docu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pbs.org/wgbh/amex/rockefellers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uel Gompers Pa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istory.umd.edu/Gomper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obert Owen Muse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robert-owen.midwales.com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rles Babbage Institu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cbi.umn.edu/exhibits/cb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Ure - The Philosophy of the Manufacturers 18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fordham.edu/halsall/mod/1835ur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rles Dupin Biograph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-groups.dcs.st-and.ac.uk/~history/Mathematicians/Dupin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yrus McCormick - Bi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vaes.vt.edu/steeles/mccormick/bio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F.B. Mo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memory.loc.gov/ammem/atthtml/mrshom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R. Towne – Address delivered at Purdue University (19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cslib.org/stamford/towne1905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mericaslibrary.gov/cgi-bin/page.cgi/aa/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ockefellers – PBS Docu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pbs.org/wgbh/amex/rockefeller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amuel Gompers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history.umd.edu/Gompers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of Par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d of Par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cis Lowell – “Waltham Syste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ater-power lo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red non-family supervisors &amp; managers with corporate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integrated spinning and weaving to manufacture goods in large quant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d on adult female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ised by Charles Dickens for better treatment of employ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rancis Lowell – “Waltham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water-power lo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red non-family supervisors &amp; managers with corporat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integrated spinning and weaving to manufacture goods in large quant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lied on adult female lab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aised by Charles Dickens for better treatment of employ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Mill at Pawtucket, Rhode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 – present day reco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iction of M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Mill at Pawtucket, Rhode I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ll – present day re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piction of M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wealth v. Hunt (184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 combinations (unions) were no longer illegal unless their intent was crim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ing a closed shop and striking were no longer illeg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pplied to Massachusetts but discouraged prosecution of worker organizations elsew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onwealth v. Hunt (18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combinations (unions) were no longer illegal unless their intent was crimi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eking a closed shop and striking were no longer illeg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ly applied to Massachusetts but discouraged prosecution of worker organizations else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acture by interchangeable parts was not new – previously confined to making muskets and revolv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ringfield (MA) Armory was an early factory prot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employees – largest factory in the U.S. until after the Civil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ed by Colonel Roswell Lee in 18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piece rate incentive payments and accounting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was more specia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form standards promoted interchangeability of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nufacture by interchangeable parts was not new – previously confined to making muskets and revol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pringfield (MA) Armory was an early factory prot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50 employees – largest factory in the U.S. until after the Civil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anized by Colonel Roswell Lee in 18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piece rate incentive payments and accounting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bor was more special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form standards promoted interchangeability of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spread to other areas of manufactu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: The reaper by Cyrus McCorm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American System” received its name at the exposition of 1851 in Lond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factories remained relatively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cLane report of 1832 found the firms were most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 owned and mana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corporations – unlimited li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use of steam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findings of Andrew Ure regarding English fi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deas spread to other areas of manufactu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: The reaper by Cyrus McCorm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“American System” received its name at the exposition of 1851 in Lond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.S. factories remained relatively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McLane report of 1832 found the firms were most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mily owned and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w corporations – unlimited l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ittle use of steam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milar to findings of Andrew Ure regarding English fi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A7E1-84A2-4608-8B1D-4A1AC2FC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9AC3-C03A-4572-9A1A-7126ACB9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11D9-B848-4A85-9B6D-A1EAE5EB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656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2708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656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2708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9BED-9272-4192-87FE-53A42C6D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CBAC-0C76-4B9A-8AD6-D5E65E46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141F-CEAD-4490-A88C-FB168CB4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ADBC-550C-49D7-997C-464A6E5E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1466-A8D8-42BF-9E8B-E1F4AEF9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C25D-5408-46A5-BD79-C268C82C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440" y="207720"/>
            <a:ext cx="582948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004E-235B-47A2-8206-0A911D58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E48E-9E02-4D14-821C-77764C45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C56E-7401-47C3-A493-2DEECD92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3390-E312-4438-A95C-F533EC73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871A-8F61-47AA-95FB-DEE7A4AC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505F-16C6-436E-AB7A-F29D8F1E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3839-008F-4C89-801A-0CBE430A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656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2708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656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462708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77C3-EFC6-4197-A919-2A34B67E2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D07B-89F3-479D-B7C5-C690A12F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439F-8F62-472A-A529-BA7ECDA1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8BA4-BB89-4D14-B347-B18B1913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440" y="207720"/>
            <a:ext cx="582948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D2B9-8A2B-415B-A986-B49F1C82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51AF-0704-421B-A0BE-B54D696D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98EE-6AE5-414E-9855-1247A17B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CC16-997F-49F8-BF48-B0B4DE1E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6514920" cy="3660840"/>
            <a:chOff x="0" y="0"/>
            <a:chExt cx="6514920" cy="366084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456840" cy="3660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285480" y="1064160"/>
              <a:ext cx="6229440" cy="136800"/>
              <a:chOff x="285480" y="1064160"/>
              <a:chExt cx="6229440" cy="13680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5143320" y="1064160"/>
                <a:ext cx="1371600" cy="136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285480" y="1121400"/>
                <a:ext cx="622944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4692240"/>
            <a:ext cx="1486080" cy="3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51424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086080" y="4691160"/>
            <a:ext cx="142884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5CD3DCD9-A0F8-4D46-B29D-508F3CBC363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3660840"/>
            <a:ext cx="45720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6571800" cy="4462200"/>
            <a:chOff x="0" y="0"/>
            <a:chExt cx="6571800" cy="44622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314000" cy="36615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2631600"/>
              <a:ext cx="6571800" cy="1830600"/>
              <a:chOff x="0" y="2631600"/>
              <a:chExt cx="6571800" cy="18306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742680" y="2631600"/>
                <a:ext cx="5829120" cy="18306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778320" y="2802960"/>
                <a:ext cx="5736240" cy="160524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3661200"/>
                <a:ext cx="74268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475920" y="400320"/>
              <a:ext cx="6057720" cy="228600"/>
              <a:chOff x="475920" y="400320"/>
              <a:chExt cx="6057720" cy="22860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4704480" y="400320"/>
                <a:ext cx="1828800" cy="228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475920" y="514440"/>
                <a:ext cx="60577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84360" y="4692240"/>
            <a:ext cx="1428480" cy="3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51568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5086080" y="4691160"/>
            <a:ext cx="142884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DED97B2C-6503-4F55-87C2-7A89F5EB651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aomhistory.baker.edu/departments/leadership/mgthistory/links.html" TargetMode="External"/><Relationship Id="rId2" Type="http://schemas.openxmlformats.org/officeDocument/2006/relationships/hyperlink" Target="http://www.jiscmail.ac.uk/files/MANAGEMENT-HISTORY/links.htm" TargetMode="External"/><Relationship Id="rId3" Type="http://schemas.openxmlformats.org/officeDocument/2006/relationships/hyperlink" Target="http://www.lib.uwo.ca/business/gurus.html" TargetMode="External"/><Relationship Id="rId4" Type="http://schemas.openxmlformats.org/officeDocument/2006/relationships/hyperlink" Target="http://www.accel-team.com/scientific/index.html" TargetMode="External"/><Relationship Id="rId5" Type="http://schemas.openxmlformats.org/officeDocument/2006/relationships/hyperlink" Target="http://www.faculty.rsu.edu/~felwell/Theorists/Weber/Whome.htm" TargetMode="External"/><Relationship Id="rId6" Type="http://schemas.openxmlformats.org/officeDocument/2006/relationships/hyperlink" Target="http://www.fordham.edu/halsall/basis/machiavelli-prince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2960" y="858600"/>
            <a:ext cx="4972320" cy="1657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Week 3 Notes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28520" y="2975040"/>
            <a:ext cx="5143320" cy="1200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dustrial Revolution in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251604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Railroads: Pioneering in U.S.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2742840"/>
            <a:ext cx="5829480" cy="1989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“big business” in the U.S. – developed c. 18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d the transportation rev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ated U.S. industry move from local markets to national mark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lroads had size and complex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a management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historybirthpict"/>
          <p:cNvPicPr/>
          <p:nvPr/>
        </p:nvPicPr>
        <p:blipFill>
          <a:blip r:embed="rId1"/>
          <a:stretch/>
        </p:blipFill>
        <p:spPr>
          <a:xfrm>
            <a:off x="914400" y="1447920"/>
            <a:ext cx="5143680" cy="10508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95280" y="2514600"/>
            <a:ext cx="381024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 of American Railroads (AAR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ommunication Revolution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7632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6000"/>
          </a:bodyPr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legraph, patented by Samuel Morse in 1837, started concurrent  revolution in communication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y 1860, about 50,000 miles of wires extended over the eastern U.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ramatic effect on business communica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acilitated U.S. industry move from local markets to national marke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chard Sears used the telegraph to see gold watches – the first electronic commerc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mrsimg"/>
          <p:cNvPicPr/>
          <p:nvPr/>
        </p:nvPicPr>
        <p:blipFill>
          <a:blip r:embed="rId1"/>
          <a:stretch/>
        </p:blipFill>
        <p:spPr>
          <a:xfrm>
            <a:off x="787320" y="1201680"/>
            <a:ext cx="2635200" cy="34005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1857960" y="4552920"/>
            <a:ext cx="1033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amuel Mo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Age of Rails: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Daniel McCallum (1815-1878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71320" y="1514160"/>
            <a:ext cx="331452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2000"/>
          </a:bodyPr>
          <a:p>
            <a:pPr marL="236160" indent="-236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a system of managing on the Erie Railro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pecific job descrip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urate performance repor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rit basis for pay and promo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ational chart to show lines of authority, responsibility, and communi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elegraph for dispatching trains and checking on perform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daniel_mccallum"/>
          <p:cNvPicPr/>
          <p:nvPr/>
        </p:nvPicPr>
        <p:blipFill>
          <a:blip r:embed="rId1"/>
          <a:stretch/>
        </p:blipFill>
        <p:spPr>
          <a:xfrm>
            <a:off x="3855960" y="1201680"/>
            <a:ext cx="2457360" cy="3400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4000680" y="4633920"/>
            <a:ext cx="262872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, Circa 18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Daniel McCallum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8000"/>
          </a:bodyPr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ystem of management relied on division of labor, personal responsibility, and organiza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veloped a formal organization char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veloped highest state of the art information managemen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st his job when the locomotive engineers would not follow his ru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98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ers were on strike for ten days in June 1854 then 6 months in 1857 in defiance of McCallum’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ccessful career building bridges and served as master of the Union’s railroads in the Civil Wa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89080"/>
            <a:ext cx="5845320" cy="574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Erie Railroad Organizational Chart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perhaps the first organizational chart ever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Callum created the organizational chart to explain the Erie Railroad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hoto0013"/>
          <p:cNvPicPr/>
          <p:nvPr/>
        </p:nvPicPr>
        <p:blipFill>
          <a:blip r:embed="rId1"/>
          <a:stretch/>
        </p:blipFill>
        <p:spPr>
          <a:xfrm>
            <a:off x="3962520" y="898560"/>
            <a:ext cx="2538360" cy="37814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9"/>
          <p:cNvSpPr/>
          <p:nvPr/>
        </p:nvSpPr>
        <p:spPr>
          <a:xfrm>
            <a:off x="2271240" y="4784760"/>
            <a:ext cx="45255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rie Railroad Organization Chart of 1855.  Library of Congress, Haer, N.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Henry V. Poor (1812-1905)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 Broader Management View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01680"/>
            <a:ext cx="28576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tor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merican Railroad Jou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ame “conscience” of first U.S. big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ed for broader principles of railroad operations (financing, regulation, and role of U.S. Railroad in lif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three principles based on McCallum’s ideas: organization, information, and 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henry_poor"/>
          <p:cNvPicPr/>
          <p:nvPr/>
        </p:nvPicPr>
        <p:blipFill>
          <a:blip r:embed="rId1"/>
          <a:stretch/>
        </p:blipFill>
        <p:spPr>
          <a:xfrm>
            <a:off x="3970440" y="1538280"/>
            <a:ext cx="2400120" cy="2727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4000680" y="4633920"/>
            <a:ext cx="262872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arnum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Henry V. Poo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ater work, Poor felt the answer to problems of top management was through better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ity in the organiz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lecting leaders on mer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veloping better information syste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2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054" descr="steamrrengine01"/>
          <p:cNvPicPr/>
          <p:nvPr/>
        </p:nvPicPr>
        <p:blipFill>
          <a:blip r:embed="rId1"/>
          <a:stretch/>
        </p:blipFill>
        <p:spPr>
          <a:xfrm>
            <a:off x="3676680" y="1728720"/>
            <a:ext cx="2838600" cy="23432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055"/>
          <p:cNvSpPr/>
          <p:nvPr/>
        </p:nvSpPr>
        <p:spPr>
          <a:xfrm>
            <a:off x="3809880" y="4191120"/>
            <a:ext cx="327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Pics4Learning. http://pics.tech4learning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Emerging Governance Issu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rly industries were partnerships or sole proprietorship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ilroads, requiring large amounts of capital, saw the growth of joint-stock compani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ithout uniform, adequate laws in Great Britain, management malfeasance occurre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nry Poor wrote about the need for government regulation but not contro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om independence to 1860, the U.S. grew and developed industr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riod was critical to development of the modern enterpri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ilroads and the telegraph allowed firms to grow for economies of scale and scop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nagers were required for large, complex organizatio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uality of life for people was improv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42960" y="858600"/>
            <a:ext cx="4972320" cy="1657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Chapter Six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28520" y="2975040"/>
            <a:ext cx="5143320" cy="1200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Growth and Systematic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251604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Industrial Revolution – in the United Stat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ritish mercantilism kept the U.S. as a colony which delayed economic develop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reat Britain prohibited the sale of manufacturing equipment and emigration of skilled labor to U.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am Smith influenced writing of the U.S. Constitution and economic system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xtile Indust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Commonwealth vs. Hun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1842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merican System of Manufactu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ailroa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ndustrial Growth and Systematic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wth of enterprise was facilitated by transportation and communication revolutions as well as manufacture by interchangeable par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fred D. Chandler J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drew Carnegi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ystematic Manag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Changing Environ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lfred D. Chandler, Jr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67632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dler wrote about the evolution of U.S. Corporations in 1962 boo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ategy and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developed his ideas from the study of U.S. corporations during this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33" descr="achandle 1r"/>
          <p:cNvPicPr/>
          <p:nvPr/>
        </p:nvPicPr>
        <p:blipFill>
          <a:blip r:embed="rId1"/>
          <a:stretch/>
        </p:blipFill>
        <p:spPr>
          <a:xfrm>
            <a:off x="685800" y="8153280"/>
            <a:ext cx="3017880" cy="3886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36" descr="achandle 1r"/>
          <p:cNvPicPr/>
          <p:nvPr/>
        </p:nvPicPr>
        <p:blipFill>
          <a:blip r:embed="rId2"/>
          <a:stretch/>
        </p:blipFill>
        <p:spPr>
          <a:xfrm>
            <a:off x="905040" y="1201680"/>
            <a:ext cx="2400120" cy="34005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037"/>
          <p:cNvSpPr/>
          <p:nvPr/>
        </p:nvSpPr>
        <p:spPr>
          <a:xfrm>
            <a:off x="838080" y="4572000"/>
            <a:ext cx="3276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fred D. Chandler, J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Harvard Business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lfred D. Chandler, Jr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scribed the late 19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century as the accumulation of resources with growth occurring because of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combinations of firms in smaller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integration – forward and back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rger firms and the growth of hierarchy of managers to coordinate and integrate operations were the resul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ey to success was good management, not siz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76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Andrew Carnegie (1835-1919)</a:t>
            </a:r>
            <a:br>
              <a:rPr sz="3000"/>
            </a:b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Steel Industry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733560" y="1447560"/>
            <a:ext cx="285732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8000"/>
          </a:bodyPr>
          <a:p>
            <a:pPr marL="251640" indent="-25164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arned McCallum’s system of management on the Pennsylvania Railro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d the new Bessemer furnace technology to begin vertically and horizontally integrating his firm in the steel industry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d cost accounting to guide his pricing strategy and drive costs dow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685800" y="4599000"/>
            <a:ext cx="28195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carnegie"/>
          <p:cNvPicPr/>
          <p:nvPr/>
        </p:nvPicPr>
        <p:blipFill>
          <a:blip r:embed="rId1"/>
          <a:stretch/>
        </p:blipFill>
        <p:spPr>
          <a:xfrm>
            <a:off x="1066680" y="1432080"/>
            <a:ext cx="1824120" cy="30891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ndrew Carnegie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Steel Indust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285732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increased the “throughput” velocity to gain economies of scale and to fully utilize his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was a declining price of steel for the consu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aa_carnegie_work_1_m"/>
          <p:cNvPicPr/>
          <p:nvPr/>
        </p:nvPicPr>
        <p:blipFill>
          <a:blip r:embed="rId1"/>
          <a:stretch/>
        </p:blipFill>
        <p:spPr>
          <a:xfrm>
            <a:off x="3913200" y="1460520"/>
            <a:ext cx="2602080" cy="28828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3943440" y="4403880"/>
            <a:ext cx="27432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’s  his first job was in a textile mill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Renaissance of Systematic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01680"/>
            <a:ext cx="28576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chanical engineers (especially Henry R. Towne) became important in improving factory operations – they often became the mana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erous others began to take an interest in manag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dea that good management was critical in a firm gained credence with engineers and economi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henry_towne"/>
          <p:cNvPicPr/>
          <p:nvPr/>
        </p:nvPicPr>
        <p:blipFill>
          <a:blip r:embed="rId1"/>
          <a:stretch/>
        </p:blipFill>
        <p:spPr>
          <a:xfrm>
            <a:off x="4199040" y="1201680"/>
            <a:ext cx="2009520" cy="340056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Renaissance of Systematic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Labor Ques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“Social Gospel” proponents felt that workers should join unions, share in profits, and have arbitration instead of strik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s and others felt that better work methods and systems were the answer, including pay for performance incentiv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895 Frederick W.Taylor proposed a rate setting and piece-rat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6000"/>
          </a:bodyPr>
          <a:p>
            <a:pPr marL="246600" indent="-246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siness &amp; Socie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ew Josephson characterized the business leaders of this time as “Robber Baron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evidence that business leaders did engage in some corrupt practices: watering stock, bribery of government officials, manipulating stock, and conspi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motivation was alleged to be “survival of the fittest” and desire for monopo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vation was also drive for economies of scale that led to lower pr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2838600" cy="3089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4000"/>
          </a:bodyPr>
          <a:p>
            <a:pPr marL="241560" indent="-2415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ocial conscience of the 19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entury entrepreneur gave rise to individual philanthrop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zra Cornell – his money founded Cornell Univers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lliam Colgate – college changed its name to his as result of his generosit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ohn Hopkins –  founded John Hopkins Univers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rnelius Vanderbilt – founded Vanderbilt Univers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vanderbilt"/>
          <p:cNvPicPr/>
          <p:nvPr/>
        </p:nvPicPr>
        <p:blipFill>
          <a:blip r:embed="rId1"/>
          <a:stretch/>
        </p:blipFill>
        <p:spPr>
          <a:xfrm>
            <a:off x="3676680" y="1511280"/>
            <a:ext cx="2838600" cy="27813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3429000" y="4386240"/>
            <a:ext cx="3429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rnelius Vanderbi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hilanthrop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seph Wharton – grant enabled first business school at University of Pennsylva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ward Tuck – gift to Dartmouth started Amos Tuck School of Admin. &amp; Fin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land Stanford – honored his son with a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Stevens – provided for the Stevens Institute of Technolog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es B. Duke – Trinity College (later renamed for the famil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Drew – promise of funds led to Drew Univers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es Brown – founded Rhode Island College; became Brown University in 18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Early Industrial Development– Textile Mill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9880" y="1676520"/>
            <a:ext cx="2857680" cy="360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industry at the time was text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though the textile industry was the largest business, factories were still sm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” on the left depicts an early textile m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textile_mill"/>
          <p:cNvPicPr/>
          <p:nvPr/>
        </p:nvPicPr>
        <p:blipFill>
          <a:blip r:embed="rId1"/>
          <a:stretch/>
        </p:blipFill>
        <p:spPr>
          <a:xfrm>
            <a:off x="685800" y="1936800"/>
            <a:ext cx="2857680" cy="1927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2857680" cy="3089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ous Philanthrop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John D. Rockefeller – given half a billion dollars by the time of his death as well as establishing the Rockefeller Foundat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ockefeller is pictured here in 1907 beside a building.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962520" y="4267080"/>
            <a:ext cx="28954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John D. Rockefel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hicago Daily News negatives collec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DN-0051595. Courtesy of the Chicago Historical Societ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4" descr="Rockefeller"/>
          <p:cNvPicPr/>
          <p:nvPr/>
        </p:nvPicPr>
        <p:blipFill>
          <a:blip r:embed="rId1"/>
          <a:stretch/>
        </p:blipFill>
        <p:spPr>
          <a:xfrm>
            <a:off x="3608280" y="1212840"/>
            <a:ext cx="2838600" cy="293544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657600" y="1201680"/>
            <a:ext cx="28576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ous Philanthrop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drew Carnegie – gave away $350 million by the time of his death in addition to his libraries, university, and the Carnegie Foundat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andrew_carnegie"/>
          <p:cNvPicPr/>
          <p:nvPr/>
        </p:nvPicPr>
        <p:blipFill>
          <a:blip r:embed="rId1"/>
          <a:stretch/>
        </p:blipFill>
        <p:spPr>
          <a:xfrm>
            <a:off x="857160" y="1773360"/>
            <a:ext cx="2571840" cy="26175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7"/>
          <p:cNvSpPr/>
          <p:nvPr/>
        </p:nvSpPr>
        <p:spPr>
          <a:xfrm>
            <a:off x="762120" y="4495680"/>
            <a:ext cx="31240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drew Carneg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Rockefeller and Carnegi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 generosity by both individuals, the Congressional Committee on Industrial Relations in 1915 denounced both as “menaces to societ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andrew carnegie free library and music hall"/>
          <p:cNvPicPr/>
          <p:nvPr/>
        </p:nvPicPr>
        <p:blipFill>
          <a:blip r:embed="rId1"/>
          <a:stretch/>
        </p:blipFill>
        <p:spPr>
          <a:xfrm>
            <a:off x="914400" y="2573280"/>
            <a:ext cx="3090960" cy="2216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rockefeller_archive_center"/>
          <p:cNvPicPr/>
          <p:nvPr/>
        </p:nvPicPr>
        <p:blipFill>
          <a:blip r:embed="rId2"/>
          <a:stretch/>
        </p:blipFill>
        <p:spPr>
          <a:xfrm>
            <a:off x="4457880" y="2460600"/>
            <a:ext cx="2035080" cy="23353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"/>
          <p:cNvSpPr/>
          <p:nvPr/>
        </p:nvSpPr>
        <p:spPr>
          <a:xfrm>
            <a:off x="4457880" y="4803840"/>
            <a:ext cx="211428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ckefeller Archiv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1200240" y="4803840"/>
            <a:ext cx="23432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drew Carnegie Free Library &amp; Music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usiness and Labo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monwealth v. Hunt decision (1842) broke the British tradition of unions as conspiracies in restraint of tr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craft unions and brotherhoods of railroad workers were successful in the late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ntu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orts to organize other workers were generally unsuccess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 violence in the late 1800s fueled public fear of un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usiness and Labo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7632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merican Federation of Labor organized in 1886 under Samuel Gomper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thout unions, and despite growing numbers of immigrants, U.S. workers found their wages and real (purchasing power) wages rising during the perio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2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Gompers"/>
          <p:cNvPicPr/>
          <p:nvPr/>
        </p:nvPicPr>
        <p:blipFill>
          <a:blip r:embed="rId1"/>
          <a:stretch/>
        </p:blipFill>
        <p:spPr>
          <a:xfrm>
            <a:off x="774720" y="1523880"/>
            <a:ext cx="2354400" cy="30895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7"/>
          <p:cNvSpPr/>
          <p:nvPr/>
        </p:nvSpPr>
        <p:spPr>
          <a:xfrm>
            <a:off x="838080" y="4724280"/>
            <a:ext cx="2114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muel Gompers,                         courtesy of  Library of Con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nventive and Innovative Impuls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3000"/>
          </a:bodyPr>
          <a:p>
            <a:pPr marL="239040" indent="-239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ailroads: made travel possible and pleasurable; fostered a retailing revolu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legraph and telephone: aided growth of commerce and transportation through communica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ther industries developed and grew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mark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wing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usiness and Government: The  Seeds of Reform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143160" cy="3205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9000"/>
          </a:bodyPr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“elastic clause,” the commerce clause, of the U.S. Constitution expanded during this period with regulation of railroa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terstate Commerce Act and the Sherman Antitrust Act were attempts to regulate business but these laws were generally ineffec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odrow Wilson (then a college professor) advocated better management of gover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woodrow_wilson"/>
          <p:cNvPicPr/>
          <p:nvPr/>
        </p:nvPicPr>
        <p:blipFill>
          <a:blip r:embed="rId1"/>
          <a:stretch/>
        </p:blipFill>
        <p:spPr>
          <a:xfrm>
            <a:off x="4191120" y="1201680"/>
            <a:ext cx="2031840" cy="34005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4229280" y="4691160"/>
            <a:ext cx="21142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odrow Wilson, courtesy of        The Constitution Soci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Summary of Part On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amined management thought prior to the scientific management era in the U.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rly civilizations placed  a low value on economic activit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technical and cultural changes of the Industrial Revolution presented managerial problems in : organizing, motivating people, and fusing people and proces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flow chart"/>
          <p:cNvPicPr/>
          <p:nvPr/>
        </p:nvPicPr>
        <p:blipFill>
          <a:blip r:embed="rId1"/>
          <a:stretch/>
        </p:blipFill>
        <p:spPr>
          <a:xfrm>
            <a:off x="838080" y="304920"/>
            <a:ext cx="5486400" cy="451944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"/>
          <p:cNvSpPr/>
          <p:nvPr/>
        </p:nvSpPr>
        <p:spPr>
          <a:xfrm>
            <a:off x="1676520" y="4800600"/>
            <a:ext cx="3657600" cy="2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gure 6-1         Synopsis of early management thou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dditional Internet Resourc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560" y="1514160"/>
            <a:ext cx="6411960" cy="3422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ademy of Management – Management History Division Website</a:t>
            </a:r>
            <a:br>
              <a:rPr sz="1100"/>
            </a:br>
            <a:r>
              <a:rPr b="1" lang="en-US" sz="11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www.aomhistory.baker.edu/departments/leadership/mgthistory/links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st of Internet Resources compiled by Charles Boot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www.jiscmail.ac.uk/files/MANAGEMENT-HISTORY/links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estern Libraries Business Library – Biographies of Gur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http://www.lib.uwo.ca/business/gurus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s from Ancient History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http://www.accel-team.com/scientific/index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x Weber </a:t>
            </a:r>
            <a:br>
              <a:rPr sz="1100"/>
            </a:br>
            <a:r>
              <a:rPr b="1" lang="en-US" sz="11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http://www.faculty.rsu.edu/~felwell/Theorists/Weber/Whome.ht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icolo Machiavelli – Medieval Source Book – The Prince 15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http://www.fordham.edu/halsall/basis/machiavelli-princ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ohn Locke Biograp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blupete.com/Literature/Biographies/Philosophy/Locke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am Smit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socserv2.socsci.mcmaster.ca/~econ/ugcm/3ll3/smith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mes Watt by Carnegi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history.rochester.edu/steam/carnegie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s during the Industrial Revolutio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accel-team.com/scientific/scientific_01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extile Mill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12560" y="1201680"/>
            <a:ext cx="340236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9000"/>
          </a:bodyPr>
          <a:p>
            <a:pPr marL="254160" indent="-25416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uel Slater – “Rhode Island Syste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rst to use steam-driven power loo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lied on sole proprietorship or partnership form of ownership initiall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lied on family for labor – with growth had to hire professional manager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ertically integrated operations forward and backwar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30" descr="samuel_slater"/>
          <p:cNvPicPr/>
          <p:nvPr/>
        </p:nvPicPr>
        <p:blipFill>
          <a:blip r:embed="rId1"/>
          <a:stretch/>
        </p:blipFill>
        <p:spPr>
          <a:xfrm>
            <a:off x="712800" y="1212840"/>
            <a:ext cx="2286000" cy="33544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31"/>
          <p:cNvSpPr/>
          <p:nvPr/>
        </p:nvSpPr>
        <p:spPr>
          <a:xfrm>
            <a:off x="857160" y="4633920"/>
            <a:ext cx="222912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amuel Sla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dditional Internet Resourc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514160"/>
            <a:ext cx="641196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4000"/>
          </a:bodyPr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Robert Owen Museu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robert-owen.midwales.com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les Babbage Institu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cbi.umn.edu/exhibits/cb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rew Ure - The Philosophy of the Manufacturers 183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fordham.edu/halsall/mod/1835ur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les Dupin Biography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-groups.dcs.st-and.ac.uk/~history/Mathematicians/Dupin.htm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yrus McCormick - Biograp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vaes.vt.edu/steeles/mccormick/bio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muel F.B. Mors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memory.loc.gov/ammem/atthtml/mrshom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nry R. Towne – Address delivered at Purdue University (190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cslib.org/stamford/towne1905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rew Carnegi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americaslibrary.gov/cgi-bin/page.cgi/aa/carneg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Rockefellers – PBS Document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pbs.org/wgbh/amex/rockefellers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amuel Gompers Pap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history.umd.edu/Gompers/index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2960" y="858600"/>
            <a:ext cx="4972320" cy="1657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End of Part On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028520" y="2975040"/>
            <a:ext cx="5143320" cy="1200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251604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extile Mill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is Lowell – “Waltham Syst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water-power loo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red non-family supervisors &amp; managers with corporate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tegrated spinning and weaving to manufacture goods in large quant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ed on adult female lab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ised by Charles Dickens for better treatment of employ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extile Mill at Pawtucket, Rhode Island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5" descr="mill_pawtucket"/>
          <p:cNvPicPr/>
          <p:nvPr/>
        </p:nvPicPr>
        <p:blipFill>
          <a:blip r:embed="rId1"/>
          <a:stretch/>
        </p:blipFill>
        <p:spPr>
          <a:xfrm>
            <a:off x="399960" y="1601640"/>
            <a:ext cx="3086280" cy="2067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mill_pawtucket_present"/>
          <p:cNvPicPr/>
          <p:nvPr/>
        </p:nvPicPr>
        <p:blipFill>
          <a:blip r:embed="rId2"/>
          <a:stretch/>
        </p:blipFill>
        <p:spPr>
          <a:xfrm>
            <a:off x="3714840" y="1601640"/>
            <a:ext cx="2905200" cy="1971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1200240" y="3946680"/>
            <a:ext cx="25146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943440" y="3660840"/>
            <a:ext cx="23432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ll – present day 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743040" y="3718080"/>
            <a:ext cx="2343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iction of M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Times New Roman"/>
              </a:rPr>
              <a:t>Commonwealth v. Hunt (1842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orker combinations (unions) were no longer illegal unless their intent was crimin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eking a closed shop and striking were no longer illeg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ly applied to Massachusetts but discouraged prosecution of worker organizations elsewhe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The American System of Manufactures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e by interchangeable parts was not new – previously confined to making muskets and revol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pringfield (MA) Armory was an early factory proto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 employees – largest factory in the U.S. until after the Civil W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d by Colonel Roswell Lee in 18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piece rate incentive payments and accounting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 was more specializ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form standards promoted interchangeability of p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The American System of Manufactures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7000"/>
          </a:bodyPr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s spread to other areas of manufactu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The reaper by Cyrus McCorm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American System” received its name at the exposition of 1851 in Lond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factories remained relatively sm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cLane report of 1832 found the firms were mos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y owned and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corporations – unlimited 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use of steam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findings of Andrew Ure regarding English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9T17:19:21Z</dcterms:created>
  <dc:creator>Julia Teahen</dc:creator>
  <dc:description/>
  <dc:language>en-US</dc:language>
  <cp:lastModifiedBy>Legion</cp:lastModifiedBy>
  <dcterms:modified xsi:type="dcterms:W3CDTF">2017-07-05T11:05:51Z</dcterms:modified>
  <cp:revision>195</cp:revision>
  <dc:subject/>
  <dc:title>Seminar One</dc:title>
</cp:coreProperties>
</file>