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871C-33DB-44A9-8B85-366F973AE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Industry and Inven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notes as the lecture is giv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Industry and Inven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notes as the lecture is giv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m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Fulton designed a steam engine for a steamboat that could move against the current of a river or against the w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eamboat created more opportunities for trade and transportation on riv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m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Fulton designed a steam engine for a steamboat that could move against the current of a river or against the w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eamboat created more opportunities for trade and transportation on riv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graph was invented by Samuel Mo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chine sent sent long and short pulses of electricity along a wi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telegraph, it took only seconds to communicate with another 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vention of the steamboat and telegraph brought the people of the nation closer to each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graph was invented by Samuel Mo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chine sent sent long and short pulses of electricity along a wi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telegraph, it took only seconds to communicate with another 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vention of the steamboat and telegraph brought the people of the nation closer to each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Deere and the p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36, John Deere invented a lightweight plow with a steel cutting ed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re’s plow made preparing the ground for planting much less 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Deere and the p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36, John Deere invented a lightweight plow with a steel cutting ed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re’s plow made preparing the ground for planting much less 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rus McCormick and the re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rus McCormick invented a mechanical reaper, cut grain from the fiel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llowed farmers to plant much more seed because they could harvest it easi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rus McCormick and the re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rus McCormick invented a mechanical reaper, cut grain from the fiel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llowed farmers to plant much more seed because they could harvest it easi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 separated the kernels of wheat from the husks, which was a far faster way of getting wheat than picking it by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 increased the growing of whe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 separated the kernels of wheat from the husks, which was a far faster way of getting wheat than picking it by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 increased the growing of whe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Technologies help nation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new farm equipment, Midwestern farmers grew food to feed Northeastern factory work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western farmers became a market for Northeastern manufactured go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wth of the textile factories increased the demand for Southern cott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ed to the expansion of slave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Technologies help nation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new farm equipment, Midwestern farmers grew food to feed Northeastern factory work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western farmers became a market for Northeastern manufactured go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wth of the textile factories increased the demand for Southern cott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ed to the expansion of slave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tton 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y Eli Whitney also invented the cotton 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n took the seeds out of the cotton, which was much faster than doing it by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tton gin also greatly expanded the need for sla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tton 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y Eli Whitney also invented the cotton 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n took the seeds out of the cotton, which was much faster than doing it by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tton gin also greatly expanded the need for sla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Industrial Revolution began in England in the late 18th centu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dustrial revolution is when hand tools are replaced by factory machines, and farming is replaced by large-scale manufactur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is the making of cloth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Industrial Revolution began in England in the late 18th centu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dustrial revolution is when hand tools are replaced by factory machines, and farming is replaced by large-scale manufactur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is the making of cloth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ning Jenny and Power L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Industr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ution, clothes were made at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wards, clothes were made by machines in facto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these machines were run by childr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ning Jenny and Power L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Industr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ution, clothes were made at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wards, clothes were made by machines in facto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these machines were run by childr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y system had many workers under one roof working at mach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left farms and moved to the city to work in factories. They wanted the money that factories pa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hange was not always for the bet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y system had many workers under one roof working at mach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left farms and moved to the city to work in factories. They wanted the money that factories pa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hange was not always for the bet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es Come to New En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England was a good place to have a fac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es needed water power, and New England had many fast-moving riv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es Come to New En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England was a good place to have a fac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es needed water power, and New England had many fast-moving riv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ll Mills Hire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13, Francis Cabot Lowell built a factory in eastern Massachusetts, near the Concord R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y spun cotton into yarn and wove the cotton into clo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was different about this factory, they hired wom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Lowell girls” lived in company-owned boardinghou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s worked over 12 hours a day in deafening noi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ll Mills Hire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13, Francis Cabot Lowell built a factory in eastern Massachusetts, near the Concord R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y spun cotton into yarn and wove the cotton into clo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was different about this factory, they hired wom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Lowell girls” lived in company-owned boardinghou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s worked over 12 hours a day in deafening noi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ll Gir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 women came to Lowell in spite of the no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me for the good wages: between two and four dollars a wee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s usually only worked for a few years until they marri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ll Gir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 women came to Lowell in spite of the no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me for the good wages: between two and four dollars a wee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s usually only worked for a few years until they marri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changeable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use of interchangeable parts was created by inventor Eli Whitne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is time, guns were made one at a time. Each gun was differ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art broke, a new part had to be crea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ney created muskets with exactly the same parts, so any part would fit any g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interchangeable parts speeded up production, made repairs easier, and allowed the use of lower-paid, less skilled work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changeable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use of interchangeable parts was created by inventor Eli Whitne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is time, guns were made one at a time. Each gun was differ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art broke, a new part had to be crea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ney created muskets with exactly the same parts, so any part would fit any g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interchangeable parts speeded up production, made repairs easier, and allowed the use of lower-paid, less skilled work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CEC2-629C-4FF3-BBF7-D2ED8C959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3246-2860-46B7-B679-468CCFFA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8B46-2E4C-4768-BA26-B5682CF19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4028-3EF1-419C-8556-D5EE8969A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A510-26BE-427A-902F-4EB013C08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6B6B-2272-45BC-8318-20055BFF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59DB-D559-460B-B603-2240B4AA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9FB2-D4E0-46DB-AC19-9F1A81BE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0A1A-2C26-4404-9F5C-82D3356A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7D06-4B6B-4071-8AE6-18C98056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7ABE-A070-454B-B94C-4396AFAE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EEB7-712E-47D0-A6FB-C1ECC7CE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5297-6315-4F43-8B92-EEA42082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6DBA-3426-4062-8AA3-C33C1319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BB82-E418-44B7-9E3D-08495A5A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3521-BBAC-4902-9842-2AB49107E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AEC77-29AB-4DEC-8DC7-9B0C3A06D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79B7-9DDF-4A5D-9CB7-83FB7941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C65B-5B6D-4972-AABF-A57C8DAF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46B1-F48E-4426-BFF9-B910D096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02FF-31E2-4B4C-BF62-58D95CB8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EA79-355D-4F5F-9C8D-4F86CAD9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3CE5-30C1-4CE6-AF6B-81739A3E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4F57-A36F-4044-8464-3C5B8C29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304920"/>
            <a:ext cx="8305920" cy="1295280"/>
            <a:chOff x="457200" y="304920"/>
            <a:chExt cx="8305920" cy="1295280"/>
          </a:xfrm>
        </p:grpSpPr>
        <p:sp>
          <p:nvSpPr>
            <p:cNvPr id="1" name="AutoShape 3"/>
            <p:cNvSpPr/>
            <p:nvPr/>
          </p:nvSpPr>
          <p:spPr>
            <a:xfrm>
              <a:off x="457200" y="3049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661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3960" y="3888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baa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14240" y="5428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64f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 flipV="1">
              <a:off x="647640" y="10663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89c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59056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77120" y="63244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7EF9-9F9D-4826-8FCC-7220E9709FD4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6"/>
          <p:cNvGrpSpPr/>
          <p:nvPr/>
        </p:nvGrpSpPr>
        <p:grpSpPr>
          <a:xfrm>
            <a:off x="457200" y="2362320"/>
            <a:ext cx="8305920" cy="1295280"/>
            <a:chOff x="457200" y="2362320"/>
            <a:chExt cx="8305920" cy="1295280"/>
          </a:xfrm>
        </p:grpSpPr>
        <p:sp>
          <p:nvSpPr>
            <p:cNvPr id="48" name="AutoShape 7"/>
            <p:cNvSpPr/>
            <p:nvPr/>
          </p:nvSpPr>
          <p:spPr>
            <a:xfrm>
              <a:off x="457200" y="23623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661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8"/>
            <p:cNvSpPr/>
            <p:nvPr/>
          </p:nvSpPr>
          <p:spPr>
            <a:xfrm>
              <a:off x="501480" y="24004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>
              <a:off x="723960" y="24462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baa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714240" y="26002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64f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 flipV="1">
              <a:off x="647640" y="31237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89c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4CC6-1206-49CA-97CC-8FEB452A03F9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ly Industry and Inven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notes as the lecture is gi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eambo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ert Fulton designed a steam engine for a steamboat that could move against the current of a river or against the wi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eamboat created more opportunities for trade and transportation on riv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stanton012s"/>
          <p:cNvPicPr/>
          <p:nvPr/>
        </p:nvPicPr>
        <p:blipFill>
          <a:blip r:embed="rId1"/>
          <a:stretch/>
        </p:blipFill>
        <p:spPr>
          <a:xfrm>
            <a:off x="4343400" y="2286000"/>
            <a:ext cx="4572000" cy="25210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8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3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elegrap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legraph was invented by Samuel Mor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chine sent sent long and short pulses of electricity along a wi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telegraph, it took only seconds to communicate with another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vention of the steamboat and telegraph brought the people of the nation closer to each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r818a"/>
          <p:cNvPicPr/>
          <p:nvPr/>
        </p:nvPicPr>
        <p:blipFill>
          <a:blip r:embed="rId1"/>
          <a:stretch/>
        </p:blipFill>
        <p:spPr>
          <a:xfrm>
            <a:off x="4267080" y="1828800"/>
            <a:ext cx="4648320" cy="33130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ohn Deere and the pl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071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836, John Deere invented a lightweight plow with a steel cutting ed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re’s plow made preparing the ground for planting much less wor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john_deere_plow_3"/>
          <p:cNvPicPr/>
          <p:nvPr/>
        </p:nvPicPr>
        <p:blipFill>
          <a:blip r:embed="rId1"/>
          <a:stretch/>
        </p:blipFill>
        <p:spPr>
          <a:xfrm>
            <a:off x="4572000" y="2606760"/>
            <a:ext cx="4267080" cy="32050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yrus McCormick and the reap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rus McCormick invented a mechanical reaper, cut grain from the fiel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llowed farmers to plant much more seed because they could harvest it easi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reaper"/>
          <p:cNvPicPr/>
          <p:nvPr/>
        </p:nvPicPr>
        <p:blipFill>
          <a:blip r:embed="rId1"/>
          <a:stretch/>
        </p:blipFill>
        <p:spPr>
          <a:xfrm>
            <a:off x="4495680" y="1905120"/>
            <a:ext cx="3810240" cy="1981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6820_jpg"/>
          <p:cNvPicPr/>
          <p:nvPr/>
        </p:nvPicPr>
        <p:blipFill>
          <a:blip r:embed="rId2"/>
          <a:stretch/>
        </p:blipFill>
        <p:spPr>
          <a:xfrm>
            <a:off x="5316480" y="4041720"/>
            <a:ext cx="2822760" cy="20541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hreshing Mach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hreshing machine separated the kernels of wheat from the husks, which was a far faster way of getting wheat than picking it by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hreshing machine increased the growing of whea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02 threshing machine"/>
          <p:cNvPicPr/>
          <p:nvPr/>
        </p:nvPicPr>
        <p:blipFill>
          <a:blip r:embed="rId1"/>
          <a:stretch/>
        </p:blipFill>
        <p:spPr>
          <a:xfrm>
            <a:off x="3809880" y="1828800"/>
            <a:ext cx="4343400" cy="2259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250px-Koeh-274"/>
          <p:cNvPicPr/>
          <p:nvPr/>
        </p:nvPicPr>
        <p:blipFill>
          <a:blip r:embed="rId2"/>
          <a:stretch/>
        </p:blipFill>
        <p:spPr>
          <a:xfrm>
            <a:off x="5562720" y="4038480"/>
            <a:ext cx="230976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w Technologies help nation gr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new farm equipment, Midwestern farmers grew food to feed Northeastern factory work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western farmers became a market for Northeastern manufactured go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owth of the textile factories increased the demand for Southern cot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d to the expansion of slave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cotton g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76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ory Eli Whitney also invented the cotton g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in took the seeds out of the cotton, which was much faster than doing it by h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tton gin also greatly expanded the need for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cotton_gin"/>
          <p:cNvPicPr/>
          <p:nvPr/>
        </p:nvPicPr>
        <p:blipFill>
          <a:blip r:embed="rId1"/>
          <a:stretch/>
        </p:blipFill>
        <p:spPr>
          <a:xfrm>
            <a:off x="4686480" y="1995480"/>
            <a:ext cx="4076640" cy="393372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ial Revol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Industrial Revolution began in England in the late 18th centu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dustrial revolution is when hand tools are replaced by factory machines, and farming is replaced by large-scale manufactur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 is the making of cloth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inning Jenny and Power Lo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the Industr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olution, clothes were made at h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wards, clothes were made by machines in factor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these machines were run by childr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Spinning Jenny"/>
          <p:cNvPicPr/>
          <p:nvPr/>
        </p:nvPicPr>
        <p:blipFill>
          <a:blip r:embed="rId1"/>
          <a:srcRect l="0" t="0" r="0" b="12173"/>
          <a:stretch/>
        </p:blipFill>
        <p:spPr>
          <a:xfrm>
            <a:off x="4572000" y="1600200"/>
            <a:ext cx="3809880" cy="2476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75990~Power-Loom-Weaving-1834-Posters"/>
          <p:cNvPicPr/>
          <p:nvPr/>
        </p:nvPicPr>
        <p:blipFill>
          <a:blip r:embed="rId2"/>
          <a:srcRect l="0" t="0" r="2127" b="14209"/>
          <a:stretch/>
        </p:blipFill>
        <p:spPr>
          <a:xfrm>
            <a:off x="4572000" y="4176720"/>
            <a:ext cx="3809880" cy="25002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tory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ctory system had many workers under one roof working at mach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left farms and moved to the city to work in factories. They wanted the money that factories pai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hange was not always for th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tories Come to New Engla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071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England was a good place to have a fact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ies needed water power, and New England had many fast-moving riv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lowell-factory"/>
          <p:cNvPicPr/>
          <p:nvPr/>
        </p:nvPicPr>
        <p:blipFill>
          <a:blip r:embed="rId1"/>
          <a:stretch/>
        </p:blipFill>
        <p:spPr>
          <a:xfrm>
            <a:off x="4691160" y="2801880"/>
            <a:ext cx="4071960" cy="231948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Picture 1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Lowell Mills Hire W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813, Francis Cabot Lowell built a factory in eastern Massachusetts, near the Concord Ri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actory spun cotton into yarn and wove the cotton into clo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was different about this factory, they hired wom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“Lowell girls” lived in company-owned boardinghous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irls worked over 12 hours a day in deafening noi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Lowell Gir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071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ng women came to Lowell in spite of the no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ame for the good wages: between two and four dollars a we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irls usually only worked for a few years until they marri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Lowell"/>
          <p:cNvPicPr/>
          <p:nvPr/>
        </p:nvPicPr>
        <p:blipFill>
          <a:blip r:embed="rId1"/>
          <a:stretch/>
        </p:blipFill>
        <p:spPr>
          <a:xfrm>
            <a:off x="5181480" y="1828800"/>
            <a:ext cx="3090960" cy="42670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changeable Par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use of interchangeable parts was created by inventor Eli Whitne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this time, guns were made one at a time. Each gun was differ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part broke, a new part had to be crea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ney created muskets with exactly the same parts, so any part would fit any gu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 of interchangeable parts speeded up production, made repairs easier, and allowed the use of lower-paid, less skilled work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gunpart1"/>
          <p:cNvPicPr/>
          <p:nvPr/>
        </p:nvPicPr>
        <p:blipFill>
          <a:blip r:embed="rId1"/>
          <a:stretch/>
        </p:blipFill>
        <p:spPr>
          <a:xfrm>
            <a:off x="609480" y="5345280"/>
            <a:ext cx="7772400" cy="13604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23:23:53Z</dcterms:created>
  <dc:creator>Madison Middle School</dc:creator>
  <dc:description/>
  <dc:language>en-US</dc:language>
  <cp:lastModifiedBy>Legion</cp:lastModifiedBy>
  <dcterms:modified xsi:type="dcterms:W3CDTF">2017-07-05T10:56:16Z</dcterms:modified>
  <cp:revision>25</cp:revision>
  <dc:subject/>
  <dc:title>PowerPoint Presentation  -  Early Industry and Inventions</dc:title>
</cp:coreProperties>
</file>