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6504-E50B-4F32-BA74-473AD6A92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69A-1DC2-433B-934E-86696054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499-A89A-497D-A6B0-9859EBDA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F6B-A07C-4038-BEF4-C0F5BD03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D5B-E879-4F44-B1CE-A090EF6D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F167-F541-49F1-850E-C0E7FDF2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6411-A3D0-407A-AE5D-E1BD5827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34B1-759B-4C3A-8876-E328754D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C1CC-698D-4471-9BE9-8DE16714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9DAF-E3EB-4667-985A-DED9E9E4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5D31-42AB-46AD-9042-0534DE5E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8DA2-7982-43A9-B78B-538930B4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2BF-86C0-4DF8-91B1-975E403A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4911-D50A-4F4E-BA80-73B679E4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F69B-1D01-429E-B5B5-38BF5DCB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F41B-0344-441A-ABBB-8CE1DF14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5232-B4D4-4DE6-AC80-AF28DA16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D465-BA94-4C8A-801D-C1387D54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792-7F40-44BB-81E2-008BFEDE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351-130E-4584-B6E1-3366AE28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3EC-8DC3-473A-A535-EB7F8CF2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151-FA95-4FBC-A094-7427F9B3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12B-9317-4CC4-BA9D-4EE80B20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7AE-D7B6-43AE-A431-EB6B8A18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9FE-7809-4ADC-BFE2-5E3CD703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AC7C-F025-493D-BB08-9F50C2BD9CC6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FB77-30A5-4121-B4BF-065AC57FC427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Industry and In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stanton012s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ele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r818a"/>
          <p:cNvPicPr/>
          <p:nvPr/>
        </p:nvPicPr>
        <p:blipFill>
          <a:blip r:embed="rId1"/>
          <a:stretch/>
        </p:blipFill>
        <p:spPr>
          <a:xfrm>
            <a:off x="4267080" y="1828800"/>
            <a:ext cx="4648320" cy="3313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hn Deere and the p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john_deere_plow_3"/>
          <p:cNvPicPr/>
          <p:nvPr/>
        </p:nvPicPr>
        <p:blipFill>
          <a:blip r:embed="rId1"/>
          <a:stretch/>
        </p:blipFill>
        <p:spPr>
          <a:xfrm>
            <a:off x="4572000" y="2606760"/>
            <a:ext cx="4267080" cy="320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rus McCormick and the re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reaper"/>
          <p:cNvPicPr/>
          <p:nvPr/>
        </p:nvPicPr>
        <p:blipFill>
          <a:blip r:embed="rId1"/>
          <a:stretch/>
        </p:blipFill>
        <p:spPr>
          <a:xfrm>
            <a:off x="4495680" y="190512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6820_jpg"/>
          <p:cNvPicPr/>
          <p:nvPr/>
        </p:nvPicPr>
        <p:blipFill>
          <a:blip r:embed="rId2"/>
          <a:stretch/>
        </p:blipFill>
        <p:spPr>
          <a:xfrm>
            <a:off x="5316480" y="4041720"/>
            <a:ext cx="2822760" cy="20541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hreshing Mach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02 threshing machine"/>
          <p:cNvPicPr/>
          <p:nvPr/>
        </p:nvPicPr>
        <p:blipFill>
          <a:blip r:embed="rId1"/>
          <a:stretch/>
        </p:blipFill>
        <p:spPr>
          <a:xfrm>
            <a:off x="3809880" y="1828800"/>
            <a:ext cx="4343400" cy="225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250px-Koeh-274"/>
          <p:cNvPicPr/>
          <p:nvPr/>
        </p:nvPicPr>
        <p:blipFill>
          <a:blip r:embed="rId2"/>
          <a:stretch/>
        </p:blipFill>
        <p:spPr>
          <a:xfrm>
            <a:off x="5562720" y="4038480"/>
            <a:ext cx="23097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Technologies help nation g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tton 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otton_gin"/>
          <p:cNvPicPr/>
          <p:nvPr/>
        </p:nvPicPr>
        <p:blipFill>
          <a:blip r:embed="rId1"/>
          <a:stretch/>
        </p:blipFill>
        <p:spPr>
          <a:xfrm>
            <a:off x="4686480" y="1995480"/>
            <a:ext cx="4076640" cy="3933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nning Jenny and Power L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Spinning Jenny"/>
          <p:cNvPicPr/>
          <p:nvPr/>
        </p:nvPicPr>
        <p:blipFill>
          <a:blip r:embed="rId1"/>
          <a:srcRect l="0" t="0" r="0" b="12173"/>
          <a:stretch/>
        </p:blipFill>
        <p:spPr>
          <a:xfrm>
            <a:off x="4572000" y="1600200"/>
            <a:ext cx="3809880" cy="247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75990~Power-Loom-Weaving-1834-Posters"/>
          <p:cNvPicPr/>
          <p:nvPr/>
        </p:nvPicPr>
        <p:blipFill>
          <a:blip r:embed="rId2"/>
          <a:srcRect l="0" t="0" r="2127" b="14209"/>
          <a:stretch/>
        </p:blipFill>
        <p:spPr>
          <a:xfrm>
            <a:off x="4572000" y="417672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es Come to New Eng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well-factory"/>
          <p:cNvPicPr/>
          <p:nvPr/>
        </p:nvPicPr>
        <p:blipFill>
          <a:blip r:embed="rId1"/>
          <a:stretch/>
        </p:blipFill>
        <p:spPr>
          <a:xfrm>
            <a:off x="4691160" y="2801880"/>
            <a:ext cx="4071960" cy="2319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Picture 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Mills Hir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Gi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Lowell"/>
          <p:cNvPicPr/>
          <p:nvPr/>
        </p:nvPicPr>
        <p:blipFill>
          <a:blip r:embed="rId1"/>
          <a:stretch/>
        </p:blipFill>
        <p:spPr>
          <a:xfrm>
            <a:off x="5181480" y="1828800"/>
            <a:ext cx="309096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changeable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gunpart1"/>
          <p:cNvPicPr/>
          <p:nvPr/>
        </p:nvPicPr>
        <p:blipFill>
          <a:blip r:embed="rId1"/>
          <a:stretch/>
        </p:blipFill>
        <p:spPr>
          <a:xfrm>
            <a:off x="609480" y="5345280"/>
            <a:ext cx="7772400" cy="13604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3:23:53Z</dcterms:created>
  <dc:creator>Madison Middle School</dc:creator>
  <dc:description/>
  <dc:language>en-US</dc:language>
  <cp:lastModifiedBy>Legion</cp:lastModifiedBy>
  <dcterms:modified xsi:type="dcterms:W3CDTF">2017-07-05T10:56:16Z</dcterms:modified>
  <cp:revision>25</cp:revision>
  <dc:subject/>
  <dc:title>PowerPoint Presentation  -  Early Industry and Inventions</dc:title>
</cp:coreProperties>
</file>