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64B0-1EA5-49EF-B5DB-16EB00471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272-032D-4E7C-8C30-412601BF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493-A45C-40E0-BF92-E1D9026F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DFB-D398-4B9E-84D7-ED84821D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D65-BECB-4A0D-BC86-A0753F07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139B-C8FB-474F-A0E2-349753D6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F1BC-04A9-4E17-930E-73AAD945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C4D5-3F34-4C0B-A749-CC6B1AAA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06D3-83D2-47E2-A286-82685327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AA4B-4AB3-4A9A-9A8A-3BEA93C6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683E-DAFD-4D88-919D-D937D207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04E3-E55C-461B-BEDE-4E95FF59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375-A7E9-445E-BFF1-7033517E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0F56-51D6-4DDE-BFE5-2078C4D7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E76C-A27B-41D7-8DB6-0A147AE1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44FA-6A8E-4F93-B4A8-F3154A1C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4719-A950-463B-8A68-A1AE5FDE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8F0C-C406-44A0-81E7-B88F5F94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C51-CCD1-4931-B707-F2084D05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59D-1012-4E36-8004-DC5D43B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7CE-DB63-4DB3-9E26-0379F0C0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528-BB3E-4DE4-8D08-979F7EA6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83C-7BE1-489E-93E7-5D0D9817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E04-4E50-4649-8E5E-4F73F7BC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841-0511-40D4-9690-FC3BC141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5588-ADF7-49D1-AD66-FBBD4AB610F6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FAE9-CDFD-4496-BBF9-C2708F01A8B1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Industry and In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stanton012s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25210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ele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r818a"/>
          <p:cNvPicPr/>
          <p:nvPr/>
        </p:nvPicPr>
        <p:blipFill>
          <a:blip r:embed="rId1"/>
          <a:stretch/>
        </p:blipFill>
        <p:spPr>
          <a:xfrm>
            <a:off x="4267080" y="1828800"/>
            <a:ext cx="4648320" cy="3313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hn Deere and the p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john_deere_plow_3"/>
          <p:cNvPicPr/>
          <p:nvPr/>
        </p:nvPicPr>
        <p:blipFill>
          <a:blip r:embed="rId1"/>
          <a:stretch/>
        </p:blipFill>
        <p:spPr>
          <a:xfrm>
            <a:off x="4572000" y="2606760"/>
            <a:ext cx="4267080" cy="320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rus McCormick and the re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reaper"/>
          <p:cNvPicPr/>
          <p:nvPr/>
        </p:nvPicPr>
        <p:blipFill>
          <a:blip r:embed="rId1"/>
          <a:stretch/>
        </p:blipFill>
        <p:spPr>
          <a:xfrm>
            <a:off x="4495680" y="190512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6820_jpg"/>
          <p:cNvPicPr/>
          <p:nvPr/>
        </p:nvPicPr>
        <p:blipFill>
          <a:blip r:embed="rId2"/>
          <a:stretch/>
        </p:blipFill>
        <p:spPr>
          <a:xfrm>
            <a:off x="5316480" y="4041720"/>
            <a:ext cx="2822760" cy="20541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hreshing Mach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02 threshing machine"/>
          <p:cNvPicPr/>
          <p:nvPr/>
        </p:nvPicPr>
        <p:blipFill>
          <a:blip r:embed="rId1"/>
          <a:stretch/>
        </p:blipFill>
        <p:spPr>
          <a:xfrm>
            <a:off x="3809880" y="1828800"/>
            <a:ext cx="4343400" cy="225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250px-Koeh-274"/>
          <p:cNvPicPr/>
          <p:nvPr/>
        </p:nvPicPr>
        <p:blipFill>
          <a:blip r:embed="rId2"/>
          <a:stretch/>
        </p:blipFill>
        <p:spPr>
          <a:xfrm>
            <a:off x="5562720" y="4038480"/>
            <a:ext cx="23097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Technologies help nation g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tton 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otton_gin"/>
          <p:cNvPicPr/>
          <p:nvPr/>
        </p:nvPicPr>
        <p:blipFill>
          <a:blip r:embed="rId1"/>
          <a:stretch/>
        </p:blipFill>
        <p:spPr>
          <a:xfrm>
            <a:off x="4686480" y="1995480"/>
            <a:ext cx="4076640" cy="3933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nning Jenny and Power L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Spinning Jenny"/>
          <p:cNvPicPr/>
          <p:nvPr/>
        </p:nvPicPr>
        <p:blipFill>
          <a:blip r:embed="rId1"/>
          <a:srcRect l="0" t="0" r="0" b="12173"/>
          <a:stretch/>
        </p:blipFill>
        <p:spPr>
          <a:xfrm>
            <a:off x="4572000" y="1600200"/>
            <a:ext cx="3809880" cy="2476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75990~Power-Loom-Weaving-1834-Posters"/>
          <p:cNvPicPr/>
          <p:nvPr/>
        </p:nvPicPr>
        <p:blipFill>
          <a:blip r:embed="rId2"/>
          <a:srcRect l="0" t="0" r="2127" b="14209"/>
          <a:stretch/>
        </p:blipFill>
        <p:spPr>
          <a:xfrm>
            <a:off x="4572000" y="417672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es Come to New Eng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lowell-factory"/>
          <p:cNvPicPr/>
          <p:nvPr/>
        </p:nvPicPr>
        <p:blipFill>
          <a:blip r:embed="rId1"/>
          <a:stretch/>
        </p:blipFill>
        <p:spPr>
          <a:xfrm>
            <a:off x="4691160" y="2801880"/>
            <a:ext cx="4071960" cy="2319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Picture 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Mills Hir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Gir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Lowell"/>
          <p:cNvPicPr/>
          <p:nvPr/>
        </p:nvPicPr>
        <p:blipFill>
          <a:blip r:embed="rId1"/>
          <a:stretch/>
        </p:blipFill>
        <p:spPr>
          <a:xfrm>
            <a:off x="5181480" y="1828800"/>
            <a:ext cx="309096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changeable 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gunpart1"/>
          <p:cNvPicPr/>
          <p:nvPr/>
        </p:nvPicPr>
        <p:blipFill>
          <a:blip r:embed="rId1"/>
          <a:stretch/>
        </p:blipFill>
        <p:spPr>
          <a:xfrm>
            <a:off x="609480" y="5345280"/>
            <a:ext cx="7772400" cy="13604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3:23:53Z</dcterms:created>
  <dc:creator>Madison Middle School</dc:creator>
  <dc:description/>
  <dc:language>en-US</dc:language>
  <cp:lastModifiedBy>Legion</cp:lastModifiedBy>
  <dcterms:modified xsi:type="dcterms:W3CDTF">2017-07-05T10:56:16Z</dcterms:modified>
  <cp:revision>25</cp:revision>
  <dc:subject/>
  <dc:title>PowerPoint Presentation  -  Early Industry and Inventions</dc:title>
</cp:coreProperties>
</file>