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D667-2191-4DDF-809E-954C3F9275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n History – Henrich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dustrial Revol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merican History – Henrichs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Gos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to 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good works to the people of the US based on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e Addams – Hull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Gosp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action to 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ovides good works to the people of the US based on relig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ne Addams – Hull Hous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embly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educate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job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ngi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ea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a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aso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thin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oo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ssembly 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neducate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jobs availab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ss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ed rail c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wr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dak cam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v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le and Electric street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tain 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llette Raz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h Reg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inventions has most affected our lives tod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vent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frigerated rail c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ypewri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odak camer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levat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ble and Electric streetca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tain P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illette Raz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sh Regis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acuum Clean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ich of these inventions has most affected our lives toda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source of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and easy to fit inside the 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oye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hil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new source of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mall and easy to fit inside the 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stroyed the bod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ong hou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U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immigrant ideas used to support many of the anti-union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bor Un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ti-immigrant ideas used to support many of the anti-union law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 to vo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in 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is always less then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e ties to the garment indu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Infl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men Worke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ight to vote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ill not th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in 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y is always less then m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finite ties to the garment indust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duc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Influenc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al Machines – Boss Tw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ties to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een as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N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al Machines – Boss Twe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rrup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se ties to 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seen as a proble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Na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unified group as many seem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mmigr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a unified group as many seem toda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po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nopol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ertic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Oi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Ste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orizont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crosof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E6F-B4C9-4F05-BBFE-62658B89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240-A041-4BDA-A9D7-C73E3DF2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ABD-7C5E-48A3-8728-8185D5A4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EAA-AB6A-4AC5-84B5-E365A2A6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CF5F-FD5F-4E94-8900-CF23427A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A54F-7026-4D9D-BDB8-470BD946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0C50-B5E2-4D87-AC2C-B45E1D0C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34BC-31D1-4422-BBCA-083D5BD8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753A-0B9C-4799-95BF-06449785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4895-B41F-4119-8C4B-12D17BA9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3185-FCE8-406E-B2DF-21E30239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86F-12F6-47D9-A238-B5C54F12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9C15-88F7-4D22-9572-6AF21329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176D-8626-47E3-A5B3-B1CF9518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B896-50A0-4427-8E79-3A3AF211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5303-ADBF-468C-97DE-4845CE38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0AB0-CFE9-4D75-81AD-6700C22C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61D-7427-40F6-8291-696A4115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3DB-E6D3-4D4B-9F74-16613A05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5671-0EEF-40E4-910D-62B061A8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1BF-CF91-49B3-8C07-70C208E7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663-1424-461E-BEA0-A00F2ABD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289-D86A-4CE4-8670-1A0CD219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EF2-F680-4FCF-9982-B1E2C05E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2151-0944-4304-9EA6-72FAFCD41EC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CBE4-14E8-46F5-B288-E75B0C2313A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erican History – Henrichs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Darwinis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sapplication of Darwin’s theories on evolution to areas of society such as money and inherited wealth and l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referred specifically to those of a different ethnic and/or religious backg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Gospe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ction to Social Darwin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s good works to the people of the US based on relig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ideas such as settlement houses, aid to single mothers, immigr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ane Addams – Hull Hou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chine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gi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sol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oth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o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embly 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 lab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ny jobs avail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s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n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frigerated rail c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ewri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dak camer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lev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ble and Electric streetc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ntain P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illette Raz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sh Regis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cuum Clea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ich of these inventions has most affected our lives toda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do you think you could invent that would affect future societ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ild Lab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new source of la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ll and easy to fit inside the machine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troyed the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ng hou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bor Un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got together to encourage safety, better pay, as well as continued jobs when the government and society were pro-busi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ws were created to specifically ban unions as they were seen as anti-business and possibly communi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ti-immigrant ideas used to support many of the anti-union la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omen Worke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ight to vot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ill not t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in 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y is always less then m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erred for some jobs as they were smaller and easier to fit in the small spa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ite ties to the garment indust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Influ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tical Machines – Boss Twe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rrup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ose ties to busin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seen as a probl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omas Na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a unified group as many seem tod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divisions and hatred especially to those who were from either the poorer and/or Catholic areas of Eur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re were specific rules against immigration from Asia based on racism and cultural differe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ve to send Black Americans back to Africa was led by Marcus Garvey and eventually started the country of Liber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nopol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rt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every aspect of a single product from production to the final sales and distrib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Oi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Ste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a single level of a product ie all distribution, sales or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1:41:18Z</dcterms:created>
  <dc:creator>Cody Henrichsen</dc:creator>
  <dc:description/>
  <dc:language>en-US</dc:language>
  <cp:lastModifiedBy>Legion</cp:lastModifiedBy>
  <dcterms:modified xsi:type="dcterms:W3CDTF">2017-07-05T10:53:08Z</dcterms:modified>
  <cp:revision>22</cp:revision>
  <dc:subject/>
  <dc:title>Industrial Revolution</dc:title>
</cp:coreProperties>
</file>