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9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FBFAF-E4E9-4676-9B01-66D0956E26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EORGE WASHINGT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732-179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ORGE WASHINGT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732-179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MOUS QU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in war, first in peace, first in the hearts of his countrymen.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AMOUS QUOT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irst in war, first in peace, first in the hearts of his countrymen.”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nks for watching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elcivics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anks for watching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ttp://www.elcivics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ORGE WASHINGT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orge Washington was the first president of the United Stat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served two terms from 1789-179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is called the Father of Our Count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EORGE WASHINGT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eorge Washington was the first president of the United Stat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e served two terms from 1789-1797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e is called the Father of Our Countr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VOLUTIONARY 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United States fought England in the Revolutionary W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volutionary war was from 1775-178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VOLUTIONARY WA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United States fought England in the Revolutionary War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Revolutionary war was from 1775-1783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AN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orge Washington was the Commander of the military forces during the American Revolu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MAND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eorge Washington was the Commander of the military forces during the American Revolutio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NU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 monument of Washington on a hor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NUM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is a monument of Washington on a hors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THA WASHINGT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old postage stamp has a picture of Martha Washington on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e and George got married in 1759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RTHA WASHINGT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old postage stamp has a picture of Martha Washington on i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he and George got married in 1759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UNT VERN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orge and Martha’s home is called Mount Vernon.  It is located in Virginia near the Potomac Riv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orge Washington and his wife Martha are buried 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UNT VERN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eorge and Martha’s home is called Mount Vernon.  It is located in Virginia near the Potomac River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eorge Washington and his wife Martha are buried her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UNT RUSHM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unt Rushmore is in South Dako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has the heads of Washington, Jefferson, Roosevelt, and Lincoln carved in the side of the mounta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UNT RUSHMO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unt Rushmore is in South Dakota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t has the heads of Washington, Jefferson, Roosevelt, and Lincoln carved in the side of the mountai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SHINGTON MONU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Washington Monument is in Washington, D.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the tallest structure in the c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urists can ride elevators to the to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SHINGTON MONUM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Washington Monument is in Washington, D.C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t is the tallest structure in the cit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ourists can ride elevators to the top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531C2-9C66-4FF0-8EB1-B8C1D8AD3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04739-5DB4-46BC-A5B9-48232D45A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5E3F2-196E-40EF-8330-C901DD7D1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54647-E54A-40A9-94F8-F1AA7B4BB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7BFD3-D84C-4B0A-8131-95D3B2010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DCDF5-1E1C-4F47-B2C2-D7F7BB5C6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4EE1F-7C30-45CF-9E3F-CFF42AAE7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A2EB8-019B-49F8-BCBC-7097482F3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9AFAF-5A77-4CA0-BAF3-EDEF7DC90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5604A-2BE6-4738-BD1C-306C786F4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EE26E-1E7E-4E29-AFA3-B4C87BD05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90614-1332-4B74-8BEE-C36B8DC5F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1E6AC-DD49-4382-9128-4A725364B07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796840"/>
            <a:ext cx="7772400" cy="108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GEORGE WASHINGT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419076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732-179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Picture 5" descr="MCj03979210000[1]"/>
          <p:cNvPicPr/>
          <p:nvPr/>
        </p:nvPicPr>
        <p:blipFill>
          <a:blip r:embed="rId1"/>
          <a:stretch/>
        </p:blipFill>
        <p:spPr>
          <a:xfrm>
            <a:off x="816120" y="655560"/>
            <a:ext cx="1622160" cy="1935360"/>
          </a:xfrm>
          <a:prstGeom prst="rect">
            <a:avLst/>
          </a:prstGeom>
          <a:ln w="0">
            <a:noFill/>
          </a:ln>
        </p:spPr>
      </p:pic>
      <p:sp>
        <p:nvSpPr>
          <p:cNvPr id="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FAMOUS QUOT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990720" y="2924280"/>
            <a:ext cx="7391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rst in war, first in peace, first in the hearts of his countrymen.”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0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3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3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3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END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90" name="Text Box 6"/>
          <p:cNvSpPr/>
          <p:nvPr/>
        </p:nvSpPr>
        <p:spPr>
          <a:xfrm>
            <a:off x="5715000" y="5181480"/>
            <a:ext cx="28195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hanks for watching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http://www.elcivics.c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GEORGE WASHINGT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orge Washington was the first president of the United Stat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 served two terms from 1789-1797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 is called the Father of Our Count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22" descr="george_washington_bust_el_civics_history_government"/>
          <p:cNvPicPr/>
          <p:nvPr/>
        </p:nvPicPr>
        <p:blipFill>
          <a:blip r:embed="rId1"/>
          <a:stretch/>
        </p:blipFill>
        <p:spPr>
          <a:xfrm>
            <a:off x="612720" y="1600200"/>
            <a:ext cx="3425760" cy="4572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REVOLUTIONARY WA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57" name="Picture 7" descr="washington_taking control_american_army_july_1775_new"/>
          <p:cNvPicPr/>
          <p:nvPr/>
        </p:nvPicPr>
        <p:blipFill>
          <a:blip r:embed="rId1"/>
          <a:stretch/>
        </p:blipFill>
        <p:spPr>
          <a:xfrm>
            <a:off x="762120" y="1584360"/>
            <a:ext cx="3427200" cy="2454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United States fought England in the Revolutionary Wa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Revolutionary war was from 1775-1783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" name="Picture 11" descr="washington_crossing_delaware"/>
          <p:cNvPicPr/>
          <p:nvPr/>
        </p:nvPicPr>
        <p:blipFill>
          <a:blip r:embed="rId2"/>
          <a:stretch/>
        </p:blipFill>
        <p:spPr>
          <a:xfrm>
            <a:off x="762120" y="4267080"/>
            <a:ext cx="3427200" cy="2014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MMANDE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62" name="Picture 8" descr="washington_revolutionary_war"/>
          <p:cNvPicPr/>
          <p:nvPr/>
        </p:nvPicPr>
        <p:blipFill>
          <a:blip r:embed="rId1"/>
          <a:stretch/>
        </p:blipFill>
        <p:spPr>
          <a:xfrm>
            <a:off x="762120" y="1676520"/>
            <a:ext cx="3427200" cy="4205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orge Washington was the Commander of the military forces during the American Revolu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ONUMEN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is a monument of Washington on a hors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" name="Picture 7" descr="george_washington_horseback_citizenship"/>
          <p:cNvPicPr/>
          <p:nvPr/>
        </p:nvPicPr>
        <p:blipFill>
          <a:blip r:embed="rId1"/>
          <a:stretch/>
        </p:blipFill>
        <p:spPr>
          <a:xfrm>
            <a:off x="838080" y="1646280"/>
            <a:ext cx="3427560" cy="4754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THA WASHINGT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0" name="Picture 6" descr="martha_washington_stamp"/>
          <p:cNvPicPr/>
          <p:nvPr/>
        </p:nvPicPr>
        <p:blipFill>
          <a:blip r:embed="rId1"/>
          <a:stretch/>
        </p:blipFill>
        <p:spPr>
          <a:xfrm>
            <a:off x="838080" y="1938240"/>
            <a:ext cx="3427560" cy="4005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old postage stamp has a picture of Martha Washington on i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e and George got married in 1759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OUNT VERN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4" name="Picture 7" descr="shed_mount_vernon"/>
          <p:cNvPicPr/>
          <p:nvPr/>
        </p:nvPicPr>
        <p:blipFill>
          <a:blip r:embed="rId1"/>
          <a:stretch/>
        </p:blipFill>
        <p:spPr>
          <a:xfrm>
            <a:off x="839880" y="4114800"/>
            <a:ext cx="3427200" cy="2281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orge and Martha’s home is called Mount Vernon.  It is located in Virginia near the Potomac Riv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orge Washington and his wife Martha are buried 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6" name="Picture 11" descr="mount_vernon_estate"/>
          <p:cNvPicPr/>
          <p:nvPr/>
        </p:nvPicPr>
        <p:blipFill>
          <a:blip r:embed="rId2"/>
          <a:stretch/>
        </p:blipFill>
        <p:spPr>
          <a:xfrm>
            <a:off x="838080" y="1600200"/>
            <a:ext cx="3427560" cy="2281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OUNT RUSHMOR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unt Rushmore is in South Dakot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has the heads of Washington, Jefferson, Roosevelt, and Lincoln carved in the side of the mountai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" name="Picture 7" descr="mount_rushmore_george_washington"/>
          <p:cNvPicPr/>
          <p:nvPr/>
        </p:nvPicPr>
        <p:blipFill>
          <a:blip r:embed="rId1"/>
          <a:stretch/>
        </p:blipFill>
        <p:spPr>
          <a:xfrm>
            <a:off x="639720" y="1646280"/>
            <a:ext cx="339876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0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WASHINGTON MONUMEN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Washington Monument is in Washington, D.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is the tallest structure in the cit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urists can ride elevators to the top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Picture 7" descr="washington_monument"/>
          <p:cNvPicPr/>
          <p:nvPr/>
        </p:nvPicPr>
        <p:blipFill>
          <a:blip r:embed="rId1"/>
          <a:stretch/>
        </p:blipFill>
        <p:spPr>
          <a:xfrm>
            <a:off x="685800" y="1600200"/>
            <a:ext cx="3427560" cy="4562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3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3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9T03:09:10Z</dcterms:created>
  <dc:creator>christina niven</dc:creator>
  <dc:description/>
  <dc:language>en-US</dc:language>
  <cp:lastModifiedBy>Legion</cp:lastModifiedBy>
  <dcterms:modified xsi:type="dcterms:W3CDTF">2017-07-05T10:39:57Z</dcterms:modified>
  <cp:revision>36</cp:revision>
  <dc:subject/>
  <dc:title>George Washington</dc:title>
</cp:coreProperties>
</file>