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C598-3690-44E3-8703-59BB10DE6A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was kindly donat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home to well over a thousand powerpoints submitted by teachers. This a free site. Please visit and I hope it will help in your tea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was kindly donat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home to well over a thousand powerpoints submitted by teachers. This a free site. Please visit and I hope it will help in your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5B35-484D-40EC-BFBA-F2558E83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F8E1-6ECC-451D-955A-0492FDEE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47E9-B4DC-498A-B43E-0E65F266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579-6C60-44C9-B411-2640102A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60C1-01DE-4B31-802D-9DEED29C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67D3-64E9-4923-A740-6D170C63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4248-1D88-4D9C-A964-9EC254E3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252A-4E0A-47E4-AFA3-B575C0CC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67AB-4AE2-47DC-8D6D-B3653B7A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7A1D-1173-4ECD-8325-5EFB0FC3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FBD7-5872-4517-9EF0-0111A172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4186-60BB-44CF-AAA2-19B5785A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19F8-9639-43A1-9877-03D97E419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2"/>
          <p:cNvSpPr/>
          <p:nvPr/>
        </p:nvSpPr>
        <p:spPr>
          <a:xfrm>
            <a:off x="1981080" y="1981080"/>
            <a:ext cx="56390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This powerpoint was kindly dona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Is home to well over a thousand powerpoints submitted by teachers. This a free site. Please visit and I hope it will help in your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Legion</cp:lastModifiedBy>
  <dcterms:modified xsi:type="dcterms:W3CDTF">2017-07-05T10:04:44Z</dcterms:modified>
  <cp:revision>22</cp:revision>
  <dc:subject/>
  <dc:title>The French and Indian War</dc:title>
</cp:coreProperties>
</file>