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jpeg" ContentType="image/jpeg"/>
  <Override PartName="/ppt/media/image14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23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89FE1-F129-4A41-946B-06542AB9FA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Founding Fathers 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Of the United States Constituti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And Our Country’s Early Histor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ing Fath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United States Constit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ur Country’s Early Hi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Samuel Adam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Samuel was cousin to John Adams and preferred to work “behind the scenes” of the Revolution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signed the Declaration of Independence and was part of the Boston Tea Party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uel Ad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uel was cousin to John Adams and preferred to work “behind the scenes” of the Rev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signed the Declaration of Independence and was part of the Boston Tea Par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John Paul Jone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Jones was known as the Father of the American Nav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was quoted as having said, “I have not yet begun to fight.”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Paul J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nes was known as the Father of the American Nav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 quoted as having said, “I have not yet begun to fight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John Hancock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ancock was known for his legible signature (shown below)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signed the Declaration of Independence first and said something to the effect of, “Let’s see if [King ] George can read that!”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Hanc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cock was known for his legible signature (shown belo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signed the Declaration of Independence first and said something to the effect of, “Let’s see if [King ] George can read that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Molly Pitcher—Mary Hays McCaul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Molly Pitcher went to war with her husband and brought water to the soldiers.  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hen her husband was wounded, she took his spot at the cannon and kept on fighting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President Washington gave her an award for her courage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ttp://209.157.64.200/~mollypitcher/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ly Pitcher—Mary Hays McCa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ly Pitcher went to war with her husband and brought water to the soldier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her husband was wounded, she took his spot at the cannon and kept on figh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ident Washington gave her an award for her cour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209.157.64.200/~mollypitcher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Alexander Hamilt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amilton was the nation’s first secretary of the treasur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was a bold and creative thinker 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is ideas greatly influence our government toda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exander Hamil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milton was the nation’s first secretary of the treasu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 a bold and creative think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 ideas greatly influence our government to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George Washingt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Known as the “Father of Our Country”, he was really the 12th president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was deeply concerned with helping the fledgling republic flourish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rge Washing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n as the “Father of Our Country”, he was really the 12th presid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 deeply concerned with helping the fledgling republic flour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Dolley Madis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Dolley is most noted for saving the painting of George Washington that hung in the White House when the British burned it during the War of 1812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lley Madi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lley is most noted for saving the painting of George Washington that hung in the White House when the British burned it during the War of 18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James Madis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James is the “Father of the Constitution”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received many ideas from those he associated with, but the final written copy was in his word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designed our system of checks and balance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Madi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is the “Father of the Constitu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received many ideas from those he associated with, but the final written copy was in his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designed our system of checks and bala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Benjamin Frankli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Franklin was “a jack-of-all-trades and a master of many”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was the only person who signed four of the most important documents in U.S. histor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jamin Frankl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nklin was “a jack-of-all-trades and a master of many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 the only person who signed four of the most important documents in U.S. hi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Thomas Pain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Paine met Benjamin Franklin who advised him to move to the colonie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wrote political tracts, his most famous being Common Sense, advocating independence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as Pa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ne met Benjamin Franklin who advised him to move to the colo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rote political tracts, his most famous being Common Sense, advocating independ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Paul Rever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Portrait painted by John Singleton Cople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Revere was a master silversmith, which is why he is holding a silver teapot in the portrait.  It was also a symbol of the Boston Tea Party and the fact that he was a member of the Sons of Liberty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ttp://www.americanrevolution.org/revere.html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ul Rev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rait painted by John Singleton Cop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ere was a master silversmith, which is why he is holding a silver teapot in the portrait.  It was also a symbol of the Boston Tea Party and the fact that he was a member of the Sons of Liber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mericanrevolution.org/revere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Deborah Samps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Sampson fought in the Revolutionary War for over a year disguised as Robert Shurtliff, until she received a serious wound.  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She was discharged with honors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ttp://www.awm.lee.army.mil/Army_Women_Notable/gannett_deborah.ht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borah Samp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pson fought in the Revolutionary War for over a year disguised as Robert Shurtliff, until she received a serious wound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was discharged with hon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wm.lee.army.mil/Army_Women_Notable/gannett_deborah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Benjamin Banneker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Benjamin was an astronomer, mathematician, farmer, and surveyor—and probably the best known black person during his tim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A clock he invented kept almost perfect time for 50 year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ttp://inventors.about.com/library/inventors/blbanneker.ht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jamin Banne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jamin was an astronomer, mathematician, farmer, and surveyor—and probably the best known black person during his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lock he invented kept almost perfect time for 50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inventors.about.com/library/inventors/blbanneker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Betsy Ros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Legend has it that she designed the first U.S. flag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The story first came about 94 years after it was to have first happened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Betsy Ross did sew flags and had an upholstery business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ttp://www.usflag.org/about.betsy.ross.html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sy R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gend has it that she designed the first U.S. fl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ory first came about 94 years after it was to have first happe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sy Ross did sew flags and had an upholstery busin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usflag.org/about.betsy.ross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Joseph Brant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Joseph was a Mohawk Indian leader who fought in the British Army.  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was also a Christian missionary among his people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was a leading member of the League of the Iroquoi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ttp://earlyamerica.com/review/1998/brant.html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seph Br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seph was a Mohawk Indian leader who fought in the British Army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 also a Christian missionary among his peo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 a leading member of the League of the Iroquo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earlyamerica.com/review/1998/brant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Nathan Hal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ale was the first CIA agent in the United States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was quoted as saying, “ I only regret that I have but one life to lose for my country.”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This picture is a sketch of his execution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han H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e was the first CIA agent in the United St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 quoted as saying, “ I only regret that I have but one life to lose for my countr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icture is a sketch of his exec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Thomas Jeffers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Jefferson wrote the Declaration of Independence.  He was a gifted writer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sent Lewis and Clark out to explore the Louisiana Purchase. 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was the 3rd president of the United States. 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as Jeffer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efferson wrote the Declaration of Independence.  He was a gifted wri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sent Lewis and Clark out to explore the Louisiana Purchas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 the 3rd president of the United Sta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Abigail Adam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Abigail had little formal schooling but a quick wit and was a colorful writer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r son became the 6th U.S. president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r letters give us an insight into her thoughts and contemporary attitude of the time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igail Ad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igail had little formal schooling but a quick wit and was a colorful wri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 son became the 6th U.S. presid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 letters give us an insight into her thoughts and contemporary attitude of the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John Adam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Adams was often misunderstood—people thought he was cold and rud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and his cousin, Sam were leaders of the Sons of Libert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was the first to have his son serve as president also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is political ideas and policies lasted the test of tim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Ad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ms was often misunderstood—people thought he was cold and r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and his cousin, Sam were leaders of the Sons of Lib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 the first to have his son serve as president al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 political ideas and policies lasted the test of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Ethan Alle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Allen was a patriot and soldier in the Revolutionary War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led the Green Mountain Boys in the capture of Fort Ticonderoga—one of the most important battles of the war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This statue is in the United States Capitol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ttp://www.virtualvermont.com/history/eallen.html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han All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n was a patriot and soldier in the Revolutionary W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led the Green Mountain Boys in the capture of Fort Ticonderoga—one of the most important battles of the w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tatue is in the United States Capit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virtualvermont.com/history/eallen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Benedict Arnold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Arnold was one of the most trusted American generals of the Revolutionary War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turned traitor because he was passed over for military honors and accused of abusing his power and standing.  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edict Arn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nold was one of the most trusted American generals of the Revolutionary W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turned traitor because he was passed over for military honors and accused of abusing his power and standing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Phillis Wheatle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heatley was a slave to a prominent Boston family.  She was treated like family, educated, and wrote poetry that was published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She never had true freedom and died impoverished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ttp://www.uoregon.edu/~rbear/wheatley.html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illis Wheat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atley was a slave to a prominent Boston family.  She was treated like family, educated, and wrote poetry that was publish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never had true freedom and died impoverish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uoregon.edu/~rbear/wheatley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87D1-0008-4EA6-B277-BDE1EB3C0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34CD-C027-43D9-A103-EDCD874A4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6F2A-BD45-421B-B5EC-C2D46E6F0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ED2E-FCD3-4EEF-A02E-1B3BF8288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A38BF-C826-44BB-8AD3-F7EA9B34D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228C4-CE8C-433A-BEAF-E1D2AAB56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FBCFE-7E46-4C26-9F87-4346233E1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031AB-6F5D-48C9-83A9-08E8F503F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F3135-94FD-4729-9975-2C8354279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D0CAA-C021-4226-AD07-9A471BFBA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0A90D-0C6E-4EBF-BC32-2C03F73A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12D3-BF2C-4488-8D55-2FE5A7ED7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2B089-1745-441D-8FE8-E3A69B6A3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F2163-9E57-4448-8E60-C358943B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7A46A-3A40-4B2F-B098-91A00C15F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CFADC-8BF0-4C37-B5D0-7C9DD054C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C3D06-55F2-436F-A744-B77B6211E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7090-CD92-4B6D-9AF5-F417B710B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9434-82BB-4BEB-A2A3-9217F6C6D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6C5A-6E04-4839-AF42-41AFFA8FD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2E86-CBDC-4E6E-9636-C5B84DBC1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236E-D963-4CD5-8632-7E8F5134F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1413-657C-471F-A9FD-2FF0E7A26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EE6A-D897-46C9-9F7C-17F629551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8" name="Picture 10" descr="Facbanna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EFB01-5DFA-4DEA-9946-9F7A2CF8CB8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Freeform 10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59" name="Picture 11" descr="Facbanna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364FC-FC5C-4841-B0B6-3F54DF596F20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209.157.64.200/~mollypitcher/" TargetMode="Externa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nventors.about.com/library/inventors/blbanneker.htm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usflag.org/about.betsy.ross.html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Founding Fathers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f the United States Constitu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nd Our Country’s Early Histo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amuel Adam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amuel was cousin to John Adams and preferred to work “behind the scenes” of the Revolutio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e signed the Declaration of Independence and was part of the Boston Tea Party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3666960" y="17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54" name="Picture 7" descr=""/>
          <p:cNvPicPr/>
          <p:nvPr/>
        </p:nvPicPr>
        <p:blipFill>
          <a:blip r:embed="rId1"/>
          <a:stretch/>
        </p:blipFill>
        <p:spPr>
          <a:xfrm>
            <a:off x="5826240" y="1676520"/>
            <a:ext cx="2214360" cy="411480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John Paul Jon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Jones was known as the Father of the American Nav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e was quoted as having said, “I have not yet begun to fight.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3657600" y="193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59" name="Picture 7" descr=""/>
          <p:cNvPicPr/>
          <p:nvPr/>
        </p:nvPicPr>
        <p:blipFill>
          <a:blip r:embed="rId1"/>
          <a:stretch/>
        </p:blipFill>
        <p:spPr>
          <a:xfrm>
            <a:off x="1709640" y="1676520"/>
            <a:ext cx="2524320" cy="411480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John Hancock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ancock was known for his legible signature (shown below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e signed the Declaration of Independence first and said something to the effect of, “Let’s see if [King ] George can read that!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3552840" y="17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64" name="Picture 7" descr=""/>
          <p:cNvPicPr/>
          <p:nvPr/>
        </p:nvPicPr>
        <p:blipFill>
          <a:blip r:embed="rId1"/>
          <a:stretch/>
        </p:blipFill>
        <p:spPr>
          <a:xfrm>
            <a:off x="5672160" y="1676520"/>
            <a:ext cx="2522520" cy="411480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9"/>
          <p:cNvSpPr/>
          <p:nvPr/>
        </p:nvSpPr>
        <p:spPr>
          <a:xfrm>
            <a:off x="2443320" y="26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66" name="Picture 8" descr=""/>
          <p:cNvPicPr/>
          <p:nvPr/>
        </p:nvPicPr>
        <p:blipFill>
          <a:blip r:embed="rId2"/>
          <a:stretch/>
        </p:blipFill>
        <p:spPr>
          <a:xfrm>
            <a:off x="838080" y="5505480"/>
            <a:ext cx="4257720" cy="135252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lly Pitcher—Mary Hays McCaul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olly Pitcher went to war with her husband and brought water to the soldiers.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en her husband was wounded, she took his spot at the cannon and kept on fighting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sident Washington gave her an award for her courag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b97c01"/>
                </a:solidFill>
                <a:uFillTx/>
                <a:latin typeface="Arial"/>
                <a:hlinkClick r:id="rId1"/>
              </a:rPr>
              <a:t>http://209.157.64.200/~mollypitcher/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70" name="Picture 6" descr="molly%20pitcher"/>
          <p:cNvPicPr/>
          <p:nvPr/>
        </p:nvPicPr>
        <p:blipFill>
          <a:blip r:embed="rId2"/>
          <a:stretch/>
        </p:blipFill>
        <p:spPr>
          <a:xfrm>
            <a:off x="5029200" y="2343240"/>
            <a:ext cx="3809880" cy="278136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lexander Hamilt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amilton was the nation’s first secretary of the treasu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e was a bold and creative thinker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is ideas greatly influence our government toda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3657600" y="193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75" name="Picture 7" descr=""/>
          <p:cNvPicPr/>
          <p:nvPr/>
        </p:nvPicPr>
        <p:blipFill>
          <a:blip r:embed="rId1"/>
          <a:stretch/>
        </p:blipFill>
        <p:spPr>
          <a:xfrm>
            <a:off x="1709640" y="1676520"/>
            <a:ext cx="2524320" cy="4114800"/>
          </a:xfrm>
          <a:prstGeom prst="rect">
            <a:avLst/>
          </a:prstGeom>
          <a:ln w="0">
            <a:noFill/>
          </a:ln>
        </p:spPr>
      </p:pic>
      <p:sp>
        <p:nvSpPr>
          <p:cNvPr id="176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eorge Washingt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Known as the “Father of Our Country”, he was really the 12</a:t>
            </a:r>
            <a:r>
              <a:rPr b="0" lang="en-US" sz="2800" spc="-1" strike="noStrike" baseline="30000">
                <a:solidFill>
                  <a:srgbClr val="eaeaea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presid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e was deeply concerned with helping the fledgling republic flouris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3610080" y="18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80" name="Picture 7" descr=""/>
          <p:cNvPicPr/>
          <p:nvPr/>
        </p:nvPicPr>
        <p:blipFill>
          <a:blip r:embed="rId1"/>
          <a:stretch/>
        </p:blipFill>
        <p:spPr>
          <a:xfrm>
            <a:off x="5703840" y="1676520"/>
            <a:ext cx="2459160" cy="411480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olley Madis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olley is most noted for saving the painting of George Washington that hung in the White House when the British burned it during the War of 1812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3781440" y="18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85" name="Picture 7" descr=""/>
          <p:cNvPicPr/>
          <p:nvPr/>
        </p:nvPicPr>
        <p:blipFill>
          <a:blip r:embed="rId1"/>
          <a:stretch/>
        </p:blipFill>
        <p:spPr>
          <a:xfrm>
            <a:off x="5889600" y="1676520"/>
            <a:ext cx="2089080" cy="411480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James Madis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James is the “Father of the Constitution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e received many ideas from those he associated with, but the final written copy was in his word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e designed our system of checks and balanc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3471840" y="16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90" name="Picture 7" descr=""/>
          <p:cNvPicPr/>
          <p:nvPr/>
        </p:nvPicPr>
        <p:blipFill>
          <a:blip r:embed="rId1"/>
          <a:stretch/>
        </p:blipFill>
        <p:spPr>
          <a:xfrm>
            <a:off x="1682640" y="1676520"/>
            <a:ext cx="2576520" cy="411480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njamin Frankli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ranklin was “a jack-of-all-trades and a master of many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e was the only person who signed four of the most important documents in U.S. hist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3738600" y="160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95" name="Picture 9" descr=""/>
          <p:cNvPicPr/>
          <p:nvPr/>
        </p:nvPicPr>
        <p:blipFill>
          <a:blip r:embed="rId1"/>
          <a:stretch/>
        </p:blipFill>
        <p:spPr>
          <a:xfrm>
            <a:off x="2031840" y="1676520"/>
            <a:ext cx="1879920" cy="411480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omas Pain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aine met Benjamin Franklin who advised him to move to the coloni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e wrote political tracts, his most famous being 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Common Sense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, advocating independenc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Rectangle 6"/>
          <p:cNvSpPr/>
          <p:nvPr/>
        </p:nvSpPr>
        <p:spPr>
          <a:xfrm>
            <a:off x="3552840" y="20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00" name="Picture 7" descr=""/>
          <p:cNvPicPr/>
          <p:nvPr/>
        </p:nvPicPr>
        <p:blipFill>
          <a:blip r:embed="rId1"/>
          <a:stretch/>
        </p:blipFill>
        <p:spPr>
          <a:xfrm>
            <a:off x="5389560" y="1676520"/>
            <a:ext cx="3089160" cy="4114800"/>
          </a:xfrm>
          <a:prstGeom prst="rect">
            <a:avLst/>
          </a:prstGeom>
          <a:ln w="0">
            <a:noFill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aul Rever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ortrait painted by John Singleton Cople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vere was a master silversmith, which is why he is holding a silver teapot in the portrait.  It was also a symbol of the Boston Tea Party and the fact that he was a member of the Sons of Liberty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http://www.americanrevolution.org/revere.html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3" name="Picture 6" descr="revere"/>
          <p:cNvPicPr/>
          <p:nvPr/>
        </p:nvPicPr>
        <p:blipFill>
          <a:blip r:embed="rId1"/>
          <a:stretch/>
        </p:blipFill>
        <p:spPr>
          <a:xfrm>
            <a:off x="5292720" y="1676520"/>
            <a:ext cx="3281400" cy="411480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borah Samps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ampson fought in the Revolutionary War for over a year disguised as Robert Shurtliff, until she received a serious wound.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he was discharged with honor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http://www.awm.lee.army.mil/Army_Women_Notable/gannett_deborah.htm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04" name="Picture 6" descr="GannettDeborah_Samson"/>
          <p:cNvPicPr/>
          <p:nvPr/>
        </p:nvPicPr>
        <p:blipFill>
          <a:blip r:embed="rId1"/>
          <a:stretch/>
        </p:blipFill>
        <p:spPr>
          <a:xfrm>
            <a:off x="5504040" y="1676520"/>
            <a:ext cx="2858760" cy="4114800"/>
          </a:xfrm>
          <a:prstGeom prst="rect">
            <a:avLst/>
          </a:prstGeom>
          <a:ln w="0">
            <a:noFill/>
          </a:ln>
        </p:spPr>
      </p:pic>
      <p:sp>
        <p:nvSpPr>
          <p:cNvPr id="205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njamin Banneke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njamin was an astronomer, mathematician, farmer, and surveyor—and probably the best known black person during his tim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 clock he invented kept almost perfect time for 50 year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b97c01"/>
                </a:solidFill>
                <a:uFillTx/>
                <a:latin typeface="Arial"/>
                <a:hlinkClick r:id="rId1"/>
              </a:rPr>
              <a:t>http://inventors.about.com/library/inventors/blbanneker.htm</a:t>
            </a:r>
            <a:endParaRPr b="0" lang="en-US" sz="7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08" name="Picture 6" descr="E:\banneker.jpg"/>
          <p:cNvPicPr/>
          <p:nvPr/>
        </p:nvPicPr>
        <p:blipFill>
          <a:blip r:embed="rId2"/>
          <a:stretch/>
        </p:blipFill>
        <p:spPr>
          <a:xfrm>
            <a:off x="5122800" y="1676520"/>
            <a:ext cx="3622680" cy="4114800"/>
          </a:xfrm>
          <a:prstGeom prst="rect">
            <a:avLst/>
          </a:prstGeom>
          <a:ln w="0">
            <a:noFill/>
          </a:ln>
        </p:spPr>
      </p:pic>
      <p:sp>
        <p:nvSpPr>
          <p:cNvPr id="209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tsy Ros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egend has it that she designed the first U.S. fla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e story first came about 94 years after it was to have first happene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tsy Ross did sew flags and had an upholstery busines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b97c01"/>
                </a:solidFill>
                <a:uFillTx/>
                <a:latin typeface="Arial"/>
                <a:hlinkClick r:id="rId1"/>
              </a:rPr>
              <a:t>http://www.usflag.org/about.betsy.ross.html</a:t>
            </a:r>
            <a:endParaRPr b="0" lang="en-US" sz="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2" name="Picture 9" descr="E:\weisgerber.jpg"/>
          <p:cNvPicPr/>
          <p:nvPr/>
        </p:nvPicPr>
        <p:blipFill>
          <a:blip r:embed="rId2"/>
          <a:stretch/>
        </p:blipFill>
        <p:spPr>
          <a:xfrm>
            <a:off x="1066680" y="2467080"/>
            <a:ext cx="3810240" cy="2533680"/>
          </a:xfrm>
          <a:prstGeom prst="rect">
            <a:avLst/>
          </a:prstGeom>
          <a:ln w="0">
            <a:noFill/>
          </a:ln>
        </p:spPr>
      </p:pic>
      <p:sp>
        <p:nvSpPr>
          <p:cNvPr id="213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Joseph Bran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Joseph was a Mohawk Indian leader who fought in the British Army.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e was also a Christian missionary among his peopl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e was a leading member of the League of the Iroquoi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http://earlyamerica.com/review/1998/brant.html</a:t>
            </a:r>
            <a:endParaRPr b="0" lang="en-US" sz="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Picture 6" descr="E:\chiefb.jpg"/>
          <p:cNvPicPr/>
          <p:nvPr/>
        </p:nvPicPr>
        <p:blipFill>
          <a:blip r:embed="rId1"/>
          <a:stretch/>
        </p:blipFill>
        <p:spPr>
          <a:xfrm>
            <a:off x="5403960" y="1676520"/>
            <a:ext cx="3058920" cy="4114800"/>
          </a:xfrm>
          <a:prstGeom prst="rect">
            <a:avLst/>
          </a:prstGeom>
          <a:ln w="0">
            <a:noFill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Nathan Hal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ale was the first CIA agent in the United State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e was quoted as saying, “ I only regret that I have but one life to lose for my country.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is picture is a sketch of his executio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" name="AutoShape 6"/>
          <p:cNvSpPr/>
          <p:nvPr/>
        </p:nvSpPr>
        <p:spPr>
          <a:xfrm>
            <a:off x="3211560" y="2160720"/>
            <a:ext cx="2720880" cy="25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8" name="AutoShape 8"/>
          <p:cNvSpPr/>
          <p:nvPr/>
        </p:nvSpPr>
        <p:spPr>
          <a:xfrm>
            <a:off x="3211560" y="2160720"/>
            <a:ext cx="2720880" cy="25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9" name="Rectangle 13"/>
          <p:cNvSpPr/>
          <p:nvPr/>
        </p:nvSpPr>
        <p:spPr>
          <a:xfrm>
            <a:off x="2886120" y="193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20" name="Picture 14" descr=""/>
          <p:cNvPicPr/>
          <p:nvPr/>
        </p:nvPicPr>
        <p:blipFill>
          <a:blip r:embed="rId1"/>
          <a:stretch/>
        </p:blipFill>
        <p:spPr>
          <a:xfrm>
            <a:off x="5029200" y="2049480"/>
            <a:ext cx="3809880" cy="336852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omas Jeffers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Jefferson wrote the Declaration of Independence.  He was a gifted writer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e sent Lewis and Clark out to explore the Louisiana Purchase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e was the 3</a:t>
            </a:r>
            <a:r>
              <a:rPr b="0" lang="en-US" sz="2400" spc="-1" strike="noStrike" baseline="30000">
                <a:solidFill>
                  <a:srgbClr val="eaeaea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president of the United States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3657600" y="193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25" name="Picture 10" descr=""/>
          <p:cNvPicPr/>
          <p:nvPr/>
        </p:nvPicPr>
        <p:blipFill>
          <a:blip r:embed="rId1"/>
          <a:stretch/>
        </p:blipFill>
        <p:spPr>
          <a:xfrm>
            <a:off x="1709640" y="1676520"/>
            <a:ext cx="2524320" cy="411480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bigail Adam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bigail had little formal schooling but a quick wit and was a colorful writer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er son became the 6</a:t>
            </a:r>
            <a:r>
              <a:rPr b="0" lang="en-US" sz="2400" spc="-1" strike="noStrike" baseline="30000">
                <a:solidFill>
                  <a:srgbClr val="eaeaea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U.S. presid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er letters give us an insight into her thoughts and contemporary attitude of the tim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3657600" y="18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30" name="Picture 7" descr=""/>
          <p:cNvPicPr/>
          <p:nvPr/>
        </p:nvPicPr>
        <p:blipFill>
          <a:blip r:embed="rId1"/>
          <a:stretch/>
        </p:blipFill>
        <p:spPr>
          <a:xfrm>
            <a:off x="1803240" y="1676520"/>
            <a:ext cx="2683080" cy="472428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John Adam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dams was often misunderstood—people thought he was cold and rud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e and his cousin, Sam were leaders of the Sons of Libert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e was the first to have his son serve as president als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is political ideas and policies lasted the test of tim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Rectangle 1030"/>
          <p:cNvSpPr/>
          <p:nvPr/>
        </p:nvSpPr>
        <p:spPr>
          <a:xfrm>
            <a:off x="3662280" y="193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35" name="Picture 1031" descr=""/>
          <p:cNvPicPr/>
          <p:nvPr/>
        </p:nvPicPr>
        <p:blipFill>
          <a:blip r:embed="rId1"/>
          <a:stretch/>
        </p:blipFill>
        <p:spPr>
          <a:xfrm>
            <a:off x="1716120" y="1676520"/>
            <a:ext cx="2511360" cy="411480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than Alle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llen was a patriot and soldier in the Revolutionary War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e led the Green Mountain Boys in the capture of Fort Ticonderoga—one of the most important battles of the war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s statue is in the United States Capito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http://www.virtualvermont.com/history/eallen.html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9" name="Picture 6" descr="eallenstatue"/>
          <p:cNvPicPr/>
          <p:nvPr/>
        </p:nvPicPr>
        <p:blipFill>
          <a:blip r:embed="rId1"/>
          <a:stretch/>
        </p:blipFill>
        <p:spPr>
          <a:xfrm>
            <a:off x="6183360" y="1676520"/>
            <a:ext cx="1501560" cy="411480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nedict Arnol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rnold was one of the most trusted American generals of the Revolutionary War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e turned traitor because he was passed over for military honors and accused of abusing his power and standing.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3672000" y="20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44" name="Picture 7" descr=""/>
          <p:cNvPicPr/>
          <p:nvPr/>
        </p:nvPicPr>
        <p:blipFill>
          <a:blip r:embed="rId1"/>
          <a:stretch/>
        </p:blipFill>
        <p:spPr>
          <a:xfrm>
            <a:off x="1671480" y="1676520"/>
            <a:ext cx="2600640" cy="411480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hillis Wheatle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eatley was a slave to a prominent Boston family.  She was treated like family, educated, and wrote poetry that was published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he never had true freedom and died impoverished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http://www.uoregon.edu/~rbear/wheatley.html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3081240" y="13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49" name="Picture 10" descr=""/>
          <p:cNvPicPr/>
          <p:nvPr/>
        </p:nvPicPr>
        <p:blipFill>
          <a:blip r:embed="rId1"/>
          <a:stretch/>
        </p:blipFill>
        <p:spPr>
          <a:xfrm>
            <a:off x="1527120" y="1676520"/>
            <a:ext cx="2887560" cy="411480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7T23:19:30Z</dcterms:created>
  <dc:creator>Melissa Moon</dc:creator>
  <dc:description/>
  <dc:language>en-US</dc:language>
  <cp:lastModifiedBy>Legion</cp:lastModifiedBy>
  <dcterms:modified xsi:type="dcterms:W3CDTF">2017-07-05T10:00:05Z</dcterms:modified>
  <cp:revision>58</cp:revision>
  <dc:subject/>
  <dc:title>Founding Fathers</dc:title>
</cp:coreProperties>
</file>