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A9FB-3975-470A-8AAA-E8AF9CE6938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EB78F-A787-4E67-90FC-4745174E4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7C7E-6695-4B41-B42C-ECB5FFFA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9078A1-4083-490E-BC1B-10B20C6C0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3018B4-B306-4F7E-BBE1-3180CEE48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B9C4C-B603-466D-A8DE-2FDDB7B7F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253BE-9120-467D-B7A0-FA9C7078B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4B02A-CDF3-4FAB-85C7-A52CD7DC22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5C2E27-3B73-4187-99DA-8A3F0BF7D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466F26-182F-494A-B22C-0B5288E021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B56412-5F29-4264-8719-EB3E54D2FF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AB2FC9-F31A-4636-9825-E128A9FCAB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194CCB-161B-450F-8DF8-D890F3ABB9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BD19-8183-4F74-8E54-67AF15931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1CB453-6B2F-4A1B-8401-841A3B59B0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A1105F-3EFC-46B7-AED0-5AF305BF77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8F03DE-D904-4B6E-8364-6708186279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F75B79-5781-4673-8FFA-9B301CBB7D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67869E-2E48-4C00-81EF-E3C18E9539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253076-E28F-4588-B33D-D11C5F31EB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FBA169-52CA-469F-88DD-14AEE4819C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0EFF60-99B0-4C71-B7CF-73845D0F1A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D82E89-B4F0-472A-8CEF-2830A8E036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0DEBE2-BA54-4ADE-AE98-E3E963B831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12ED8-18F3-4A40-B7B5-E9303F76C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5D2AA2-3C2E-4E00-BFE9-92AF617CDC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225AC-4300-44AE-BE24-09D3EB5A81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4254E-77CB-4141-9612-4022ED6C0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FE423-5191-4B36-85D2-E435920C1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584FE-CC4D-4D48-8FE1-311BD97A2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1C5DF-4FD7-461F-98BB-147DCF900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2C6FC-58BD-4CA3-A839-F876E893F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D59D4-D9A8-4EFD-8B1E-BB9ACB8E0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7652-9D87-4CC5-B9E9-92825D57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BDDE-50BC-4B3D-9EBF-965AC2956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7C50D-763E-41E4-A626-7020DFF0A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96740-BBDE-4600-A89D-CBD4671C7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8080E-3C05-47C2-A97D-465592931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669A5-EDC3-4D80-8666-B82AF757C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170699-76A1-420F-938B-100EC83E5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2E196-0C51-4DED-85B3-F01CADC20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216B1-B6DE-495C-A814-67A4615DB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4EDDC-FCE7-454E-B7EE-EACAE0AE8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17F54-9A83-4E67-86D5-0043062F6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A7CC-A386-433A-AEEB-0A3612950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AE384-09F0-45A7-B155-CE040C0FF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1099E-6469-4569-9C1D-10ACE6A92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F7C9C-55C1-4549-BD04-1F2A5BD50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8D1CF-A229-486C-914D-7EAF88F22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D0A0E-7653-474D-B13B-522C0C034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D8244-46E8-42CA-8A32-6C3E72DA4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1B0992-7F27-458A-B637-29203E533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ABD187-BFF1-44A6-B917-345F757476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12F66-8D40-45E4-8E7A-13F18F887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0E473-8CCD-47AB-B152-26C966CAB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22D93-2F80-4D57-991C-04429ED74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59E6B-5C5F-41D2-B428-CA5BE67EF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59B18-2AA2-40BC-9974-23A42AB666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2CBB9-F905-4F93-89BB-CF3EEDB47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3B075-0756-4FCF-A706-E1BCA74AC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0A070-C403-440A-A40B-8B72107F1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CB35A-733F-4BE2-A3EC-CB333B02E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BDDF5-EE6C-42DA-A52F-69D85A816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308F5-4581-42CD-91E9-9CCF558E8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2AF89-BFBD-4EBC-AB9A-F6E99BFF14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7B2370-F86A-472D-BA7A-B06FB84376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47EAB-D98E-4BD3-A3EC-958D766F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2F23E-2624-40F1-93B3-2D3A6A9A6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5E6E80-6C62-4F13-8273-AED8C5333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ED319-96ED-4C5D-82E1-2B5EFDA53C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BBDCF-047F-400D-95B0-5CDE091C2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5C30C-9F51-48F2-A31E-DAC097542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46D51-B55E-4938-B9DF-F256EEE78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049F7-0171-4FDC-9ABB-C4A792575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2125A-B955-49A2-9D15-E18F0FA2B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832289-16D4-47D7-A8F2-269D48E98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647C6C-1032-4470-AF0C-BE6BC6DFD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35CE-7CEE-40F5-A031-F6E4E2C9C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F46DFD-3FB3-4052-8676-006D67F3B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14073F-49F1-4F6C-A542-75EC772CC7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8DB5A-1DAE-4203-BD9A-4BD563A3C7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28C03-DCFA-477E-AAC4-C93922E82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093AB-BF76-4C79-9354-5086F480D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F5A584-B06D-4F59-8C10-6360CEAE59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F2CBB-8C21-416B-9A1B-3642940AC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8D019-1361-4601-9B08-7B12B5DD2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82638-00C8-4C52-9FB8-A11E3B60A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9C9B2-E0FF-49FF-8C16-1A0431FBD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69F9C-4746-40FC-B07D-C46E2ECA0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7E79F-F202-4375-8F6F-7B5D6D0CF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BA3CD-78AA-4F1A-9FAC-A624DAB3C8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8A0F5-3C74-414E-AE00-BFF9D207F4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A17A55-2E9D-45B8-B552-0D77B0E8B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10F91-6830-4392-8F47-6DC10737B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F81EA-DC99-4BFD-A710-B91F5A929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1D1961-C030-4C38-969E-D714DC826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BFE44A-5756-408F-9C0C-4D2EB8B23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70C20-CB50-44A6-AF16-E9F6C1D02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B18B3-0D4B-4A7C-9844-3D6551B199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FD51-9856-48F4-98B2-96738A11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3C1D6-1F20-42E7-813A-BE8EB4CB5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F43E8-5D79-4133-B9D4-3208973F9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3F5B0-3308-4CEB-8EAE-CAC761D65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2EBD98-D923-4DF8-A695-A62897E6C3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D6162D-4C4A-474D-95DE-75C04FDAA7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92A6FD-9D3F-41E0-B7A3-408E0FCD1B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F06F9-F028-4052-9BC2-82EA80712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1C4C76-23E3-4C64-B2E7-0623165AA0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327B0C-294A-45EC-8DBB-B8ABB3F05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7E11A-42DF-4B41-AAD4-D1756F5E65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E20F-125B-4950-A1B2-EA038BC75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1B30C-5784-403A-B95B-43AF5A6E73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84D9A-C146-437E-9C79-A27BCCF8E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1575B-E98F-47D3-89DA-797E5650E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0E0A4-7E14-4630-9ABD-971DF53C6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4388D-4A7B-4590-AC01-F9F995381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4F12E8-E951-4AE5-9CB9-6D5AFCF716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6B001-27DD-4E98-A1AA-E1078CDDE8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E10774-B29B-4A4D-9F74-283A89439D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6D55F-20CD-4CEB-9823-935256BA1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799F0D-5537-4F6C-BCCF-4A3392A805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D26B-BDF5-43BE-8886-92B9C399F855}" type="datetime">
              <a:rPr b="0" lang="it-IT" sz="1200" spc="-1" strike="noStrike">
                <a:solidFill>
                  <a:srgbClr val="0d0d0d"/>
                </a:solidFill>
                <a:latin typeface="Bell MT"/>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7210-A918-44C4-9763-67C23870ED91}"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D0A4-00E9-4208-9B47-44FA6DAD295D}" type="datetime">
              <a:rPr b="0" lang="it-IT" sz="2400" spc="-1" strike="noStrike">
                <a:solidFill>
                  <a:srgbClr val="ffffff"/>
                </a:solidFill>
                <a:latin typeface="Bell MT"/>
              </a:rPr>
              <a:t>29/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CD85-1245-4204-A675-708C229F4055}"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89E0-6333-43AB-BC4B-E6DE47F80506}"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1B05-F97D-4E84-993E-46B6F8D21EAE}"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32EF-A088-4E73-BF96-5B3634D2B9CD}"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AB7A-2797-44A2-A10B-E79E763DF37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8316-8FDD-43C9-BB95-6695713E4178}" type="datetime">
              <a:rPr b="0" lang="it-IT"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083D-EFE5-4809-AABC-91BAE606882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0905-C2BA-4916-A18F-78137AE6E783}" type="datetime">
              <a:rPr b="0" lang="it-IT" sz="1200" spc="-1" strike="noStrike">
                <a:solidFill>
                  <a:srgbClr val="ffffff"/>
                </a:solidFill>
                <a:latin typeface="Bell MT"/>
              </a:rPr>
              <a:t>29/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6476-BA01-45E8-8A7E-DAA9B1F6A118}"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9326-3FFB-4AAA-8797-02846B3BDCCE}"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F5C5-E961-473B-BA90-BF7C43AA22B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5054-85DD-4F2B-A810-11C0988C148F}"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BCA7-A02E-4ED7-9EB6-4A56385AD63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8F4B-61D8-4D96-A5C8-594D312A81B7}"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E2B1-6866-4763-92ED-2A49A75251C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425F-6DEE-4F91-81BA-7A9CEEFEB884}" type="datetime">
              <a:rPr b="0" lang="it-IT" sz="2400" spc="-1" strike="noStrike">
                <a:solidFill>
                  <a:srgbClr val="0d0d0d"/>
                </a:solidFill>
                <a:latin typeface="Bell MT"/>
              </a:rPr>
              <a:t>29/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1C53-AD85-44E4-9BE6-20FB29EE3A26}"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