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move the slide</a:t>
            </a:r>
            <a:endParaRPr b="0" lang="en-US" sz="4400" spc="-1" strike="noStrike">
              <a:solidFill>
                <a:srgbClr val="0d0d0d"/>
              </a:solidFill>
              <a:latin typeface="Bell MT"/>
            </a:endParaRPr>
          </a:p>
        </p:txBody>
      </p:sp>
      <p:sp>
        <p:nvSpPr>
          <p:cNvPr id="4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3E1B-21BE-4729-A833-672925FAD13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ary Grace Cavalla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niversità degli Studi di Mila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LAG DAY JUNE 14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ry Grace Cavalla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Università degli Studi di Mil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FLAG DAY JUNE 14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 had 13 stripes: red and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lors  represented the 13 original colonies and it was first flown on New Year’s Day in 1776 to celebrate the Army’s  form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 had 13 stripes: red and whi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rs  represented the 13 original colonies and it was first flown on New Year’s Day in 1776 to celebrate the Army’s  formation.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tsy Ross made (actually sewed) the original flag with 13 stars and 13 stripes ba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nding fathers did not offically adopt the flag until June 14, 1777, almost a year after the signing of the Declaration of Indepen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tsy Ross made (actually sewed) the original flag with 13 stars and 13 stripes bann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ing fathers did not offically adopt the flag until June 14, 1777, almost a year after the signing of the Declaration of Independ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flag had 13 white stars in a circle on a blue background with 13 red and white stri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represented the constellation of the State rising in the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background stood for the virtues of vigilance, perseverance and jus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were in a circle to represent the Un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3 stripes stood for the 13 original colo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red symbolizes the newly formed country’s defiance  towards England and cou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symbolized purity and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flag had 13 white stars in a circle on a blue background with 13 red and white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represented the constellation of the State rising in the W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ue background stood for the virtues of vigilance, perseverance and justi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were in a circle to represent the Un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13 stripes stood for the 13 original col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 red symbolizes the newly formed country’s defiance  towards England and cour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symbolized purity and lib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Flag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ficial Flag Day celebration was June 14th, 1861 Later in history, President Woodrow Wilson proclaimed June 14th as “Flag Day” in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Flag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official Flag Day celebration was June 14th, 1861 Later in history, President Woodrow Wilson proclaimed June 14th as “Flag Day” in 191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questions for follow up exerci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synonym for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represent, along with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the first flag created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questions for follow up exercis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a synonym for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represent, along with the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as the first flag created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something about your countr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of your flag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S flag have in common with your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your flag flown in your country and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any type of similar patriotism in your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now something about your count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of your flag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es the US flag have in common with your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is your flag flown in your country and wh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you have any type of similar patriotism in your count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B2FDA-8816-49DB-8895-A78471F08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EF832-A7E0-4BB8-84BC-20E8DEFC3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E24C01-E556-477C-809F-D4A506BBB3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2F093D-089A-41D7-8D3C-3A72D75F31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39A33D-CDBC-477B-96A6-CD29CCAECC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8D19C6-2A08-45AF-8519-F589F02E61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1595D-5960-4F6D-B8E7-AA93E92A5A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9FC37B-95EE-4F08-A656-D0144666A1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8D66A4-C6D3-4EF3-8D95-2B0011DF9F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234498-C4C0-4B3A-A003-786EF365B2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6F29E1-4CA3-4283-B9B6-6221440C0B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08A790-94F4-4400-9821-A98635534E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407A8-F82E-48AC-BA5E-FFCC9CA84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C09DF2-2071-4DF1-BA5A-08228725DC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2A6283-93D0-4C1D-80B9-2AB6CCF74F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FD74DB-5E3F-4DD6-BEAF-F071FABCA0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A3872D-45C2-4D70-9130-99B6335155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AFE396-691B-471C-9C66-3720104E37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8174E3-3DDA-4BAC-B5A1-4FD02A0325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6EAE20-8A5F-40CE-8610-C64B349F91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C4447F-F421-401A-9EDD-CB5775BA0F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9B553F-E7C9-45C1-9AB8-A542F9B391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FFAAB8-E50D-4474-8FE0-BC82FB9EEA7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23E57-245E-4835-ADAF-3AD46C8AE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64782F-A9FE-4E96-AFF6-6822322F45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B6093-D219-4CB4-9175-851981A3D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3B33F-C73B-4643-A93B-F3FE039AD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8EB2D-59CB-451C-8C9F-04B2CA6A9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39431-EB11-48E3-9FF7-B3A012880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F59D0-B6C0-44FD-9AE3-08E668E32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7D9E6-EB20-4BE2-8EBE-330A50DA6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D0DAD-5D1E-4C01-AE6C-B4E8FDDBC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008A1-AD77-4CAA-BCED-E7467DAA6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D26C2-EA19-4ADE-B4A5-73E9EB717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D1046-6E60-4D1B-BA97-4622C2AE7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70904-673B-4EA5-B837-4A82B94E7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E401E-68B4-4E32-9BFC-9C7874D6F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610773-5033-4D54-BB76-A2A09E163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6F0A91-0DC3-45FB-89C8-251CF46C0D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BA9591-9514-4BC5-8233-87DF02541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01B7C0-79A9-4D81-BA5F-9F61427677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5DE1A7-ED11-4671-B204-1C72FE9360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70294-B325-4832-92E8-4D5559AB7D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6833E-900A-4B8D-9047-557301E66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4F9F2C-673E-4033-B732-D248F3AAC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BC9807-13C6-4801-9DEF-454CE1E6D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1DD09-9FFE-493B-AE3B-D11BD2DDB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4E519-F223-4455-B3F3-9FDA41F4E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CAB76F-57E3-4715-B5F2-0CE8E04F2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C8A2AE-28EA-4F3D-85C5-549B0DC00C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503F20-286A-4F16-8661-17728B28DF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1F1EDC-514D-41C8-8A13-D0EEAF9640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BC974D-F4FC-4914-A2D7-1E82B40FEE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0330EB-D20F-429B-9F65-9A282DA8C6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47B83-8605-4638-BE8C-59AF348B3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3EE5D7-B538-438F-AF0E-A1A431888E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EFB095-388D-45C9-A1DB-A007679BD0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C57F2B-A697-48C2-9847-1A58DF0D36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1839EF-9C20-4C98-B3B4-1A42968CD5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2F3A45-A37C-4701-B860-CF5936926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8FE2F-7780-442A-989F-E11F1BBEE0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910D05-C9AC-49EA-A500-A4473D7492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5E1946-E903-4F46-9414-1EE675E671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D7233E-2B8E-4C5C-A995-97D5E80E31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406668-204C-4C3B-A876-3D678F7504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FF275-7B3E-493D-9049-77C8F8ECF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DE6D33-1318-48B3-9E57-5F4CAE15FF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F96FBC-704E-4820-AA89-8E97088B06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31D3F8-DC31-4643-AACE-29642862AC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C3303C-0247-4128-8B50-162CE05E6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A1C671-08B8-4543-A10F-F3322390E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3C6E7-CAFB-4571-BFCD-77953A710F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094D7-7394-418B-8571-4B55FFB4E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FD310-DC3E-4EA3-93C1-DB6C70FE4A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54093-E67B-4735-9F28-954C6813C5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57399B-289F-44B0-8E27-DB728A9A3E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A7305-FEE1-43B2-9595-BB9729BBF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B30A3E-EC0F-4EF7-B828-3F5AD06139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59134C-1435-437A-96B1-45C360AB40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3703C9-F94F-44D4-AF63-F045B0CDE0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AFFCFC-5A37-4DE5-9CD0-C40A254513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236E98-2157-4ED7-BF57-A799B853E9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4A84CF-2C4D-4878-8712-EB69124EE0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895FB0-FD40-438E-A481-E0B37D98FA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E0D8B8-38C7-4CAA-A087-6BDB94A19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8965A-B690-448B-B1A8-578756864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F2E15C-1E3C-45DF-834F-24C8CF5DFC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3A065-FE69-4F7D-AE6D-13C8DC049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BBF880-2E25-416D-92FA-4E57FE51CB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C4AE02-6544-4570-8426-CFE1B1C27B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133A47-2AEE-4BB8-9B0A-C387AB3BB2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84232F-3A97-40D9-8ACF-35E157C15F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9C9E41-7839-40FB-A97F-C7E4EE9871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7BB7B9-89E3-45D9-B3FA-88769941F6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FA7D27-B53E-4426-B191-412226C196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F53772-1ACE-4F95-9EB8-A204B49E8E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B1F2A3-1815-4F1F-93B2-C0114431C6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FEAC0B-2A14-43FB-A501-FA318F005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00D2C-71F5-446E-BC2D-CB06EC980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304A9-B90D-48BA-86FD-B53A19E2E4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9E611A-FBC1-4338-A9D6-44680BAE60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036060-E10F-46E4-BC1D-16E0E8C328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2B3EFD-3189-4F8E-8E78-87BDD6987E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A6EE4E-25C9-439A-9C84-468DEF2434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547F9C-8533-4284-B9E2-246499C75D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46683D-1AF1-4A4C-AAD0-E6D3594E66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282AA8-98FF-48E1-BBBB-92CB9A29DB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C24554-ACBB-4D28-9DA5-DC4DAA8B47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FB050E-2FB2-40C9-88DC-663EDFF078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A1B2-ED64-4E81-9DFA-46EC42AFB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673C1E-E660-4BB0-B7C4-F72A54C6B5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119D85-3EB5-419A-B964-814D2B6268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3571C9-145B-437F-950A-235111D30E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942ADA-1760-4C19-BFDC-162D61FF28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A7D264-20CB-4D88-A40A-C8CA9EBE7F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81EF35-7E21-4B94-A583-7493F7A642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8F059B-2C18-4E58-B0FA-E62F81F3FF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708B9C-8933-4005-8428-DDE5C08BB1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BE360F-51FF-43A6-B131-50C37B4DA2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134327-E0DA-4AFA-809F-4BAFD40807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image" Target="../media/image2.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2" name="PlaceHolder 3"/>
          <p:cNvSpPr>
            <a:spLocks noGrp="1"/>
          </p:cNvSpPr>
          <p:nvPr>
            <p:ph type="dt" idx="1"/>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9781-2912-412A-B608-800063903C3E}" type="datetime">
              <a:rPr b="0" lang="it-IT" sz="1200" spc="-1" strike="noStrike">
                <a:solidFill>
                  <a:srgbClr val="0d0d0d"/>
                </a:solidFill>
                <a:latin typeface="Bell MT"/>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d0d0d"/>
                </a:solidFill>
                <a:latin typeface="Bell MT"/>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5BF8-1632-47F2-8BA9-F216112BD9B1}" type="slidenum">
              <a:rPr b="0" lang="it-IT" sz="1200" spc="-1" strike="noStrike">
                <a:solidFill>
                  <a:srgbClr val="0d0d0d"/>
                </a:solidFill>
                <a:latin typeface="Bell MT"/>
              </a:rPr>
              <a:t>&lt;number&gt;</a:t>
            </a:fld>
            <a:endParaRPr b="0" lang="en-US" sz="1200" spc="-1" strike="noStrike">
              <a:solidFill>
                <a:srgbClr val="000000"/>
              </a:solidFill>
              <a:latin typeface="Times New Roman"/>
            </a:endParaRPr>
          </a:p>
        </p:txBody>
      </p:sp>
      <p:pic>
        <p:nvPicPr>
          <p:cNvPr id="5" name="Picture 8" descr="D:\tutti-dati\back up\pc\logo1_mod1\logo trasparente.gif"/>
          <p:cNvPicPr/>
          <p:nvPr/>
        </p:nvPicPr>
        <p:blipFill>
          <a:blip r:embed="rId3"/>
          <a:stretch/>
        </p:blipFill>
        <p:spPr>
          <a:xfrm>
            <a:off x="8028000" y="5446800"/>
            <a:ext cx="668160" cy="11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375"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pic>
        <p:nvPicPr>
          <p:cNvPr id="376" name="Picture 2" descr="C:\Documents and Settings\roby\Desktop\Inserire Titolo\Diapositiva1.JPG"/>
          <p:cNvPicPr/>
          <p:nvPr/>
        </p:nvPicPr>
        <p:blipFill>
          <a:blip r:embed="rId4"/>
          <a:stretch/>
        </p:blipFill>
        <p:spPr>
          <a:xfrm>
            <a:off x="0" y="4495680"/>
            <a:ext cx="9144000" cy="2362320"/>
          </a:xfrm>
          <a:prstGeom prst="rect">
            <a:avLst/>
          </a:prstGeom>
          <a:ln w="0">
            <a:noFill/>
          </a:ln>
        </p:spPr>
      </p:pic>
      <p:pic>
        <p:nvPicPr>
          <p:cNvPr id="377" name="Picture 4" descr="C:\tutti-dati\back up\pc\logo1_mod1\intestazione.jpg"/>
          <p:cNvPicPr/>
          <p:nvPr/>
        </p:nvPicPr>
        <p:blipFill>
          <a:blip r:embed="rId5"/>
          <a:stretch/>
        </p:blipFill>
        <p:spPr>
          <a:xfrm>
            <a:off x="3995640" y="260280"/>
            <a:ext cx="4807080" cy="1285920"/>
          </a:xfrm>
          <a:prstGeom prst="rect">
            <a:avLst/>
          </a:prstGeom>
          <a:ln w="0">
            <a:noFill/>
          </a:ln>
        </p:spPr>
      </p:pic>
      <p:pic>
        <p:nvPicPr>
          <p:cNvPr id="378" name="Picture 8" descr="D:\tutti-dati\back up\pc\logo1_mod1\logo trasparente.gif"/>
          <p:cNvPicPr/>
          <p:nvPr/>
        </p:nvPicPr>
        <p:blipFill>
          <a:blip r:embed="rId6"/>
          <a:stretch/>
        </p:blipFill>
        <p:spPr>
          <a:xfrm>
            <a:off x="8244000" y="5445000"/>
            <a:ext cx="668160" cy="114804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81" name="PlaceHolder 3"/>
          <p:cNvSpPr>
            <a:spLocks noGrp="1"/>
          </p:cNvSpPr>
          <p:nvPr>
            <p:ph type="dt" idx="28"/>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4260-7839-4D02-A3BE-D0EA33A316B9}" type="datetime">
              <a:rPr b="0" lang="it-IT" sz="2400" spc="-1" strike="noStrike">
                <a:solidFill>
                  <a:srgbClr val="ffffff"/>
                </a:solidFill>
                <a:latin typeface="Bell MT"/>
              </a:rPr>
              <a:t>31/07/26</a:t>
            </a:fld>
            <a:endParaRPr b="0" lang="en-US" sz="2400" spc="-1" strike="noStrike">
              <a:solidFill>
                <a:srgbClr val="000000"/>
              </a:solidFill>
              <a:latin typeface="Times New Roman"/>
            </a:endParaRPr>
          </a:p>
        </p:txBody>
      </p:sp>
      <p:sp>
        <p:nvSpPr>
          <p:cNvPr id="382" name="PlaceHolder 4"/>
          <p:cNvSpPr>
            <a:spLocks noGrp="1"/>
          </p:cNvSpPr>
          <p:nvPr>
            <p:ph type="ftr" idx="29"/>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5043-F909-4DDB-9011-0E2999A1CF6B}" type="slidenum">
              <a:rPr b="0" lang="it-IT" sz="2400" spc="-1" strike="noStrike">
                <a:solidFill>
                  <a:srgbClr val="ffffff"/>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9489-2F8D-4C15-8ABC-9543F4EA833D}" type="datetime">
              <a:rPr b="0" lang="it-IT"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6697-7E1D-4CDE-A02B-AD3DD2B12CF6}"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AB34-FF21-49A7-8C20-20DC9235CF8A}" type="datetime">
              <a:rPr b="0" lang="it-IT"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76B1-E0CB-4C1D-954B-6E47123DF083}"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4572-EBB8-4893-B698-73D62FAE9F44}" type="datetime">
              <a:rPr b="0" lang="it-IT" sz="1200" spc="-1" strike="noStrike">
                <a:solidFill>
                  <a:srgbClr val="898989"/>
                </a:solidFill>
                <a:latin typeface="Calibri"/>
              </a:rPr>
              <a:t>31/07/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7F19-E303-4933-B0E8-365365027307}"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167" name="PlaceHolder 3"/>
          <p:cNvSpPr>
            <a:spLocks noGrp="1"/>
          </p:cNvSpPr>
          <p:nvPr>
            <p:ph type="dt" idx="13"/>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903F-28A6-4C19-AD09-BB6F20A2AC52}" type="datetime">
              <a:rPr b="0" lang="it-IT" sz="1200" spc="-1" strike="noStrike">
                <a:solidFill>
                  <a:srgbClr val="ffffff"/>
                </a:solidFill>
                <a:latin typeface="Bell MT"/>
              </a:rPr>
              <a:t>31/07/26</a:t>
            </a:fld>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000000"/>
              </a:solidFill>
              <a:latin typeface="Times New Roman"/>
            </a:endParaRPr>
          </a:p>
        </p:txBody>
      </p:sp>
      <p:sp>
        <p:nvSpPr>
          <p:cNvPr id="169" name="PlaceHolder 5"/>
          <p:cNvSpPr>
            <a:spLocks noGrp="1"/>
          </p:cNvSpPr>
          <p:nvPr>
            <p:ph type="sldNum" idx="15"/>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A9C7-1084-46CB-B82C-A5C6160EB2F0}" type="slidenum">
              <a:rPr b="0" lang="it-IT" sz="1200" spc="-1" strike="noStrike">
                <a:solidFill>
                  <a:srgbClr val="ffffff"/>
                </a:solidFill>
                <a:latin typeface="Bell MT"/>
              </a:rPr>
              <a:t>&lt;number&gt;</a:t>
            </a:fld>
            <a:endParaRPr b="0" lang="en-US" sz="1200" spc="-1" strike="noStrike">
              <a:solidFill>
                <a:srgbClr val="000000"/>
              </a:solidFill>
              <a:latin typeface="Times New Roman"/>
            </a:endParaRPr>
          </a:p>
        </p:txBody>
      </p:sp>
      <p:pic>
        <p:nvPicPr>
          <p:cNvPr id="170"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171"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DF53-8CAC-47EF-AC24-0D32C7652921}" type="datetime">
              <a:rPr b="0" lang="it-IT"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AC51-2FEE-4879-B782-4602DE6451C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2AD8-B065-453B-9325-155A9C03B1A4}" type="datetime">
              <a:rPr b="0" lang="it-IT"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842F-57BC-4BCC-82FF-D089B5D4B62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607F-D84B-4985-A60C-9AC363C2049D}" type="datetime">
              <a:rPr b="0" lang="it-IT"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0F22-80D1-4033-AD8C-131AB3641F6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1" name="Picture 8" descr="D:\tutti-dati\back up\pc\logo1_mod1\logo trasparente.gif"/>
          <p:cNvPicPr/>
          <p:nvPr/>
        </p:nvPicPr>
        <p:blipFill>
          <a:blip r:embed="rId3"/>
          <a:stretch/>
        </p:blipFill>
        <p:spPr>
          <a:xfrm>
            <a:off x="8028000" y="5446800"/>
            <a:ext cx="668160" cy="1147680"/>
          </a:xfrm>
          <a:prstGeom prst="rect">
            <a:avLst/>
          </a:prstGeom>
          <a:ln w="0">
            <a:noFill/>
          </a:ln>
        </p:spPr>
      </p:pic>
      <p:pic>
        <p:nvPicPr>
          <p:cNvPr id="332" name="Picture 4" descr="C:\tutti-dati\back up\pc\logo1_mod1\intestazione.jpg"/>
          <p:cNvPicPr/>
          <p:nvPr/>
        </p:nvPicPr>
        <p:blipFill>
          <a:blip r:embed="rId4"/>
          <a:stretch/>
        </p:blipFill>
        <p:spPr>
          <a:xfrm>
            <a:off x="3995640" y="260280"/>
            <a:ext cx="4807080" cy="12859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35" name="PlaceHolder 3"/>
          <p:cNvSpPr>
            <a:spLocks noGrp="1"/>
          </p:cNvSpPr>
          <p:nvPr>
            <p:ph type="dt" idx="25"/>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1084-610B-4D48-81A1-4E49D2C03F7A}" type="datetime">
              <a:rPr b="0" lang="it-IT" sz="2400" spc="-1" strike="noStrike">
                <a:solidFill>
                  <a:srgbClr val="0d0d0d"/>
                </a:solidFill>
                <a:latin typeface="Bell MT"/>
              </a:rPr>
              <a:t>31/07/26</a:t>
            </a:fld>
            <a:endParaRPr b="0" lang="en-US" sz="2400" spc="-1" strike="noStrike">
              <a:solidFill>
                <a:srgbClr val="000000"/>
              </a:solidFill>
              <a:latin typeface="Times New Roman"/>
            </a:endParaRPr>
          </a:p>
        </p:txBody>
      </p:sp>
      <p:sp>
        <p:nvSpPr>
          <p:cNvPr id="336" name="PlaceHolder 4"/>
          <p:cNvSpPr>
            <a:spLocks noGrp="1"/>
          </p:cNvSpPr>
          <p:nvPr>
            <p:ph type="ftr" idx="26"/>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ww.sliderbase.com</a:t>
            </a:r>
            <a:endParaRPr b="0" lang="en-US" sz="2400" spc="-1" strike="noStrike">
              <a:solidFill>
                <a:srgbClr val="000000"/>
              </a:solidFill>
              <a:latin typeface="Times New Roman"/>
            </a:endParaRPr>
          </a:p>
        </p:txBody>
      </p:sp>
      <p:sp>
        <p:nvSpPr>
          <p:cNvPr id="337" name="PlaceHolder 5"/>
          <p:cNvSpPr>
            <a:spLocks noGrp="1"/>
          </p:cNvSpPr>
          <p:nvPr>
            <p:ph type="sldNum" idx="27"/>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BB16-DC22-42BD-B75E-B3F2DFC1184C}" type="slidenum">
              <a:rPr b="0" lang="it-IT" sz="2400" spc="-1" strike="noStrike">
                <a:solidFill>
                  <a:srgbClr val="0d0d0d"/>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Mary Grace Cavallaro</a:t>
            </a:r>
            <a:endParaRPr b="0" lang="en-US" sz="3600" spc="-1" strike="noStrike">
              <a:solidFill>
                <a:srgbClr val="0d0d0d"/>
              </a:solidFill>
              <a:latin typeface="Bell MT"/>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Università degli Studi di Milano</a:t>
            </a:r>
            <a:endParaRPr b="0" lang="en-US" sz="3600" spc="-1" strike="noStrike">
              <a:solidFill>
                <a:srgbClr val="0d0d0d"/>
              </a:solidFill>
              <a:latin typeface="Bell MT"/>
            </a:endParaRPr>
          </a:p>
        </p:txBody>
      </p:sp>
      <p:sp>
        <p:nvSpPr>
          <p:cNvPr id="428"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11651b"/>
                </a:solidFill>
                <a:latin typeface="Bell MT"/>
              </a:rPr>
              <a:t>FLAG DAY JUNE 14TH</a:t>
            </a:r>
            <a:endParaRPr b="0" lang="en-US" sz="4800" spc="-1" strike="noStrike">
              <a:solidFill>
                <a:srgbClr val="0d0d0d"/>
              </a:solidFill>
              <a:latin typeface="Bell MT"/>
            </a:endParaRPr>
          </a:p>
        </p:txBody>
      </p:sp>
      <p:sp>
        <p:nvSpPr>
          <p:cNvPr id="42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original flag</a:t>
            </a:r>
            <a:endParaRPr b="0" lang="en-US" sz="4400" spc="-1" strike="noStrike">
              <a:solidFill>
                <a:srgbClr val="0d0d0d"/>
              </a:solidFill>
              <a:latin typeface="Bell MT"/>
            </a:endParaRPr>
          </a:p>
        </p:txBody>
      </p:sp>
      <p:sp>
        <p:nvSpPr>
          <p:cNvPr id="431" name=""/>
          <p:cNvSpPr txBox="1"/>
          <p:nvPr/>
        </p:nvSpPr>
        <p:spPr>
          <a:xfrm>
            <a:off x="324000" y="1197000"/>
            <a:ext cx="4319280" cy="49291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original Flag had 13 stripes: red and whit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se colors  represented the 13 original colonies and it was first flown on New Year’s Day in 1776 to celebrate the Army’s  formation. . </a:t>
            </a:r>
            <a:endParaRPr b="0" lang="en-US" sz="2800" spc="-1" strike="noStrike">
              <a:solidFill>
                <a:srgbClr val="0d0d0d"/>
              </a:solidFill>
              <a:latin typeface="Bell MT"/>
            </a:endParaRPr>
          </a:p>
        </p:txBody>
      </p:sp>
      <p:pic>
        <p:nvPicPr>
          <p:cNvPr id="432" name="Segnaposto contenuto 4" descr="34flag.jpg"/>
          <p:cNvPicPr/>
          <p:nvPr/>
        </p:nvPicPr>
        <p:blipFill>
          <a:blip r:embed="rId1"/>
          <a:stretch/>
        </p:blipFill>
        <p:spPr>
          <a:xfrm>
            <a:off x="4648320" y="2043000"/>
            <a:ext cx="4038480" cy="3640320"/>
          </a:xfrm>
          <a:prstGeom prst="rect">
            <a:avLst/>
          </a:prstGeom>
          <a:ln w="0">
            <a:noFill/>
          </a:ln>
        </p:spPr>
      </p:pic>
      <p:sp>
        <p:nvSpPr>
          <p:cNvPr id="43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404280"/>
            <a:ext cx="4038480" cy="572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 </a:t>
            </a:r>
            <a:r>
              <a:rPr b="0" lang="it-IT" sz="2800" spc="-1" strike="noStrike">
                <a:solidFill>
                  <a:srgbClr val="0d0d0d"/>
                </a:solidFill>
                <a:latin typeface="Bell MT"/>
              </a:rPr>
              <a:t>Betsy Ross made (actually sewed) the original flag with 13 stars and 13 stripes banner.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founding fathers did not offically adopt the flag until June 14, 1777, almost a year after the signing of the Declaration of Independanc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35" name="Segnaposto contenuto 4" descr="history flag.jpg"/>
          <p:cNvPicPr/>
          <p:nvPr/>
        </p:nvPicPr>
        <p:blipFill>
          <a:blip r:embed="rId1"/>
          <a:stretch/>
        </p:blipFill>
        <p:spPr>
          <a:xfrm>
            <a:off x="4643280" y="2060640"/>
            <a:ext cx="4038840" cy="3132000"/>
          </a:xfrm>
          <a:prstGeom prst="rect">
            <a:avLst/>
          </a:prstGeom>
          <a:ln w="0">
            <a:noFill/>
          </a:ln>
        </p:spPr>
      </p:pic>
      <p:sp>
        <p:nvSpPr>
          <p:cNvPr id="436"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50560" y="260280"/>
            <a:ext cx="7489800" cy="5832720"/>
          </a:xfrm>
          <a:prstGeom prst="rect">
            <a:avLst/>
          </a:prstGeom>
          <a:noFill/>
          <a:ln w="0">
            <a:noFill/>
          </a:ln>
        </p:spPr>
        <p:txBody>
          <a:bodyPr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new flag had 13 white stars in a circle on a blue background with 13 red and white strip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represented the constellation of the State rising in the West.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blue background stood for the virtues of vigilance, perseverance and justic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were in a circle to represent the Union.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13 stripes stood for the 13 original coloni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color red symbolizes the newly formed country’s defiance  towards England and courag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hite symbolized purity and liberty.</a:t>
            </a:r>
            <a:endParaRPr b="0" lang="en-US" sz="2400" spc="-1" strike="noStrike">
              <a:solidFill>
                <a:srgbClr val="0d0d0d"/>
              </a:solidFill>
              <a:latin typeface="Bell MT"/>
            </a:endParaRPr>
          </a:p>
        </p:txBody>
      </p:sp>
      <p:pic>
        <p:nvPicPr>
          <p:cNvPr id="438" name="Picture 2" descr="F:\civilwar flag.jpg"/>
          <p:cNvPicPr/>
          <p:nvPr/>
        </p:nvPicPr>
        <p:blipFill>
          <a:blip r:embed="rId1"/>
          <a:stretch/>
        </p:blipFill>
        <p:spPr>
          <a:xfrm>
            <a:off x="4356000" y="5084640"/>
            <a:ext cx="2313000" cy="1489320"/>
          </a:xfrm>
          <a:prstGeom prst="rect">
            <a:avLst/>
          </a:prstGeom>
          <a:ln w="0">
            <a:noFill/>
          </a:ln>
        </p:spPr>
      </p:pic>
      <p:sp>
        <p:nvSpPr>
          <p:cNvPr id="43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first Flag Day</a:t>
            </a:r>
            <a:endParaRPr b="0" lang="en-US" sz="4400" spc="-1" strike="noStrike">
              <a:solidFill>
                <a:srgbClr val="0d0d0d"/>
              </a:solidFill>
              <a:latin typeface="Bell MT"/>
            </a:endParaRPr>
          </a:p>
        </p:txBody>
      </p:sp>
      <p:sp>
        <p:nvSpPr>
          <p:cNvPr id="441" name=""/>
          <p:cNvSpPr txBox="1"/>
          <p:nvPr/>
        </p:nvSpPr>
        <p:spPr>
          <a:xfrm>
            <a:off x="755280" y="1773360"/>
            <a:ext cx="6553080" cy="4597200"/>
          </a:xfrm>
          <a:prstGeom prst="rect">
            <a:avLst/>
          </a:prstGeom>
          <a:noFill/>
          <a:ln w="0">
            <a:noFill/>
          </a:ln>
        </p:spPr>
        <p:txBody>
          <a:bodyPr anchor="t">
            <a:normAutofit fontScale="94000"/>
          </a:bodyPr>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The first official Flag Day celebration was June 14th, 1861 Later in history, President Woodrow Wilson proclaimed June 14th as “Flag Day” in 1916.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d0d0d"/>
              </a:solidFill>
              <a:latin typeface="Bell MT"/>
            </a:endParaRPr>
          </a:p>
        </p:txBody>
      </p:sp>
      <p:pic>
        <p:nvPicPr>
          <p:cNvPr id="442" name="Picture 1" descr="F:\american-flag-clip-art-waving-waves.png"/>
          <p:cNvPicPr/>
          <p:nvPr/>
        </p:nvPicPr>
        <p:blipFill>
          <a:blip r:embed="rId1"/>
          <a:stretch/>
        </p:blipFill>
        <p:spPr>
          <a:xfrm>
            <a:off x="7272360" y="1341360"/>
            <a:ext cx="1871640" cy="1871640"/>
          </a:xfrm>
          <a:prstGeom prst="rect">
            <a:avLst/>
          </a:prstGeom>
          <a:ln w="0">
            <a:noFill/>
          </a:ln>
        </p:spPr>
      </p:pic>
      <p:sp>
        <p:nvSpPr>
          <p:cNvPr id="44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Some questions for follow up exercise:</a:t>
            </a:r>
            <a:br>
              <a:rPr sz="3600"/>
            </a:br>
            <a:endParaRPr b="0" lang="en-US" sz="3600" spc="-1" strike="noStrike">
              <a:solidFill>
                <a:srgbClr val="0d0d0d"/>
              </a:solidFill>
              <a:latin typeface="Bell MT"/>
            </a:endParaRPr>
          </a:p>
        </p:txBody>
      </p:sp>
      <p:sp>
        <p:nvSpPr>
          <p:cNvPr id="4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Find a synonym for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represent, along with the stars?</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was the first flag created and why?</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46" name="Segnaposto contenuto 5" descr="civilwar flag.jpg"/>
          <p:cNvPicPr/>
          <p:nvPr/>
        </p:nvPicPr>
        <p:blipFill>
          <a:blip r:embed="rId1"/>
          <a:stretch/>
        </p:blipFill>
        <p:spPr>
          <a:xfrm>
            <a:off x="5292720" y="2205000"/>
            <a:ext cx="3139920" cy="2022480"/>
          </a:xfrm>
          <a:prstGeom prst="rect">
            <a:avLst/>
          </a:prstGeom>
          <a:ln w="0">
            <a:noFill/>
          </a:ln>
        </p:spPr>
      </p:pic>
      <p:sp>
        <p:nvSpPr>
          <p:cNvPr id="447"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And now something about your country:</a:t>
            </a:r>
            <a:br>
              <a:rPr sz="3600"/>
            </a:br>
            <a:endParaRPr b="0" lang="en-US" sz="3600" spc="-1" strike="noStrike">
              <a:solidFill>
                <a:srgbClr val="0d0d0d"/>
              </a:solidFill>
              <a:latin typeface="Bell MT"/>
            </a:endParaRPr>
          </a:p>
        </p:txBody>
      </p:sp>
      <p:sp>
        <p:nvSpPr>
          <p:cNvPr id="449" name=""/>
          <p:cNvSpPr txBox="1"/>
          <p:nvPr/>
        </p:nvSpPr>
        <p:spPr>
          <a:xfrm>
            <a:off x="1258560" y="1773000"/>
            <a:ext cx="6132600" cy="428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of your flag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es the US flag have in common with your flag?</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is your flag flown in your country and wh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Do you have any type of similar patriotism in your countr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sp>
        <p:nvSpPr>
          <p:cNvPr id="4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51"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5:59:33Z</dcterms:created>
  <dc:creator>Your User Name</dc:creator>
  <dc:description/>
  <dc:language>en-US</dc:language>
  <cp:lastModifiedBy>Legion</cp:lastModifiedBy>
  <dcterms:modified xsi:type="dcterms:W3CDTF">2017-07-05T09:49:01Z</dcterms:modified>
  <cp:revision>20</cp:revision>
  <dc:subject/>
  <dc:title>FLAG DAY JUNE 14TH</dc:title>
</cp:coreProperties>
</file>