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3.jpeg" ContentType="image/jpeg"/>
  <Override PartName="/ppt/media/image8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9.png" ContentType="image/png"/>
  <Override PartName="/ppt/media/cashreg.wav" ContentType="audio/x-wav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3F5E-8762-47DD-B6FA-7AE6349BB5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ey L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R was NOT doing enough for the po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pushed his “Share Our Wealth” progr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all income over $1,000,000 to g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ual Sa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ll Americ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ey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R was NOT doing enough for the po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pushed his “Share Our Wealth”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ll income over $1,000,000 to g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 Sa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Americ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. Francis Townsh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R was NOT doing enough for old peo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sed a $200 a month pension to everyone over 6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was good for (2) reas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$ to boost ec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a job up for a younger Americ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. Francis Townsh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R was NOT doing enough for old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a $200 a month pension to everyone over 6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as good for (2) reas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$ to boost ec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a job up for a younger Amer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les Cough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R had NOT done enough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. Coughlin felt that FDR did not take on the powerful bankers in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he radio to blast FDR and became known as the “Radio Priest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les Cough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R had NOT done enough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. Coughlin felt that FDR did not take on the powerful bankers in the United St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he radio to blast FDR and became known as the “Radio Priest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berty Leag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R had gone TO FAR with the New De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ing with business and people’s l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vernment was taking away freedoms from America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erty Le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R had gone TO FAR with the New D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ing with business and people’s l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 was taking away freedoms from Americ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Secur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ct of 19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ecur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t of 19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Social Security fund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Social Security fund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BE6C-9869-430C-910A-0FB53D78C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D21F-5545-4CA0-9E46-54A050A4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8EAB-53CA-4347-A19E-C5819F93E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E9D4-8744-4D8B-9CAB-7A1BD7A37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AF9F-BE7C-4752-9881-DE97BFD4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D717-9222-411F-AB97-A8AA8CF6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E20C-0B02-46D2-8DF7-96FB7EE6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6A28-F832-4F8C-809E-61F00054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B113-8C1F-4C0E-8DE0-1777888B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2355-B59D-4A13-A1E7-1309DCE0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37BD-71E1-4660-AD97-F2A695C7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D425-8AF9-45F3-AB6A-6D1844FE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3FA8-9F4A-41BA-9A88-3183499E2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0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one2.com/tc/mp/ss-pics/ssa-seal2.gif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bone2.com/tc/mp/ss-pics/ssa-seal2.gif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Schoolbook"/>
              </a:rPr>
              <a:t>Huey Lo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90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D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ing enough for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o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pushed his 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Sha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Our Weal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e all income over $1,000,000 to g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ual Sa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ll Americ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lect5_1"/>
          <p:cNvPicPr/>
          <p:nvPr/>
        </p:nvPicPr>
        <p:blipFill>
          <a:blip r:embed="rId1"/>
          <a:stretch/>
        </p:blipFill>
        <p:spPr>
          <a:xfrm>
            <a:off x="5164200" y="1600200"/>
            <a:ext cx="3979800" cy="4876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Schoolbook"/>
              </a:rPr>
              <a:t>Dr. Francis Townshe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DR wa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ing enough fo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ld peo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sed a $200 a month pension to everyone over 6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was good for (2) reas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$ to boost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n a job up for a younger Ameri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townsend"/>
          <p:cNvPicPr/>
          <p:nvPr/>
        </p:nvPicPr>
        <p:blipFill>
          <a:blip r:embed="rId2"/>
          <a:stretch/>
        </p:blipFill>
        <p:spPr>
          <a:xfrm>
            <a:off x="4952880" y="1447920"/>
            <a:ext cx="3889440" cy="510516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Schoolbook"/>
              </a:rPr>
              <a:t>Charles Coughl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DR ha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ne enough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. Coughlin felt that FDR did not take on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owerful bank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the United St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the radio to blast FDR and became known as the “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adio Priest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Americanist_Vision_Coughlin"/>
          <p:cNvPicPr/>
          <p:nvPr/>
        </p:nvPicPr>
        <p:blipFill>
          <a:blip r:embed="rId2"/>
          <a:stretch/>
        </p:blipFill>
        <p:spPr>
          <a:xfrm>
            <a:off x="4419720" y="1905120"/>
            <a:ext cx="4724280" cy="45194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Schoolbook"/>
              </a:rPr>
              <a:t>Liberty Leagu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DR had gon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O F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th the New D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ering with business and people’s l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vernment was taking away freedoms from Americ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liberty_league"/>
          <p:cNvPicPr/>
          <p:nvPr/>
        </p:nvPicPr>
        <p:blipFill>
          <a:blip r:embed="rId2"/>
          <a:stretch/>
        </p:blipFill>
        <p:spPr>
          <a:xfrm>
            <a:off x="4495680" y="2133720"/>
            <a:ext cx="4648320" cy="414468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Social Security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 Act of 19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Social Security poster from 1936-1937: A monthly check for you--for the rest of your life, beginning when you are 65"/>
          <p:cNvPicPr/>
          <p:nvPr/>
        </p:nvPicPr>
        <p:blipFill>
          <a:blip r:embed="rId1"/>
          <a:stretch/>
        </p:blipFill>
        <p:spPr>
          <a:xfrm>
            <a:off x="1066680" y="2057400"/>
            <a:ext cx="3071880" cy="4800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Social Security poster of mother with child: More Security for the American Family"/>
          <p:cNvPicPr/>
          <p:nvPr/>
        </p:nvPicPr>
        <p:blipFill>
          <a:blip r:embed="rId2"/>
          <a:stretch/>
        </p:blipFill>
        <p:spPr>
          <a:xfrm>
            <a:off x="5029200" y="2133720"/>
            <a:ext cx="3603600" cy="4724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Ssi_card"/>
          <p:cNvPicPr/>
          <p:nvPr/>
        </p:nvPicPr>
        <p:blipFill>
          <a:blip r:embed="rId3"/>
          <a:stretch/>
        </p:blipFill>
        <p:spPr>
          <a:xfrm>
            <a:off x="0" y="0"/>
            <a:ext cx="2428920" cy="1557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Ssi_card"/>
          <p:cNvPicPr/>
          <p:nvPr/>
        </p:nvPicPr>
        <p:blipFill>
          <a:blip r:embed="rId4"/>
          <a:stretch/>
        </p:blipFill>
        <p:spPr>
          <a:xfrm>
            <a:off x="6715080" y="0"/>
            <a:ext cx="2428920" cy="155736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How is Social Security fund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dollars-42"/>
          <p:cNvPicPr/>
          <p:nvPr/>
        </p:nvPicPr>
        <p:blipFill>
          <a:blip r:embed="rId1"/>
          <a:stretch/>
        </p:blipFill>
        <p:spPr>
          <a:xfrm>
            <a:off x="6400800" y="914400"/>
            <a:ext cx="1981080" cy="792000"/>
          </a:xfrm>
          <a:prstGeom prst="rect">
            <a:avLst/>
          </a:prstGeom>
          <a:ln w="0">
            <a:noFill/>
          </a:ln>
        </p:spPr>
      </p:pic>
      <p:grpSp>
        <p:nvGrpSpPr>
          <p:cNvPr id="75" name="Organization Chart 9"/>
          <p:cNvGrpSpPr/>
          <p:nvPr/>
        </p:nvGrpSpPr>
        <p:grpSpPr>
          <a:xfrm>
            <a:off x="457200" y="1614600"/>
            <a:ext cx="8228520" cy="4494600"/>
            <a:chOff x="457200" y="1614600"/>
            <a:chExt cx="8228520" cy="4494600"/>
          </a:xfrm>
        </p:grpSpPr>
        <p:cxnSp>
          <p:nvCxnSpPr>
            <p:cNvPr id="76" name="_s1028"/>
            <p:cNvCxnSpPr>
              <a:stCxn id="77" idx="0"/>
              <a:endCxn id="78" idx="2"/>
            </p:cNvCxnSpPr>
            <p:nvPr/>
          </p:nvCxnSpPr>
          <p:spPr>
            <a:xfrm flipV="1" rot="16200000">
              <a:off x="5229360" y="2753640"/>
              <a:ext cx="899640" cy="22154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029"/>
            <p:cNvCxnSpPr>
              <a:stCxn id="80" idx="0"/>
              <a:endCxn id="78" idx="2"/>
            </p:cNvCxnSpPr>
            <p:nvPr/>
          </p:nvCxnSpPr>
          <p:spPr>
            <a:xfrm flipH="1" flipV="1" rot="5400000">
              <a:off x="3013560" y="2753640"/>
              <a:ext cx="899640" cy="2216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8" name="_s1030"/>
            <p:cNvSpPr/>
            <p:nvPr/>
          </p:nvSpPr>
          <p:spPr>
            <a:xfrm>
              <a:off x="2673000" y="161460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9900"/>
                  </a:solidFill>
                  <a:latin typeface="Arial"/>
                </a:rPr>
                <a:t>Social Securit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9900"/>
                  </a:solidFill>
                  <a:latin typeface="Arial"/>
                </a:rPr>
                <a:t>Trust Fun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31"/>
            <p:cNvSpPr/>
            <p:nvPr/>
          </p:nvSpPr>
          <p:spPr>
            <a:xfrm>
              <a:off x="457200" y="431136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000000"/>
                  </a:solidFill>
                  <a:latin typeface="Book Antiqua"/>
                </a:rPr>
                <a:t>Workers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32"/>
            <p:cNvSpPr/>
            <p:nvPr/>
          </p:nvSpPr>
          <p:spPr>
            <a:xfrm>
              <a:off x="4888080" y="431136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000000"/>
                  </a:solidFill>
                  <a:latin typeface="Book Antiqua"/>
                </a:rPr>
                <a:t>Employers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" name="Picture 17" descr="dollars-40"/>
          <p:cNvPicPr/>
          <p:nvPr/>
        </p:nvPicPr>
        <p:blipFill>
          <a:blip r:embed="rId2"/>
          <a:stretch/>
        </p:blipFill>
        <p:spPr>
          <a:xfrm>
            <a:off x="0" y="0"/>
            <a:ext cx="1295280" cy="933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dollars-40"/>
          <p:cNvPicPr/>
          <p:nvPr/>
        </p:nvPicPr>
        <p:blipFill>
          <a:blip r:embed="rId3"/>
          <a:stretch/>
        </p:blipFill>
        <p:spPr>
          <a:xfrm>
            <a:off x="7848720" y="0"/>
            <a:ext cx="1295280" cy="933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9" descr="dollars-42"/>
          <p:cNvPicPr/>
          <p:nvPr/>
        </p:nvPicPr>
        <p:blipFill>
          <a:blip r:embed="rId4"/>
          <a:stretch/>
        </p:blipFill>
        <p:spPr>
          <a:xfrm>
            <a:off x="1066680" y="838080"/>
            <a:ext cx="1978200" cy="793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8" descr="Dollar sign - (Money)"/>
          <p:cNvPicPr/>
          <p:nvPr/>
        </p:nvPicPr>
        <p:blipFill>
          <a:blip r:embed="rId5"/>
          <a:stretch/>
        </p:blipFill>
        <p:spPr>
          <a:xfrm>
            <a:off x="685800" y="2209680"/>
            <a:ext cx="1244520" cy="1676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0" descr="Dollar sign - (Money)"/>
          <p:cNvPicPr/>
          <p:nvPr/>
        </p:nvPicPr>
        <p:blipFill>
          <a:blip r:embed="rId6"/>
          <a:stretch/>
        </p:blipFill>
        <p:spPr>
          <a:xfrm>
            <a:off x="7010280" y="2133720"/>
            <a:ext cx="1246320" cy="16761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Organization Chart 7"/>
          <p:cNvGrpSpPr/>
          <p:nvPr/>
        </p:nvGrpSpPr>
        <p:grpSpPr>
          <a:xfrm>
            <a:off x="457200" y="380880"/>
            <a:ext cx="8457480" cy="6246360"/>
            <a:chOff x="457200" y="380880"/>
            <a:chExt cx="8457480" cy="6246360"/>
          </a:xfrm>
        </p:grpSpPr>
        <p:cxnSp>
          <p:nvCxnSpPr>
            <p:cNvPr id="88" name="_s2052"/>
            <p:cNvCxnSpPr>
              <a:stCxn id="89" idx="0"/>
              <a:endCxn id="90" idx="2"/>
            </p:cNvCxnSpPr>
            <p:nvPr/>
          </p:nvCxnSpPr>
          <p:spPr>
            <a:xfrm flipV="1" rot="16200000">
              <a:off x="5544360" y="2023200"/>
              <a:ext cx="1243440" cy="2960640"/>
            </a:xfrm>
            <a:prstGeom prst="bentConnector3">
              <a:avLst>
                <a:gd name="adj1" fmla="val 91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1" name="_s2053"/>
            <p:cNvCxnSpPr>
              <a:stCxn id="92" idx="0"/>
              <a:endCxn id="90" idx="2"/>
            </p:cNvCxnSpPr>
            <p:nvPr/>
          </p:nvCxnSpPr>
          <p:spPr>
            <a:xfrm flipV="1">
              <a:off x="4685760" y="2882160"/>
              <a:ext cx="3240" cy="1243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2054"/>
            <p:cNvCxnSpPr>
              <a:stCxn id="94" idx="0"/>
              <a:endCxn id="90" idx="2"/>
            </p:cNvCxnSpPr>
            <p:nvPr/>
          </p:nvCxnSpPr>
          <p:spPr>
            <a:xfrm flipH="1" flipV="1" rot="5400000">
              <a:off x="2584080" y="2023560"/>
              <a:ext cx="1243440" cy="2960640"/>
            </a:xfrm>
            <a:prstGeom prst="bentConnector3">
              <a:avLst>
                <a:gd name="adj1" fmla="val 91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0" name="_s2055"/>
            <p:cNvSpPr/>
            <p:nvPr/>
          </p:nvSpPr>
          <p:spPr>
            <a:xfrm>
              <a:off x="3417120" y="380880"/>
              <a:ext cx="2537280" cy="250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Bookman Old Style"/>
                </a:rPr>
                <a:t>Social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Bookman Old Style"/>
                </a:rPr>
                <a:t>Securit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2056"/>
            <p:cNvSpPr/>
            <p:nvPr/>
          </p:nvSpPr>
          <p:spPr>
            <a:xfrm>
              <a:off x="457200" y="4125600"/>
              <a:ext cx="2537280" cy="250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700" spc="-1" strike="noStrike">
                  <a:solidFill>
                    <a:srgbClr val="660066"/>
                  </a:solidFill>
                  <a:latin typeface="Arial"/>
                </a:rPr>
                <a:t>Unemployment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700" spc="-1" strike="noStrike">
                  <a:solidFill>
                    <a:srgbClr val="660066"/>
                  </a:solidFill>
                  <a:latin typeface="Arial"/>
                </a:rPr>
                <a:t>Insurance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2057"/>
            <p:cNvSpPr/>
            <p:nvPr/>
          </p:nvSpPr>
          <p:spPr>
            <a:xfrm>
              <a:off x="3417120" y="4125600"/>
              <a:ext cx="2537280" cy="250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Old Ag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Pensio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2058"/>
            <p:cNvSpPr/>
            <p:nvPr/>
          </p:nvSpPr>
          <p:spPr>
            <a:xfrm>
              <a:off x="6377400" y="4125600"/>
              <a:ext cx="2537280" cy="250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Dependen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Famili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Disable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20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675800" y="2291760"/>
              <a:ext cx="1676880" cy="166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21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019200" y="2291760"/>
              <a:ext cx="1674000" cy="167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7" name="Picture 17" descr="Ssi_card"/>
          <p:cNvPicPr/>
          <p:nvPr/>
        </p:nvPicPr>
        <p:blipFill>
          <a:blip r:embed="rId5"/>
          <a:stretch/>
        </p:blipFill>
        <p:spPr>
          <a:xfrm>
            <a:off x="0" y="0"/>
            <a:ext cx="3124080" cy="2001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8" descr="Ssi_card"/>
          <p:cNvPicPr/>
          <p:nvPr/>
        </p:nvPicPr>
        <p:blipFill>
          <a:blip r:embed="rId6"/>
          <a:stretch/>
        </p:blipFill>
        <p:spPr>
          <a:xfrm>
            <a:off x="6019920" y="0"/>
            <a:ext cx="3124080" cy="20034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21:12:25Z</dcterms:created>
  <dc:creator>Daniel J. Greenberg</dc:creator>
  <dc:description/>
  <dc:language>en-US</dc:language>
  <cp:lastModifiedBy>Legion</cp:lastModifiedBy>
  <dcterms:modified xsi:type="dcterms:W3CDTF">2017-07-05T09:44:54Z</dcterms:modified>
  <cp:revision>29</cp:revision>
  <dc:subject/>
  <dc:title>Huey Long</dc:title>
</cp:coreProperties>
</file>