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applause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13.jpeg" ContentType="image/jpeg"/>
  <Override PartName="/ppt/media/image3.jpeg" ContentType="image/jpeg"/>
  <Override PartName="/ppt/media/drumroll.wav" ContentType="audio/x-wav"/>
  <Override PartName="/ppt/media/image1.jpeg" ContentType="image/jpeg"/>
  <Override PartName="/ppt/media/image14.jpeg" ContentType="image/jpeg"/>
  <Override PartName="/ppt/media/image16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17.wmf" ContentType="image/x-wmf"/>
  <Override PartName="/ppt/media/image18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3.gif" ContentType="image/gi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759C-3DA7-474D-AE57-DE425DC7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People 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 young widow, she was matron of Sing Sing priso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d women would “civilize” the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social reform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iana Kirby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oneer of Santa Cruz during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ocated education, freedom, and equal rights for 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private school named for h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historichwy49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useumca.org/goldrush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cgold.com/goldrushtown/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all people who became famous without mining fo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cognize any of these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n agricultural empire near the American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discovery of gold kept secr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rsha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gold pebbles while building Sutter’s Mill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ied nearly pennile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Wells and William Fargo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to profit from Gold Rush by providing services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Wells, Fargo &amp; Co. for banking, mail, and stage coach servi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tremendous wealth as entrepreneu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led Levi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 Brannan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all mining tools in area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ed gold was foun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 fortune selling tools, then other necessities, to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millionair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ta Crabtree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cting on stages at age 6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lots of money entertaining miners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traveled the world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24F-3FAB-4BAF-9C85-7364F202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64A-82AA-45EE-BCEB-0F0A317C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109-1897-43C5-9081-BBC4456D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7B8-7E7D-4846-867B-4E68FD31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462-7C07-4A10-B756-04AD6F1A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89B-C426-4784-ACCA-7E5138BD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896-6666-44C3-9869-A660AA50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41A-8FF5-40FD-972D-9C467636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E9C-9A22-4B08-A861-9E8CBFF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7B7-499C-417C-A44B-6A3B362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A404-0BA8-4FC9-9C2B-99CB5C67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CD4-455D-48A5-9906-D3BE395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113B-CD58-4191-B2D9-2E39EE3B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22.wmf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2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3.xml"/><Relationship Id="rId16" Type="http://schemas.openxmlformats.org/officeDocument/2006/relationships/image" Target="../media/image10.jpeg"/><Relationship Id="rId17" Type="http://schemas.openxmlformats.org/officeDocument/2006/relationships/slide" Target="slide11.xml"/><Relationship Id="rId18" Type="http://schemas.openxmlformats.org/officeDocument/2006/relationships/image" Target="../media/image11.jpeg"/><Relationship Id="rId19" Type="http://schemas.openxmlformats.org/officeDocument/2006/relationships/slide" Target="slide7.xml"/><Relationship Id="rId20" Type="http://schemas.openxmlformats.org/officeDocument/2006/relationships/image" Target="../media/image12.jpeg"/><Relationship Id="rId21" Type="http://schemas.openxmlformats.org/officeDocument/2006/relationships/slide" Target="slide8.xml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16.wmf"/><Relationship Id="rId5" Type="http://schemas.openxmlformats.org/officeDocument/2006/relationships/slide" Target="slide2.xml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17.wm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" Target="slide2.xml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21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w-nugget12-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Famous People of the </a:t>
            </a:r>
            <a:r>
              <a:rPr b="0" lang="en-US" sz="6000" spc="-1" strike="noStrike">
                <a:solidFill>
                  <a:srgbClr val="ffff00"/>
                </a:solidFill>
                <a:latin typeface="Copperplate Gothic Bold"/>
              </a:rPr>
              <a:t>California</a:t>
            </a:r>
            <a:r>
              <a:rPr b="0" lang="en-US" sz="5400" spc="-1" strike="noStrike">
                <a:solidFill>
                  <a:srgbClr val="ffff00"/>
                </a:solidFill>
                <a:latin typeface="Copperplate Gothic Bold"/>
              </a:rPr>
              <a:t> Gold R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hsusannah.wma" descr=""/>
          <p:cNvPicPr/>
          <p:nvPr/>
        </p:nvPicPr>
        <p:blipFill>
          <a:blip r:embed="rId2"/>
          <a:stretch/>
        </p:blipFill>
        <p:spPr>
          <a:xfrm>
            <a:off x="21337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lie Chap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a dentist and studied dentistry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practiced as a dentist with her ow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lso wrote and composed: a talented 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nelliechapman"/>
          <p:cNvPicPr/>
          <p:nvPr/>
        </p:nvPicPr>
        <p:blipFill>
          <a:blip r:embed="rId2"/>
          <a:stretch/>
        </p:blipFill>
        <p:spPr>
          <a:xfrm>
            <a:off x="5943600" y="1981080"/>
            <a:ext cx="22068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MCj03053810000[1]"/>
          <p:cNvPicPr/>
          <p:nvPr/>
        </p:nvPicPr>
        <p:blipFill>
          <a:blip r:embed="rId3"/>
          <a:stretch/>
        </p:blipFill>
        <p:spPr>
          <a:xfrm>
            <a:off x="4572000" y="4495680"/>
            <a:ext cx="12240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MMj02054010000[1]"/>
          <p:cNvPicPr/>
          <p:nvPr/>
        </p:nvPicPr>
        <p:blipFill>
          <a:blip r:embed="rId4"/>
          <a:stretch/>
        </p:blipFill>
        <p:spPr>
          <a:xfrm>
            <a:off x="7391520" y="510228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MCj02979770000[1]"/>
          <p:cNvPicPr/>
          <p:nvPr/>
        </p:nvPicPr>
        <p:blipFill>
          <a:blip r:embed="rId5"/>
          <a:stretch/>
        </p:blipFill>
        <p:spPr>
          <a:xfrm>
            <a:off x="5943600" y="5181480"/>
            <a:ext cx="1641600" cy="838440"/>
          </a:xfrm>
          <a:prstGeom prst="rect">
            <a:avLst/>
          </a:prstGeom>
          <a:ln w="0">
            <a:noFill/>
          </a:ln>
        </p:spPr>
      </p:pic>
      <p:pic>
        <p:nvPicPr>
          <p:cNvPr id="118" name="MSj04310540000[1].wav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4"/>
          <p:cNvSpPr/>
          <p:nvPr/>
        </p:nvSpPr>
        <p:spPr>
          <a:xfrm>
            <a:off x="4572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1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Eliza Farnh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s a  young widow, she was matron of Sing Sing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Believed women would “civilize” the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dvocated soci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Eliza"/>
          <p:cNvPicPr/>
          <p:nvPr/>
        </p:nvPicPr>
        <p:blipFill>
          <a:blip r:embed="rId2"/>
          <a:stretch/>
        </p:blipFill>
        <p:spPr>
          <a:xfrm>
            <a:off x="5334120" y="1600200"/>
            <a:ext cx="2143080" cy="321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MCj01286410000[1]"/>
          <p:cNvPicPr/>
          <p:nvPr/>
        </p:nvPicPr>
        <p:blipFill>
          <a:blip r:embed="rId3"/>
          <a:stretch/>
        </p:blipFill>
        <p:spPr>
          <a:xfrm>
            <a:off x="7162920" y="4267080"/>
            <a:ext cx="1716120" cy="23623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45720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9036"/>
                </a:moveTo>
                <a:lnTo>
                  <a:pt x="7301" y="9036"/>
                </a:lnTo>
                <a:lnTo>
                  <a:pt x="7301" y="14372"/>
                </a:lnTo>
                <a:cubicBezTo>
                  <a:pt x="7301" y="15294"/>
                  <a:pt x="8102" y="16026"/>
                  <a:pt x="9138" y="16026"/>
                </a:cubicBezTo>
                <a:lnTo>
                  <a:pt x="10800" y="16026"/>
                </a:lnTo>
                <a:cubicBezTo>
                  <a:pt x="11836" y="16026"/>
                  <a:pt x="12636" y="15294"/>
                  <a:pt x="12636" y="14372"/>
                </a:cubicBezTo>
                <a:lnTo>
                  <a:pt x="12636" y="9036"/>
                </a:lnTo>
                <a:lnTo>
                  <a:pt x="10800" y="9036"/>
                </a:lnTo>
                <a:lnTo>
                  <a:pt x="14308" y="5529"/>
                </a:lnTo>
                <a:lnTo>
                  <a:pt x="17981" y="9036"/>
                </a:lnTo>
                <a:lnTo>
                  <a:pt x="16144" y="9036"/>
                </a:lnTo>
                <a:lnTo>
                  <a:pt x="16144" y="14372"/>
                </a:lnTo>
                <a:cubicBezTo>
                  <a:pt x="16144" y="17140"/>
                  <a:pt x="13568" y="19699"/>
                  <a:pt x="10800" y="19699"/>
                </a:cubicBezTo>
                <a:lnTo>
                  <a:pt x="9138" y="19699"/>
                </a:lnTo>
                <a:cubicBezTo>
                  <a:pt x="6370" y="19699"/>
                  <a:pt x="3794" y="17140"/>
                  <a:pt x="3794" y="1437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Georgiana Kir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pioneer of Santa Cruz during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vocated education, freedom, and equal rights for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 2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a private school named for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GeoKirby"/>
          <p:cNvPicPr/>
          <p:nvPr/>
        </p:nvPicPr>
        <p:blipFill>
          <a:blip r:embed="rId2"/>
          <a:stretch/>
        </p:blipFill>
        <p:spPr>
          <a:xfrm>
            <a:off x="5791320" y="1752480"/>
            <a:ext cx="2381040" cy="363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Cj01286560000[1]"/>
          <p:cNvPicPr/>
          <p:nvPr/>
        </p:nvPicPr>
        <p:blipFill>
          <a:blip r:embed="rId3"/>
          <a:stretch/>
        </p:blipFill>
        <p:spPr>
          <a:xfrm>
            <a:off x="4419720" y="3809880"/>
            <a:ext cx="1025280" cy="25146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11"/>
          <p:cNvSpPr/>
          <p:nvPr/>
        </p:nvSpPr>
        <p:spPr>
          <a:xfrm>
            <a:off x="815328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split dir="in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credits: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ClipArt from Microsoft Cli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 Brannan, William Fargo, James Marshall, Levis Strauss, John Sutter, &amp; Henry Wells from en.wikipedia.o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Twain: www.marktwainhous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information regarding the men came from the PBS movie “The Gold Rush”, directed by Boettcher &amp; Trinklein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za Farnham &amp; Georgiana Kirby: www.goldrush.com/~joann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ta Crabtree: www.ncgold.com/History/LottaCrabtree/lott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ie Chapman: www.ncgold.com/goldrushtown/people/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Clips from United Streaming:chp890500 and chp9059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sites for the Gold Ru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historichwy49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ww.museumca.org/goldrush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ww.ncgold.com/goldrushtow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williamfar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15084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henrywell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10280" y="1600200"/>
            <a:ext cx="157320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lliechapma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3962520"/>
            <a:ext cx="13716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ot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362320" y="1676520"/>
            <a:ext cx="149220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111px-James_Marshall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114800" y="1676520"/>
            <a:ext cx="87804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GeoKirby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1600200"/>
            <a:ext cx="1296720" cy="198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Levi_Strauss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85800" y="3962520"/>
            <a:ext cx="13604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utter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0" y="2971800"/>
            <a:ext cx="8175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Eliza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715000" y="3886200"/>
            <a:ext cx="121608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photo_theman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086600" y="388620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4"/>
          <p:cNvSpPr/>
          <p:nvPr/>
        </p:nvSpPr>
        <p:spPr>
          <a:xfrm>
            <a:off x="746280" y="6208560"/>
            <a:ext cx="771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441360" y="605628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se were all people who became famou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ining for gold!</a:t>
            </a:r>
            <a:endParaRPr b="0" lang="en-US" sz="24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65" name="WordArt 16"/>
          <p:cNvSpPr txBox="1"/>
          <p:nvPr/>
        </p:nvSpPr>
        <p:spPr>
          <a:xfrm>
            <a:off x="914400" y="609480"/>
            <a:ext cx="7467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 you recognize any of these people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7" descr="180px-Samuel_Brannan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14800" y="41911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7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ohn Su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utter"/>
          <p:cNvPicPr/>
          <p:nvPr/>
        </p:nvPicPr>
        <p:blipFill>
          <a:blip r:embed="rId2"/>
          <a:stretch/>
        </p:blipFill>
        <p:spPr>
          <a:xfrm>
            <a:off x="1219320" y="1752480"/>
            <a:ext cx="2743200" cy="358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visioned an agricultural empire near the American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Wanted discovery of gold kept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Wingdings 3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Never did appreciate the opportunities of the Gold Rush, and left California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5335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2" name="AutoShape 20">
            <a:hlinkClick r:id="rId3" action="ppaction://hlinksldjump"/>
          </p:cNvPr>
          <p:cNvSpPr/>
          <p:nvPr/>
        </p:nvSpPr>
        <p:spPr>
          <a:xfrm>
            <a:off x="815328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James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Discovered gold pebbles while building Sutter’s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eared the effects of potential prospectors, who eventually forced him off his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lso died nearly penni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111px-James_Marshall2"/>
          <p:cNvPicPr/>
          <p:nvPr/>
        </p:nvPicPr>
        <p:blipFill>
          <a:blip r:embed="rId2"/>
          <a:stretch/>
        </p:blipFill>
        <p:spPr>
          <a:xfrm>
            <a:off x="838080" y="1295280"/>
            <a:ext cx="262584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0">
            <a:hlinkClick r:id="rId3" action="ppaction://hlinksldjump"/>
          </p:cNvPr>
          <p:cNvSpPr/>
          <p:nvPr/>
        </p:nvSpPr>
        <p:spPr>
          <a:xfrm>
            <a:off x="8077320" y="57913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78" name="Picture 11" descr="MPj04011070000[1]"/>
          <p:cNvPicPr/>
          <p:nvPr/>
        </p:nvPicPr>
        <p:blipFill>
          <a:blip r:embed="rId4"/>
          <a:stretch/>
        </p:blipFill>
        <p:spPr>
          <a:xfrm>
            <a:off x="2286000" y="5105520"/>
            <a:ext cx="2209680" cy="1417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Henry Wells and William F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ecided to profit from Gold Rush by providing services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reated Wells, Fargo &amp; Co. for banking, mail, and stage coach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Generated tremendous wealth as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enrywells"/>
          <p:cNvPicPr/>
          <p:nvPr/>
        </p:nvPicPr>
        <p:blipFill>
          <a:blip r:embed="rId2"/>
          <a:stretch/>
        </p:blipFill>
        <p:spPr>
          <a:xfrm>
            <a:off x="609480" y="18288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williamfargo"/>
          <p:cNvPicPr/>
          <p:nvPr/>
        </p:nvPicPr>
        <p:blipFill>
          <a:blip r:embed="rId3"/>
          <a:stretch/>
        </p:blipFill>
        <p:spPr>
          <a:xfrm>
            <a:off x="2666880" y="3048120"/>
            <a:ext cx="1905120" cy="245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MCBD07856_0000[1]"/>
          <p:cNvPicPr/>
          <p:nvPr/>
        </p:nvPicPr>
        <p:blipFill>
          <a:blip r:embed="rId4"/>
          <a:stretch/>
        </p:blipFill>
        <p:spPr>
          <a:xfrm>
            <a:off x="609480" y="4800600"/>
            <a:ext cx="1779840" cy="1627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5" action="ppaction://hlinksldjump"/>
          </p:cNvPr>
          <p:cNvSpPr/>
          <p:nvPr/>
        </p:nvSpPr>
        <p:spPr>
          <a:xfrm>
            <a:off x="822960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7493"/>
                </a:moveTo>
                <a:lnTo>
                  <a:pt x="10391" y="7493"/>
                </a:lnTo>
                <a:lnTo>
                  <a:pt x="10391" y="12828"/>
                </a:lnTo>
                <a:cubicBezTo>
                  <a:pt x="10391" y="13751"/>
                  <a:pt x="11192" y="14482"/>
                  <a:pt x="12227" y="14482"/>
                </a:cubicBezTo>
                <a:lnTo>
                  <a:pt x="13890" y="14482"/>
                </a:lnTo>
                <a:cubicBezTo>
                  <a:pt x="14926" y="14482"/>
                  <a:pt x="15726" y="13751"/>
                  <a:pt x="15726" y="12828"/>
                </a:cubicBezTo>
                <a:lnTo>
                  <a:pt x="15726" y="7493"/>
                </a:lnTo>
                <a:lnTo>
                  <a:pt x="13890" y="7493"/>
                </a:lnTo>
                <a:lnTo>
                  <a:pt x="17397" y="3985"/>
                </a:lnTo>
                <a:lnTo>
                  <a:pt x="21070" y="7493"/>
                </a:lnTo>
                <a:lnTo>
                  <a:pt x="19234" y="7493"/>
                </a:lnTo>
                <a:lnTo>
                  <a:pt x="19234" y="12828"/>
                </a:lnTo>
                <a:cubicBezTo>
                  <a:pt x="19234" y="15596"/>
                  <a:pt x="16658" y="18155"/>
                  <a:pt x="13890" y="18155"/>
                </a:cubicBezTo>
                <a:lnTo>
                  <a:pt x="12227" y="18155"/>
                </a:lnTo>
                <a:cubicBezTo>
                  <a:pt x="9460" y="18155"/>
                  <a:pt x="6883" y="15596"/>
                  <a:pt x="6883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ru"/>
    <p:sndAc>
      <p:stSnd>
        <p:snd r:embed="rId6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i Str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 a successful dry-goods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ed canvas pants with riveted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Levi_Strauss"/>
          <p:cNvPicPr/>
          <p:nvPr/>
        </p:nvPicPr>
        <p:blipFill>
          <a:blip r:embed="rId2"/>
          <a:stretch/>
        </p:blipFill>
        <p:spPr>
          <a:xfrm>
            <a:off x="1371600" y="182880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Cj01133040000[1]"/>
          <p:cNvPicPr/>
          <p:nvPr/>
        </p:nvPicPr>
        <p:blipFill>
          <a:blip r:embed="rId3"/>
          <a:stretch/>
        </p:blipFill>
        <p:spPr>
          <a:xfrm>
            <a:off x="5257800" y="4876920"/>
            <a:ext cx="2362320" cy="1555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9">
            <a:hlinkClick r:id="rId4" action="ppaction://hlinksldjump"/>
          </p:cNvPr>
          <p:cNvSpPr/>
          <p:nvPr/>
        </p:nvSpPr>
        <p:spPr>
          <a:xfrm>
            <a:off x="3049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 Tw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n Samuel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d West for the Gold 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a famous writer of his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photo_theman"/>
          <p:cNvPicPr/>
          <p:nvPr/>
        </p:nvPicPr>
        <p:blipFill>
          <a:blip r:embed="rId2"/>
          <a:stretch/>
        </p:blipFill>
        <p:spPr>
          <a:xfrm>
            <a:off x="990720" y="1752480"/>
            <a:ext cx="26334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/>
          <p:cNvSpPr/>
          <p:nvPr/>
        </p:nvSpPr>
        <p:spPr>
          <a:xfrm>
            <a:off x="990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pic>
        <p:nvPicPr>
          <p:cNvPr id="97" name="Picture 9" descr="MCj03710640000[1]"/>
          <p:cNvPicPr/>
          <p:nvPr/>
        </p:nvPicPr>
        <p:blipFill>
          <a:blip r:embed="rId3"/>
          <a:stretch/>
        </p:blipFill>
        <p:spPr>
          <a:xfrm>
            <a:off x="6477120" y="5029200"/>
            <a:ext cx="1371600" cy="120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MCj04040590000[1]"/>
          <p:cNvPicPr/>
          <p:nvPr/>
        </p:nvPicPr>
        <p:blipFill>
          <a:blip r:embed="rId4"/>
          <a:stretch/>
        </p:blipFill>
        <p:spPr>
          <a:xfrm>
            <a:off x="4724280" y="4876920"/>
            <a:ext cx="1524240" cy="1517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>
            <a:hlinkClick r:id="rId5" action="ppaction://hlinksldjump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7493"/>
                </a:moveTo>
                <a:lnTo>
                  <a:pt x="8846" y="7493"/>
                </a:lnTo>
                <a:lnTo>
                  <a:pt x="8846" y="12828"/>
                </a:lnTo>
                <a:cubicBezTo>
                  <a:pt x="8846" y="13751"/>
                  <a:pt x="9647" y="14482"/>
                  <a:pt x="10683" y="14482"/>
                </a:cubicBezTo>
                <a:lnTo>
                  <a:pt x="12345" y="14482"/>
                </a:lnTo>
                <a:cubicBezTo>
                  <a:pt x="13381" y="14482"/>
                  <a:pt x="14181" y="13751"/>
                  <a:pt x="14181" y="12828"/>
                </a:cubicBezTo>
                <a:lnTo>
                  <a:pt x="14181" y="7493"/>
                </a:lnTo>
                <a:lnTo>
                  <a:pt x="12345" y="7493"/>
                </a:lnTo>
                <a:lnTo>
                  <a:pt x="15853" y="3985"/>
                </a:lnTo>
                <a:lnTo>
                  <a:pt x="19525" y="7493"/>
                </a:lnTo>
                <a:lnTo>
                  <a:pt x="17689" y="7493"/>
                </a:lnTo>
                <a:lnTo>
                  <a:pt x="17689" y="12828"/>
                </a:lnTo>
                <a:cubicBezTo>
                  <a:pt x="17689" y="15596"/>
                  <a:pt x="15113" y="18155"/>
                  <a:pt x="12345" y="18155"/>
                </a:cubicBezTo>
                <a:lnTo>
                  <a:pt x="10683" y="18155"/>
                </a:lnTo>
                <a:cubicBezTo>
                  <a:pt x="7915" y="18155"/>
                  <a:pt x="5338" y="15596"/>
                  <a:pt x="5338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newsflash/>
    <p:sndAc>
      <p:stSnd>
        <p:snd r:embed="rId6" name="drumroll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 Bran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ught all mining tool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nounced gold wa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de a fortune selling tools, then other necessities, to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came a millio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180px-Samuel_Brannan"/>
          <p:cNvPicPr/>
          <p:nvPr/>
        </p:nvPicPr>
        <p:blipFill>
          <a:blip r:embed="rId2"/>
          <a:stretch/>
        </p:blipFill>
        <p:spPr>
          <a:xfrm>
            <a:off x="1143000" y="1752480"/>
            <a:ext cx="2171880" cy="28288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rId3" action="ppaction://hlinksldjump"/>
          </p:cNvPr>
          <p:cNvSpPr/>
          <p:nvPr/>
        </p:nvSpPr>
        <p:spPr>
          <a:xfrm>
            <a:off x="7696080" y="5791320"/>
            <a:ext cx="838440" cy="76176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73" h="21600">
                <a:moveTo>
                  <a:pt x="0" y="0"/>
                </a:moveTo>
                <a:lnTo>
                  <a:pt x="23773" y="0"/>
                </a:lnTo>
                <a:lnTo>
                  <a:pt x="23773" y="21600"/>
                </a:lnTo>
                <a:lnTo>
                  <a:pt x="0" y="21600"/>
                </a:lnTo>
                <a:close/>
              </a:path>
              <a:path fill="lightenLess" w="23773" h="21600">
                <a:moveTo>
                  <a:pt x="0" y="0"/>
                </a:moveTo>
                <a:lnTo>
                  <a:pt x="23773" y="0"/>
                </a:lnTo>
                <a:lnTo>
                  <a:pt x="22373" y="1400"/>
                </a:lnTo>
                <a:lnTo>
                  <a:pt x="1400" y="1400"/>
                </a:lnTo>
                <a:close/>
              </a:path>
              <a:path fill="darken" w="23773" h="21600">
                <a:moveTo>
                  <a:pt x="23773" y="0"/>
                </a:moveTo>
                <a:lnTo>
                  <a:pt x="23773" y="21600"/>
                </a:lnTo>
                <a:lnTo>
                  <a:pt x="22373" y="20200"/>
                </a:lnTo>
                <a:lnTo>
                  <a:pt x="22373" y="1400"/>
                </a:lnTo>
                <a:close/>
              </a:path>
              <a:path fill="darkenLess" w="23773" h="21600">
                <a:moveTo>
                  <a:pt x="2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3" y="20200"/>
                </a:lnTo>
                <a:close/>
              </a:path>
              <a:path fill="lighten" w="2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3" h="21600">
                <a:moveTo>
                  <a:pt x="4880" y="7493"/>
                </a:moveTo>
                <a:lnTo>
                  <a:pt x="8388" y="7493"/>
                </a:lnTo>
                <a:lnTo>
                  <a:pt x="8388" y="12828"/>
                </a:lnTo>
                <a:cubicBezTo>
                  <a:pt x="8388" y="13751"/>
                  <a:pt x="9188" y="14482"/>
                  <a:pt x="10224" y="14482"/>
                </a:cubicBezTo>
                <a:lnTo>
                  <a:pt x="11887" y="14482"/>
                </a:lnTo>
                <a:cubicBezTo>
                  <a:pt x="12922" y="14482"/>
                  <a:pt x="13723" y="13751"/>
                  <a:pt x="13723" y="12828"/>
                </a:cubicBezTo>
                <a:lnTo>
                  <a:pt x="13723" y="7493"/>
                </a:lnTo>
                <a:lnTo>
                  <a:pt x="11887" y="7493"/>
                </a:lnTo>
                <a:lnTo>
                  <a:pt x="15394" y="3985"/>
                </a:lnTo>
                <a:lnTo>
                  <a:pt x="19067" y="7493"/>
                </a:lnTo>
                <a:lnTo>
                  <a:pt x="17231" y="7493"/>
                </a:lnTo>
                <a:lnTo>
                  <a:pt x="17231" y="12828"/>
                </a:lnTo>
                <a:cubicBezTo>
                  <a:pt x="17231" y="15596"/>
                  <a:pt x="14654" y="18155"/>
                  <a:pt x="11887" y="18155"/>
                </a:cubicBezTo>
                <a:lnTo>
                  <a:pt x="10224" y="18155"/>
                </a:lnTo>
                <a:cubicBezTo>
                  <a:pt x="7456" y="18155"/>
                  <a:pt x="4880" y="15596"/>
                  <a:pt x="488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Lot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Crab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egan acting on stages at ag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ade lots of money entertaining m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eb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ater travele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lotta"/>
          <p:cNvPicPr/>
          <p:nvPr/>
        </p:nvPicPr>
        <p:blipFill>
          <a:blip r:embed="rId2"/>
          <a:stretch/>
        </p:blipFill>
        <p:spPr>
          <a:xfrm>
            <a:off x="5219640" y="1938240"/>
            <a:ext cx="2895840" cy="384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2171440000[1]"/>
          <p:cNvPicPr/>
          <p:nvPr/>
        </p:nvPicPr>
        <p:blipFill>
          <a:blip r:embed="rId3"/>
          <a:stretch/>
        </p:blipFill>
        <p:spPr>
          <a:xfrm>
            <a:off x="2133720" y="4267080"/>
            <a:ext cx="1807920" cy="1652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0492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493"/>
                </a:moveTo>
                <a:lnTo>
                  <a:pt x="8838" y="7493"/>
                </a:lnTo>
                <a:lnTo>
                  <a:pt x="8838" y="12828"/>
                </a:lnTo>
                <a:cubicBezTo>
                  <a:pt x="8838" y="13751"/>
                  <a:pt x="9638" y="14482"/>
                  <a:pt x="10674" y="14482"/>
                </a:cubicBezTo>
                <a:lnTo>
                  <a:pt x="12337" y="14482"/>
                </a:lnTo>
                <a:cubicBezTo>
                  <a:pt x="13372" y="14482"/>
                  <a:pt x="14173" y="13751"/>
                  <a:pt x="14173" y="12828"/>
                </a:cubicBezTo>
                <a:lnTo>
                  <a:pt x="14173" y="7493"/>
                </a:lnTo>
                <a:lnTo>
                  <a:pt x="12337" y="7493"/>
                </a:lnTo>
                <a:lnTo>
                  <a:pt x="15844" y="3985"/>
                </a:lnTo>
                <a:lnTo>
                  <a:pt x="19517" y="7493"/>
                </a:lnTo>
                <a:lnTo>
                  <a:pt x="17681" y="7493"/>
                </a:lnTo>
                <a:lnTo>
                  <a:pt x="17681" y="12828"/>
                </a:lnTo>
                <a:cubicBezTo>
                  <a:pt x="17681" y="15596"/>
                  <a:pt x="15104" y="18155"/>
                  <a:pt x="12337" y="18155"/>
                </a:cubicBezTo>
                <a:lnTo>
                  <a:pt x="10674" y="18155"/>
                </a:lnTo>
                <a:cubicBezTo>
                  <a:pt x="7906" y="18155"/>
                  <a:pt x="5330" y="15596"/>
                  <a:pt x="5330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Copperplate Gothic Bol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Copperplate Gothic Bold"/>
            </a:endParaRPr>
          </a:p>
        </p:txBody>
      </p:sp>
    </p:spTree>
  </p:cSld>
  <p:transition spd="med">
    <p:cover dir="ld"/>
    <p:sndAc>
      <p:stSnd>
        <p:snd r:embed="rId4" name="applaus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13:59Z</dcterms:created>
  <dc:creator>Kimberley</dc:creator>
  <dc:description/>
  <dc:language>en-US</dc:language>
  <cp:lastModifiedBy>Legion</cp:lastModifiedBy>
  <dcterms:modified xsi:type="dcterms:W3CDTF">2017-07-05T09:41:20Z</dcterms:modified>
  <cp:revision>24</cp:revision>
  <dc:subject/>
  <dc:title>Famous People of the California Gold Rush</dc:title>
</cp:coreProperties>
</file>