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applause.wav" ContentType="audio/x-wav"/>
  <Override PartName="/ppt/media/image5.png" ContentType="image/png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cashreg.wav" ContentType="audio/x-wav"/>
  <Override PartName="/ppt/media/image13.jpeg" ContentType="image/jpeg"/>
  <Override PartName="/ppt/media/image3.jpeg" ContentType="image/jpeg"/>
  <Override PartName="/ppt/media/drumroll.wav" ContentType="audio/x-wav"/>
  <Override PartName="/ppt/media/image1.jpeg" ContentType="image/jpeg"/>
  <Override PartName="/ppt/media/image14.jpeg" ContentType="image/jpeg"/>
  <Override PartName="/ppt/media/image16.wmf" ContentType="image/x-wmf"/>
  <Override PartName="/ppt/media/image26.wmf" ContentType="image/x-wmf"/>
  <Override PartName="/ppt/media/image25.wmf" ContentType="image/x-wmf"/>
  <Override PartName="/ppt/media/image15.jpeg" ContentType="image/jpeg"/>
  <Override PartName="/ppt/media/image17.wmf" ContentType="image/x-wmf"/>
  <Override PartName="/ppt/media/image18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media/image23.gif" ContentType="image/gi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6270-08C4-40EF-90F7-1FF89A301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People of the California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People of the California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 young widow, she was matron of Sing Sing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d women would “civilize” the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social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 young widow, she was matron of Sing Sing priso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d women would “civilize” the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social reform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iana Kir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oneer of Santa Cruz during the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education, freedom, and equal rights f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private school named for 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iana Kirby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oneer of Santa Cruz during the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education, freedom, and equal rights for a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private school named for h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historichwy4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useumca.org/goldrus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cgold.com/goldrushtow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historichwy49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useumca.org/goldrush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cgold.com/goldrushtown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all people who became famous without mining for gold!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cognize any of these people?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all people who became famous without mining for g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cognize any of these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tt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n agricultural empire near the American Riv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discovery of gold kept secret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n agricultural empire near the American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discovery of gold kept secr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rs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gold pebbles while building Sutter’s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ied nearly penni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rsha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gold pebbles while building Sutter’s Mi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ied nearly pennile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Wells and William F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d to profit from Gold Rush by providing services to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Wells, Fargo &amp; Co. for banking, mail, and stage coach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tremendous wealth as entrepren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Wells and William Fargo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d to profit from Gold Rush by providing services to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Wells, Fargo &amp; Co. for banking, mail, and stage coach servi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tremendous wealth as entrepreneu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led Le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led Levi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all mining tools in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unced gold was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 fortune selling tools, then other necessities, to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million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all mining tools in area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unced gold was foun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 fortune selling tools, then other necessities, to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millionair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cting on stages at ag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lots of money entertaining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travele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cting on stages at age 6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lots of money entertaining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traveled the worl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73E-8ADF-4E39-86D7-D69CA601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0B7-0F3E-43A8-9B9D-5035A7AF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236-ECAE-4103-BA3E-F102EAD1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FC69-740C-4CA3-8601-7BAA87C9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D8D-2152-41DA-80B4-7C141B69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2C3-1F58-4624-9F39-C00D0421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CE5-3941-48E5-BF68-EB1D1E62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BF7D-FD01-4726-B75C-ED8E9D53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55D8-A34A-448F-86B4-0C676360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E88-D478-4846-89EE-4F9FF281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210D-1CF5-44A4-858D-D1A6AA79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435-6DC0-4D3C-96C3-40197830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8BCF-6331-4ABB-814D-4966F6ADA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image" Target="../media/image22.wmf"/><Relationship Id="rId4" Type="http://schemas.openxmlformats.org/officeDocument/2006/relationships/image" Target="../media/image23.gif"/><Relationship Id="rId5" Type="http://schemas.openxmlformats.org/officeDocument/2006/relationships/image" Target="../media/image24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9.xml"/><Relationship Id="rId8" Type="http://schemas.openxmlformats.org/officeDocument/2006/relationships/image" Target="../media/image6.jpeg"/><Relationship Id="rId9" Type="http://schemas.openxmlformats.org/officeDocument/2006/relationships/slide" Target="slide4.xml"/><Relationship Id="rId10" Type="http://schemas.openxmlformats.org/officeDocument/2006/relationships/image" Target="../media/image7.jpeg"/><Relationship Id="rId11" Type="http://schemas.openxmlformats.org/officeDocument/2006/relationships/slide" Target="slide12.xml"/><Relationship Id="rId12" Type="http://schemas.openxmlformats.org/officeDocument/2006/relationships/image" Target="../media/image8.jpeg"/><Relationship Id="rId13" Type="http://schemas.openxmlformats.org/officeDocument/2006/relationships/slide" Target="slide6.xml"/><Relationship Id="rId14" Type="http://schemas.openxmlformats.org/officeDocument/2006/relationships/image" Target="../media/image9.jpeg"/><Relationship Id="rId15" Type="http://schemas.openxmlformats.org/officeDocument/2006/relationships/slide" Target="slide3.xml"/><Relationship Id="rId16" Type="http://schemas.openxmlformats.org/officeDocument/2006/relationships/image" Target="../media/image10.jpeg"/><Relationship Id="rId17" Type="http://schemas.openxmlformats.org/officeDocument/2006/relationships/slide" Target="slide11.xml"/><Relationship Id="rId18" Type="http://schemas.openxmlformats.org/officeDocument/2006/relationships/image" Target="../media/image11.jpeg"/><Relationship Id="rId19" Type="http://schemas.openxmlformats.org/officeDocument/2006/relationships/slide" Target="slide7.xml"/><Relationship Id="rId20" Type="http://schemas.openxmlformats.org/officeDocument/2006/relationships/image" Target="../media/image12.jpeg"/><Relationship Id="rId21" Type="http://schemas.openxmlformats.org/officeDocument/2006/relationships/slide" Target="slide8.xml"/><Relationship Id="rId22" Type="http://schemas.openxmlformats.org/officeDocument/2006/relationships/image" Target="../media/image13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16.wmf"/><Relationship Id="rId5" Type="http://schemas.openxmlformats.org/officeDocument/2006/relationships/slide" Target="slide2.xml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image" Target="../media/image17.wm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" Target="slide2.xml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jpeg"/><Relationship Id="rId3" Type="http://schemas.openxmlformats.org/officeDocument/2006/relationships/image" Target="../media/image21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raw-nugget12-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pperplate Gothic Bold"/>
              </a:rPr>
              <a:t>Famous People of the </a:t>
            </a:r>
            <a:r>
              <a:rPr b="0" lang="en-US" sz="6000" spc="-1" strike="noStrike">
                <a:solidFill>
                  <a:srgbClr val="ffff00"/>
                </a:solidFill>
                <a:latin typeface="Copperplate Gothic Bold"/>
              </a:rPr>
              <a:t>California</a:t>
            </a:r>
            <a:r>
              <a:rPr b="0" lang="en-US" sz="5400" spc="-1" strike="noStrike">
                <a:solidFill>
                  <a:srgbClr val="ffff00"/>
                </a:solidFill>
                <a:latin typeface="Copperplate Gothic Bold"/>
              </a:rPr>
              <a:t> Gold Ru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hsusannah.wma" descr=""/>
          <p:cNvPicPr/>
          <p:nvPr/>
        </p:nvPicPr>
        <p:blipFill>
          <a:blip r:embed="rId2"/>
          <a:stretch/>
        </p:blipFill>
        <p:spPr>
          <a:xfrm>
            <a:off x="21337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91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nelliechapman"/>
          <p:cNvPicPr/>
          <p:nvPr/>
        </p:nvPicPr>
        <p:blipFill>
          <a:blip r:embed="rId2"/>
          <a:stretch/>
        </p:blipFill>
        <p:spPr>
          <a:xfrm>
            <a:off x="5943600" y="1981080"/>
            <a:ext cx="2206800" cy="289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MCj03053810000[1]"/>
          <p:cNvPicPr/>
          <p:nvPr/>
        </p:nvPicPr>
        <p:blipFill>
          <a:blip r:embed="rId3"/>
          <a:stretch/>
        </p:blipFill>
        <p:spPr>
          <a:xfrm>
            <a:off x="4572000" y="4495680"/>
            <a:ext cx="1224000" cy="182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MMj02054010000[1]"/>
          <p:cNvPicPr/>
          <p:nvPr/>
        </p:nvPicPr>
        <p:blipFill>
          <a:blip r:embed="rId4"/>
          <a:stretch/>
        </p:blipFill>
        <p:spPr>
          <a:xfrm>
            <a:off x="7391520" y="5102280"/>
            <a:ext cx="1523880" cy="1222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MCj02979770000[1]"/>
          <p:cNvPicPr/>
          <p:nvPr/>
        </p:nvPicPr>
        <p:blipFill>
          <a:blip r:embed="rId5"/>
          <a:stretch/>
        </p:blipFill>
        <p:spPr>
          <a:xfrm>
            <a:off x="5943600" y="5181480"/>
            <a:ext cx="1641600" cy="838440"/>
          </a:xfrm>
          <a:prstGeom prst="rect">
            <a:avLst/>
          </a:prstGeom>
          <a:ln w="0">
            <a:noFill/>
          </a:ln>
        </p:spPr>
      </p:pic>
      <p:pic>
        <p:nvPicPr>
          <p:cNvPr id="118" name="MSj04310540000[1].wav" descr=""/>
          <p:cNvPicPr/>
          <p:nvPr/>
        </p:nvPicPr>
        <p:blipFill>
          <a:blip r:embed="rId6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4"/>
          <p:cNvSpPr/>
          <p:nvPr/>
        </p:nvSpPr>
        <p:spPr>
          <a:xfrm>
            <a:off x="45720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217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Eliza Farnh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s a  young widow, she was matron of Sing Sing p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Believed women would “civilize” the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dvocated soci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Eliza"/>
          <p:cNvPicPr/>
          <p:nvPr/>
        </p:nvPicPr>
        <p:blipFill>
          <a:blip r:embed="rId2"/>
          <a:stretch/>
        </p:blipFill>
        <p:spPr>
          <a:xfrm>
            <a:off x="5334120" y="1600200"/>
            <a:ext cx="2143080" cy="321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MCj01286410000[1]"/>
          <p:cNvPicPr/>
          <p:nvPr/>
        </p:nvPicPr>
        <p:blipFill>
          <a:blip r:embed="rId3"/>
          <a:stretch/>
        </p:blipFill>
        <p:spPr>
          <a:xfrm>
            <a:off x="7162920" y="4267080"/>
            <a:ext cx="1716120" cy="23623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5"/>
          <p:cNvSpPr/>
          <p:nvPr/>
        </p:nvSpPr>
        <p:spPr>
          <a:xfrm>
            <a:off x="457200" y="58672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3794" y="9036"/>
                </a:moveTo>
                <a:lnTo>
                  <a:pt x="7301" y="9036"/>
                </a:lnTo>
                <a:lnTo>
                  <a:pt x="7301" y="14372"/>
                </a:lnTo>
                <a:cubicBezTo>
                  <a:pt x="7301" y="15294"/>
                  <a:pt x="8102" y="16026"/>
                  <a:pt x="9138" y="16026"/>
                </a:cubicBezTo>
                <a:lnTo>
                  <a:pt x="10800" y="16026"/>
                </a:lnTo>
                <a:cubicBezTo>
                  <a:pt x="11836" y="16026"/>
                  <a:pt x="12636" y="15294"/>
                  <a:pt x="12636" y="14372"/>
                </a:cubicBezTo>
                <a:lnTo>
                  <a:pt x="12636" y="9036"/>
                </a:lnTo>
                <a:lnTo>
                  <a:pt x="10800" y="9036"/>
                </a:lnTo>
                <a:lnTo>
                  <a:pt x="14308" y="5529"/>
                </a:lnTo>
                <a:lnTo>
                  <a:pt x="17981" y="9036"/>
                </a:lnTo>
                <a:lnTo>
                  <a:pt x="16144" y="9036"/>
                </a:lnTo>
                <a:lnTo>
                  <a:pt x="16144" y="14372"/>
                </a:lnTo>
                <a:cubicBezTo>
                  <a:pt x="16144" y="17140"/>
                  <a:pt x="13568" y="19699"/>
                  <a:pt x="10800" y="19699"/>
                </a:cubicBezTo>
                <a:lnTo>
                  <a:pt x="9138" y="19699"/>
                </a:lnTo>
                <a:cubicBezTo>
                  <a:pt x="6370" y="19699"/>
                  <a:pt x="3794" y="17140"/>
                  <a:pt x="3794" y="1437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Georgiana Kir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pioneer of Santa Cruz during the Gold 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vocated education, freedom, and equal rights for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s a private school named for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GeoKirby"/>
          <p:cNvPicPr/>
          <p:nvPr/>
        </p:nvPicPr>
        <p:blipFill>
          <a:blip r:embed="rId2"/>
          <a:stretch/>
        </p:blipFill>
        <p:spPr>
          <a:xfrm>
            <a:off x="5791320" y="1752480"/>
            <a:ext cx="2381040" cy="363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MCj01286560000[1]"/>
          <p:cNvPicPr/>
          <p:nvPr/>
        </p:nvPicPr>
        <p:blipFill>
          <a:blip r:embed="rId3"/>
          <a:stretch/>
        </p:blipFill>
        <p:spPr>
          <a:xfrm>
            <a:off x="4419720" y="3809880"/>
            <a:ext cx="1025280" cy="25146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11"/>
          <p:cNvSpPr/>
          <p:nvPr/>
        </p:nvSpPr>
        <p:spPr>
          <a:xfrm>
            <a:off x="815328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7493"/>
                </a:moveTo>
                <a:lnTo>
                  <a:pt x="9463" y="7493"/>
                </a:lnTo>
                <a:lnTo>
                  <a:pt x="9463" y="12828"/>
                </a:lnTo>
                <a:cubicBezTo>
                  <a:pt x="9463" y="13751"/>
                  <a:pt x="10264" y="14482"/>
                  <a:pt x="11300" y="14482"/>
                </a:cubicBezTo>
                <a:lnTo>
                  <a:pt x="12962" y="14482"/>
                </a:lnTo>
                <a:cubicBezTo>
                  <a:pt x="13998" y="14482"/>
                  <a:pt x="14799" y="13751"/>
                  <a:pt x="14799" y="12828"/>
                </a:cubicBezTo>
                <a:lnTo>
                  <a:pt x="14799" y="7493"/>
                </a:lnTo>
                <a:lnTo>
                  <a:pt x="12962" y="7493"/>
                </a:lnTo>
                <a:lnTo>
                  <a:pt x="16470" y="3985"/>
                </a:lnTo>
                <a:lnTo>
                  <a:pt x="20143" y="7493"/>
                </a:lnTo>
                <a:lnTo>
                  <a:pt x="18306" y="7493"/>
                </a:lnTo>
                <a:lnTo>
                  <a:pt x="18306" y="12828"/>
                </a:lnTo>
                <a:cubicBezTo>
                  <a:pt x="18306" y="15596"/>
                  <a:pt x="15730" y="18155"/>
                  <a:pt x="12962" y="18155"/>
                </a:cubicBezTo>
                <a:lnTo>
                  <a:pt x="11300" y="18155"/>
                </a:lnTo>
                <a:cubicBezTo>
                  <a:pt x="8532" y="18155"/>
                  <a:pt x="5956" y="15596"/>
                  <a:pt x="595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split dir="in" orient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100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ww.historichwy49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ww.museumca.org/goldrush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www.ncgold.com/goldrushtow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williamfar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1676520"/>
            <a:ext cx="150840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henrywells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010280" y="1600200"/>
            <a:ext cx="1573200" cy="1981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nelliechapman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362320" y="3962520"/>
            <a:ext cx="137160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lott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62320" y="1676520"/>
            <a:ext cx="149220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111px-James_Marshall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114800" y="1676520"/>
            <a:ext cx="87804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GeoKirby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562720" y="1600200"/>
            <a:ext cx="1296720" cy="1981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Levi_Strauss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85800" y="3962520"/>
            <a:ext cx="136044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sutter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572000" y="2971800"/>
            <a:ext cx="81756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Eliza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715000" y="3886200"/>
            <a:ext cx="121608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photo_theman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7086600" y="3886200"/>
            <a:ext cx="144792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4"/>
          <p:cNvSpPr/>
          <p:nvPr/>
        </p:nvSpPr>
        <p:spPr>
          <a:xfrm>
            <a:off x="746280" y="6208560"/>
            <a:ext cx="771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441360" y="605628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se were all people who became famou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ining for gold!</a:t>
            </a:r>
            <a:endParaRPr b="0" lang="en-US" sz="24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65" name="WordArt 16"/>
          <p:cNvSpPr txBox="1"/>
          <p:nvPr/>
        </p:nvSpPr>
        <p:spPr>
          <a:xfrm>
            <a:off x="914400" y="609480"/>
            <a:ext cx="7467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o you recognize any of these people?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" name="Picture 17" descr="180px-Samuel_Brannan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4114800" y="4191120"/>
            <a:ext cx="121932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slow">
    <p:push dir="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7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ohn Su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sutter"/>
          <p:cNvPicPr/>
          <p:nvPr/>
        </p:nvPicPr>
        <p:blipFill>
          <a:blip r:embed="rId2"/>
          <a:stretch/>
        </p:blipFill>
        <p:spPr>
          <a:xfrm>
            <a:off x="1219320" y="1752480"/>
            <a:ext cx="2743200" cy="3581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Envisioned an agricultural empire near the American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Wanted discovery of gold kept sec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>
            <a:off x="5335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72" name="AutoShape 20">
            <a:hlinkClick r:id="rId3" action="ppaction://hlinksldjump"/>
          </p:cNvPr>
          <p:cNvSpPr/>
          <p:nvPr/>
        </p:nvSpPr>
        <p:spPr>
          <a:xfrm>
            <a:off x="8153280" y="5867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ames Marsh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Discovered gold pebbles while building Sutter’s 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lso died nearly penni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111px-James_Marshall2"/>
          <p:cNvPicPr/>
          <p:nvPr/>
        </p:nvPicPr>
        <p:blipFill>
          <a:blip r:embed="rId2"/>
          <a:stretch/>
        </p:blipFill>
        <p:spPr>
          <a:xfrm>
            <a:off x="838080" y="1295280"/>
            <a:ext cx="2625840" cy="36576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0">
            <a:hlinkClick r:id="rId3" action="ppaction://hlinksldjump"/>
          </p:cNvPr>
          <p:cNvSpPr/>
          <p:nvPr/>
        </p:nvSpPr>
        <p:spPr>
          <a:xfrm>
            <a:off x="8077320" y="57913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pic>
        <p:nvPicPr>
          <p:cNvPr id="78" name="Picture 11" descr="MPj04011070000[1]"/>
          <p:cNvPicPr/>
          <p:nvPr/>
        </p:nvPicPr>
        <p:blipFill>
          <a:blip r:embed="rId4"/>
          <a:stretch/>
        </p:blipFill>
        <p:spPr>
          <a:xfrm>
            <a:off x="2286000" y="5105520"/>
            <a:ext cx="2209680" cy="14176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Henry Wells and William F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ecided to profit from Gold Rush by providing services to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reated Wells, Fargo &amp; Co. for banking, mail, and stage coach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Generated tremendous wealth as entrepren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henrywells"/>
          <p:cNvPicPr/>
          <p:nvPr/>
        </p:nvPicPr>
        <p:blipFill>
          <a:blip r:embed="rId2"/>
          <a:stretch/>
        </p:blipFill>
        <p:spPr>
          <a:xfrm>
            <a:off x="609480" y="18288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williamfargo"/>
          <p:cNvPicPr/>
          <p:nvPr/>
        </p:nvPicPr>
        <p:blipFill>
          <a:blip r:embed="rId3"/>
          <a:stretch/>
        </p:blipFill>
        <p:spPr>
          <a:xfrm>
            <a:off x="2666880" y="3048120"/>
            <a:ext cx="1905120" cy="2450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MCBD07856_0000[1]"/>
          <p:cNvPicPr/>
          <p:nvPr/>
        </p:nvPicPr>
        <p:blipFill>
          <a:blip r:embed="rId4"/>
          <a:stretch/>
        </p:blipFill>
        <p:spPr>
          <a:xfrm>
            <a:off x="609480" y="4800600"/>
            <a:ext cx="1779840" cy="16272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>
            <a:hlinkClick r:id="rId5" action="ppaction://hlinksldjump"/>
          </p:cNvPr>
          <p:cNvSpPr/>
          <p:nvPr/>
        </p:nvSpPr>
        <p:spPr>
          <a:xfrm>
            <a:off x="822960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7493"/>
                </a:moveTo>
                <a:lnTo>
                  <a:pt x="10391" y="7493"/>
                </a:lnTo>
                <a:lnTo>
                  <a:pt x="10391" y="12828"/>
                </a:lnTo>
                <a:cubicBezTo>
                  <a:pt x="10391" y="13751"/>
                  <a:pt x="11192" y="14482"/>
                  <a:pt x="12227" y="14482"/>
                </a:cubicBezTo>
                <a:lnTo>
                  <a:pt x="13890" y="14482"/>
                </a:lnTo>
                <a:cubicBezTo>
                  <a:pt x="14926" y="14482"/>
                  <a:pt x="15726" y="13751"/>
                  <a:pt x="15726" y="12828"/>
                </a:cubicBezTo>
                <a:lnTo>
                  <a:pt x="15726" y="7493"/>
                </a:lnTo>
                <a:lnTo>
                  <a:pt x="13890" y="7493"/>
                </a:lnTo>
                <a:lnTo>
                  <a:pt x="17397" y="3985"/>
                </a:lnTo>
                <a:lnTo>
                  <a:pt x="21070" y="7493"/>
                </a:lnTo>
                <a:lnTo>
                  <a:pt x="19234" y="7493"/>
                </a:lnTo>
                <a:lnTo>
                  <a:pt x="19234" y="12828"/>
                </a:lnTo>
                <a:cubicBezTo>
                  <a:pt x="19234" y="15596"/>
                  <a:pt x="16658" y="18155"/>
                  <a:pt x="13890" y="18155"/>
                </a:cubicBezTo>
                <a:lnTo>
                  <a:pt x="12227" y="18155"/>
                </a:lnTo>
                <a:cubicBezTo>
                  <a:pt x="9460" y="18155"/>
                  <a:pt x="6883" y="15596"/>
                  <a:pt x="6883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ru"/>
    <p:sndAc>
      <p:stSnd>
        <p:snd r:embed="rId6" name="cashreg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Levi_Strauss"/>
          <p:cNvPicPr/>
          <p:nvPr/>
        </p:nvPicPr>
        <p:blipFill>
          <a:blip r:embed="rId2"/>
          <a:stretch/>
        </p:blipFill>
        <p:spPr>
          <a:xfrm>
            <a:off x="1371600" y="1828800"/>
            <a:ext cx="2305080" cy="297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Cj01133040000[1]"/>
          <p:cNvPicPr/>
          <p:nvPr/>
        </p:nvPicPr>
        <p:blipFill>
          <a:blip r:embed="rId3"/>
          <a:stretch/>
        </p:blipFill>
        <p:spPr>
          <a:xfrm>
            <a:off x="5257800" y="4876920"/>
            <a:ext cx="2362320" cy="15555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9">
            <a:hlinkClick r:id="rId4" action="ppaction://hlinksldjump"/>
          </p:cNvPr>
          <p:cNvSpPr/>
          <p:nvPr/>
        </p:nvSpPr>
        <p:spPr>
          <a:xfrm>
            <a:off x="3049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7493"/>
                </a:moveTo>
                <a:lnTo>
                  <a:pt x="9998" y="7493"/>
                </a:lnTo>
                <a:lnTo>
                  <a:pt x="9998" y="12828"/>
                </a:lnTo>
                <a:cubicBezTo>
                  <a:pt x="9998" y="13751"/>
                  <a:pt x="10799" y="14482"/>
                  <a:pt x="11834" y="14482"/>
                </a:cubicBezTo>
                <a:lnTo>
                  <a:pt x="13497" y="14482"/>
                </a:lnTo>
                <a:cubicBezTo>
                  <a:pt x="14533" y="14482"/>
                  <a:pt x="15333" y="13751"/>
                  <a:pt x="15333" y="12828"/>
                </a:cubicBezTo>
                <a:lnTo>
                  <a:pt x="15333" y="7493"/>
                </a:lnTo>
                <a:lnTo>
                  <a:pt x="13497" y="7493"/>
                </a:lnTo>
                <a:lnTo>
                  <a:pt x="17004" y="3985"/>
                </a:lnTo>
                <a:lnTo>
                  <a:pt x="20677" y="7493"/>
                </a:lnTo>
                <a:lnTo>
                  <a:pt x="18841" y="7493"/>
                </a:lnTo>
                <a:lnTo>
                  <a:pt x="18841" y="12828"/>
                </a:lnTo>
                <a:cubicBezTo>
                  <a:pt x="18841" y="15596"/>
                  <a:pt x="16265" y="18155"/>
                  <a:pt x="13497" y="18155"/>
                </a:cubicBezTo>
                <a:lnTo>
                  <a:pt x="11834" y="18155"/>
                </a:lnTo>
                <a:cubicBezTo>
                  <a:pt x="9067" y="18155"/>
                  <a:pt x="6490" y="15596"/>
                  <a:pt x="649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photo_theman"/>
          <p:cNvPicPr/>
          <p:nvPr/>
        </p:nvPicPr>
        <p:blipFill>
          <a:blip r:embed="rId2"/>
          <a:stretch/>
        </p:blipFill>
        <p:spPr>
          <a:xfrm>
            <a:off x="990720" y="1752480"/>
            <a:ext cx="2633400" cy="28958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8"/>
          <p:cNvSpPr/>
          <p:nvPr/>
        </p:nvSpPr>
        <p:spPr>
          <a:xfrm>
            <a:off x="9907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pic>
        <p:nvPicPr>
          <p:cNvPr id="97" name="Picture 9" descr="MCj03710640000[1]"/>
          <p:cNvPicPr/>
          <p:nvPr/>
        </p:nvPicPr>
        <p:blipFill>
          <a:blip r:embed="rId3"/>
          <a:stretch/>
        </p:blipFill>
        <p:spPr>
          <a:xfrm>
            <a:off x="6477120" y="5029200"/>
            <a:ext cx="1371600" cy="120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MCj04040590000[1]"/>
          <p:cNvPicPr/>
          <p:nvPr/>
        </p:nvPicPr>
        <p:blipFill>
          <a:blip r:embed="rId4"/>
          <a:stretch/>
        </p:blipFill>
        <p:spPr>
          <a:xfrm>
            <a:off x="4724280" y="4876920"/>
            <a:ext cx="1524240" cy="15174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3">
            <a:hlinkClick r:id="rId5" action="ppaction://hlinksldjump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7493"/>
                </a:moveTo>
                <a:lnTo>
                  <a:pt x="8846" y="7493"/>
                </a:lnTo>
                <a:lnTo>
                  <a:pt x="8846" y="12828"/>
                </a:lnTo>
                <a:cubicBezTo>
                  <a:pt x="8846" y="13751"/>
                  <a:pt x="9647" y="14482"/>
                  <a:pt x="10683" y="14482"/>
                </a:cubicBezTo>
                <a:lnTo>
                  <a:pt x="12345" y="14482"/>
                </a:lnTo>
                <a:cubicBezTo>
                  <a:pt x="13381" y="14482"/>
                  <a:pt x="14181" y="13751"/>
                  <a:pt x="14181" y="12828"/>
                </a:cubicBezTo>
                <a:lnTo>
                  <a:pt x="14181" y="7493"/>
                </a:lnTo>
                <a:lnTo>
                  <a:pt x="12345" y="7493"/>
                </a:lnTo>
                <a:lnTo>
                  <a:pt x="15853" y="3985"/>
                </a:lnTo>
                <a:lnTo>
                  <a:pt x="19525" y="7493"/>
                </a:lnTo>
                <a:lnTo>
                  <a:pt x="17689" y="7493"/>
                </a:lnTo>
                <a:lnTo>
                  <a:pt x="17689" y="12828"/>
                </a:lnTo>
                <a:cubicBezTo>
                  <a:pt x="17689" y="15596"/>
                  <a:pt x="15113" y="18155"/>
                  <a:pt x="12345" y="18155"/>
                </a:cubicBezTo>
                <a:lnTo>
                  <a:pt x="10683" y="18155"/>
                </a:lnTo>
                <a:cubicBezTo>
                  <a:pt x="7915" y="18155"/>
                  <a:pt x="5338" y="15596"/>
                  <a:pt x="5338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newsflash/>
    <p:sndAc>
      <p:stSnd>
        <p:snd r:embed="rId6" name="drumroll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m Brann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ught all mining tools i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nounced gold was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de a fortune selling tools, then other necessities, to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me a millio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180px-Samuel_Brannan"/>
          <p:cNvPicPr/>
          <p:nvPr/>
        </p:nvPicPr>
        <p:blipFill>
          <a:blip r:embed="rId2"/>
          <a:stretch/>
        </p:blipFill>
        <p:spPr>
          <a:xfrm>
            <a:off x="1143000" y="1752480"/>
            <a:ext cx="2171880" cy="28288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8">
            <a:hlinkClick r:id="rId3" action="ppaction://hlinksldjump"/>
          </p:cNvPr>
          <p:cNvSpPr/>
          <p:nvPr/>
        </p:nvSpPr>
        <p:spPr>
          <a:xfrm>
            <a:off x="7696080" y="5791320"/>
            <a:ext cx="838440" cy="76176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73" h="21600">
                <a:moveTo>
                  <a:pt x="0" y="0"/>
                </a:moveTo>
                <a:lnTo>
                  <a:pt x="23773" y="0"/>
                </a:lnTo>
                <a:lnTo>
                  <a:pt x="23773" y="21600"/>
                </a:lnTo>
                <a:lnTo>
                  <a:pt x="0" y="21600"/>
                </a:lnTo>
                <a:close/>
              </a:path>
              <a:path fill="lightenLess" w="23773" h="21600">
                <a:moveTo>
                  <a:pt x="0" y="0"/>
                </a:moveTo>
                <a:lnTo>
                  <a:pt x="23773" y="0"/>
                </a:lnTo>
                <a:lnTo>
                  <a:pt x="22373" y="1400"/>
                </a:lnTo>
                <a:lnTo>
                  <a:pt x="1400" y="1400"/>
                </a:lnTo>
                <a:close/>
              </a:path>
              <a:path fill="darken" w="23773" h="21600">
                <a:moveTo>
                  <a:pt x="23773" y="0"/>
                </a:moveTo>
                <a:lnTo>
                  <a:pt x="23773" y="21600"/>
                </a:lnTo>
                <a:lnTo>
                  <a:pt x="22373" y="20200"/>
                </a:lnTo>
                <a:lnTo>
                  <a:pt x="22373" y="1400"/>
                </a:lnTo>
                <a:close/>
              </a:path>
              <a:path fill="darkenLess" w="23773" h="21600">
                <a:moveTo>
                  <a:pt x="237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73" y="20200"/>
                </a:lnTo>
                <a:close/>
              </a:path>
              <a:path fill="lighten" w="237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73" h="21600">
                <a:moveTo>
                  <a:pt x="4880" y="7493"/>
                </a:moveTo>
                <a:lnTo>
                  <a:pt x="8388" y="7493"/>
                </a:lnTo>
                <a:lnTo>
                  <a:pt x="8388" y="12828"/>
                </a:lnTo>
                <a:cubicBezTo>
                  <a:pt x="8388" y="13751"/>
                  <a:pt x="9188" y="14482"/>
                  <a:pt x="10224" y="14482"/>
                </a:cubicBezTo>
                <a:lnTo>
                  <a:pt x="11887" y="14482"/>
                </a:lnTo>
                <a:cubicBezTo>
                  <a:pt x="12922" y="14482"/>
                  <a:pt x="13723" y="13751"/>
                  <a:pt x="13723" y="12828"/>
                </a:cubicBezTo>
                <a:lnTo>
                  <a:pt x="13723" y="7493"/>
                </a:lnTo>
                <a:lnTo>
                  <a:pt x="11887" y="7493"/>
                </a:lnTo>
                <a:lnTo>
                  <a:pt x="15394" y="3985"/>
                </a:lnTo>
                <a:lnTo>
                  <a:pt x="19067" y="7493"/>
                </a:lnTo>
                <a:lnTo>
                  <a:pt x="17231" y="7493"/>
                </a:lnTo>
                <a:lnTo>
                  <a:pt x="17231" y="12828"/>
                </a:lnTo>
                <a:cubicBezTo>
                  <a:pt x="17231" y="15596"/>
                  <a:pt x="14654" y="18155"/>
                  <a:pt x="11887" y="18155"/>
                </a:cubicBezTo>
                <a:lnTo>
                  <a:pt x="10224" y="18155"/>
                </a:lnTo>
                <a:cubicBezTo>
                  <a:pt x="7456" y="18155"/>
                  <a:pt x="4880" y="15596"/>
                  <a:pt x="488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pull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Lot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Crab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egan acting on stages at ag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ade lots of money entertaining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Later travele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lotta"/>
          <p:cNvPicPr/>
          <p:nvPr/>
        </p:nvPicPr>
        <p:blipFill>
          <a:blip r:embed="rId2"/>
          <a:stretch/>
        </p:blipFill>
        <p:spPr>
          <a:xfrm>
            <a:off x="5219640" y="1938240"/>
            <a:ext cx="2895840" cy="3848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MCj02171440000[1]"/>
          <p:cNvPicPr/>
          <p:nvPr/>
        </p:nvPicPr>
        <p:blipFill>
          <a:blip r:embed="rId3"/>
          <a:stretch/>
        </p:blipFill>
        <p:spPr>
          <a:xfrm>
            <a:off x="2133720" y="4267080"/>
            <a:ext cx="1807920" cy="16527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/>
          <p:cNvSpPr/>
          <p:nvPr/>
        </p:nvSpPr>
        <p:spPr>
          <a:xfrm>
            <a:off x="30492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ld"/>
    <p:sndAc>
      <p:stSnd>
        <p:snd r:embed="rId4" name="applause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03:13:59Z</dcterms:created>
  <dc:creator>Kimberley</dc:creator>
  <dc:description/>
  <dc:language>en-US</dc:language>
  <cp:lastModifiedBy>Legion</cp:lastModifiedBy>
  <dcterms:modified xsi:type="dcterms:W3CDTF">2017-07-05T09:41:20Z</dcterms:modified>
  <cp:revision>24</cp:revision>
  <dc:subject/>
  <dc:title>Famous People of the California Gold Rush</dc:title>
</cp:coreProperties>
</file>