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9572-8A66-47B8-BC39-13A9BAAA7F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esidential Election of 186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idential Election of 18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mocr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George McClellan was popular with the troops and promised to put an end to the war if he w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cr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George McClellan was popular with the troops and promised to put an end to the war if he w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ublicans (Un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ncoln/Johnson ticket ran with the slogan "Don't change horses in the middle of the stream," and over time a series of Union victories culminating in the capture of Atlanta, Georgia by forces led by General William Tecumseh Sherman restored his popular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blicans (Un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ncoln/Johnson ticket ran with the slogan "Don't change horses in the middle of the stream," and over time a series of Union victories culminating in the capture of Atlanta, Georgia by forces led by General William Tecumseh Sherman restored his popular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B85D-4791-4E96-B748-2F7E29780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4620-B136-4EB0-A68C-728C1A02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786E-06D5-4907-89BB-0C0A9272D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F293-9357-40A5-AD76-72F017CDF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0707-D825-44FE-AF06-DF14BB45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1619-1001-4368-8E07-43411006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558A-199D-41CC-9BA6-54EF008C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2ED0-6B0D-4610-96F3-07EA4242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F393-4E7C-4C70-A701-20F18CF9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FC3A-DF47-4429-BAE3-B909F64B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AFF7-52B9-449D-B456-36A23774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2A9E-D2A1-4208-AEED-8A510734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B53C-4487-4490-81A6-FC5B8395E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onofthesouth.net/Thomas_Nast/Election_Day_1865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"/>
              </a:rPr>
              <a:t>The Presidential Election of 186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mcclellan_5b"/>
          <p:cNvPicPr/>
          <p:nvPr/>
        </p:nvPicPr>
        <p:blipFill>
          <a:blip r:embed="rId2"/>
          <a:stretch/>
        </p:blipFill>
        <p:spPr>
          <a:xfrm>
            <a:off x="4800600" y="1752480"/>
            <a:ext cx="3795840" cy="4876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Lincoln"/>
          <p:cNvPicPr/>
          <p:nvPr/>
        </p:nvPicPr>
        <p:blipFill>
          <a:blip r:embed="rId3"/>
          <a:stretch/>
        </p:blipFill>
        <p:spPr>
          <a:xfrm>
            <a:off x="685800" y="1752480"/>
            <a:ext cx="3637080" cy="48006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Democra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 George McClellan was popular with the troops and promised to put an end to the war if he w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Election"/>
          <p:cNvPicPr/>
          <p:nvPr/>
        </p:nvPicPr>
        <p:blipFill>
          <a:blip r:embed="rId2"/>
          <a:stretch/>
        </p:blipFill>
        <p:spPr>
          <a:xfrm>
            <a:off x="2057400" y="2514600"/>
            <a:ext cx="5562720" cy="408456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Republicans (Union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incoln/Johnson ticket ran with the slogan "Don't change horses in the middle of the stream," and over time a series of Union victories culminating in the capture of Atlanta, Georgia by forces led by General William Tecumseh Sherman restored his populari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Election Day 186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76760" y="1600200"/>
            <a:ext cx="3567240" cy="502920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5T18:49:13Z</dcterms:created>
  <dc:creator>dgreenberg</dc:creator>
  <dc:description/>
  <dc:language>en-US</dc:language>
  <cp:lastModifiedBy>Legion</cp:lastModifiedBy>
  <dcterms:modified xsi:type="dcterms:W3CDTF">2017-07-05T09:28:59Z</dcterms:modified>
  <cp:revision>7</cp:revision>
  <dc:subject/>
  <dc:title>The Presidential Election of 1864</dc:title>
</cp:coreProperties>
</file>