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0EC04-D988-4E48-B2E7-48FB194302D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residential Election of 186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esidential Election of 18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mocra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neral George McClellan was popular with the troops and promised to put an end to the war if he w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cr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 George McClellan was popular with the troops and promised to put an end to the war if he w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publicans (Uni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incoln/Johnson ticket ran with the slogan "Don't change horses in the middle of the stream," and over time a series of Union victories culminating in the capture of Atlanta, Georgia by forces led by General William Tecumseh Sherman restored his popularit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ublicans (Un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incoln/Johnson ticket ran with the slogan "Don't change horses in the middle of the stream," and over time a series of Union victories culminating in the capture of Atlanta, Georgia by forces led by General William Tecumseh Sherman restored his popularit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72A0-078D-4A18-8A4F-F226793BC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67BE-2E48-46E7-BDD9-C7CCF7583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3BA8-7858-42DA-9281-D065FC811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4786-4B65-4D52-B672-BE080A422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9A96-4D8F-4B21-AD54-164575583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D986-BB85-47EC-9365-3FEE94EB3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2C48-7BED-4FF7-9779-2F2B0001C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A1EC-8F79-429D-B540-AE6822DC4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0979-D099-44B3-A46E-C4FD8893F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C0DA-8DD9-4EDB-9C4E-2D2518623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3265-7A87-4957-9718-74D13548E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676A-B70D-467D-817D-1ECDF86EC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E68CD-3C86-421D-956F-1F7E6A538D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sonofthesouth.net/Thomas_Nast/Election_Day_1865.jp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0000"/>
                </a:solidFill>
                <a:uFillTx/>
                <a:latin typeface="Arial"/>
              </a:rPr>
              <a:t>The Presidential Election of 186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mcclellan_5b"/>
          <p:cNvPicPr/>
          <p:nvPr/>
        </p:nvPicPr>
        <p:blipFill>
          <a:blip r:embed="rId2"/>
          <a:stretch/>
        </p:blipFill>
        <p:spPr>
          <a:xfrm>
            <a:off x="4800600" y="1752480"/>
            <a:ext cx="3795840" cy="4876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" descr="Lincoln"/>
          <p:cNvPicPr/>
          <p:nvPr/>
        </p:nvPicPr>
        <p:blipFill>
          <a:blip r:embed="rId3"/>
          <a:stretch/>
        </p:blipFill>
        <p:spPr>
          <a:xfrm>
            <a:off x="685800" y="1752480"/>
            <a:ext cx="3637080" cy="480060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Democrat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neral George McClellan was popular with the troops and promised to put an end to the war if he w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8" descr="Election"/>
          <p:cNvPicPr/>
          <p:nvPr/>
        </p:nvPicPr>
        <p:blipFill>
          <a:blip r:embed="rId2"/>
          <a:stretch/>
        </p:blipFill>
        <p:spPr>
          <a:xfrm>
            <a:off x="2057400" y="2514600"/>
            <a:ext cx="5562720" cy="4084560"/>
          </a:xfrm>
          <a:prstGeom prst="rect">
            <a:avLst/>
          </a:prstGeom>
          <a:ln w="0">
            <a:noFill/>
          </a:ln>
        </p:spPr>
      </p:pic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Republicans (Union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Lincoln/Johnson ticket ran with the slogan "Don't change horses in the middle of the stream," and over time a series of Union victories culminating in the capture of Atlanta, Georgia by forces led by General William Tecumseh Sherman restored his popularit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8" descr="Election Day 186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576760" y="1600200"/>
            <a:ext cx="3567240" cy="5029200"/>
          </a:xfrm>
          <a:prstGeom prst="rect">
            <a:avLst/>
          </a:prstGeom>
          <a:ln w="0">
            <a:noFill/>
          </a:ln>
        </p:spPr>
      </p:pic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5T18:49:13Z</dcterms:created>
  <dc:creator>dgreenberg</dc:creator>
  <dc:description/>
  <dc:language>en-US</dc:language>
  <cp:lastModifiedBy>Legion</cp:lastModifiedBy>
  <dcterms:modified xsi:type="dcterms:W3CDTF">2017-07-05T09:28:59Z</dcterms:modified>
  <cp:revision>7</cp:revision>
  <dc:subject/>
  <dc:title>The Presidential Election of 1864</dc:title>
</cp:coreProperties>
</file>