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27E3-38E3-4BB1-AFE2-3BE888925D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AF8-5946-4805-844B-00B04F95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5B2-62E1-4A80-8E64-7B1846D4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AE1-5D2C-4609-9496-6B502EBC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671-92EB-46F4-A372-0731E9F6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DF3-2BF2-477F-A195-B8899D72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F88-259B-4375-A823-5AD8EB76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11CA-DA9B-4A91-9FC8-C6184D16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DAB-BB65-4CB9-B050-8D6CE42B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9A8-BECA-4E27-8501-96EDB988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A20B-30F6-4A37-8FE6-62FBE09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0AB-9F57-4890-96A3-4EF7E8A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BC9-317C-4AD3-8F4A-72341EA4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DF74-7F05-4B7B-B597-DE55D88F9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arly Inven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aveman"/>
          <p:cNvPicPr/>
          <p:nvPr/>
        </p:nvPicPr>
        <p:blipFill>
          <a:blip r:embed="rId1"/>
          <a:stretch/>
        </p:blipFill>
        <p:spPr>
          <a:xfrm>
            <a:off x="1523880" y="1689120"/>
            <a:ext cx="576288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ulcanized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harles Good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working with rubber easier (sticking when hot and hard when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 sulfur and then heated so it would retained its elas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charles_goodyear"/>
          <p:cNvPicPr/>
          <p:nvPr/>
        </p:nvPicPr>
        <p:blipFill>
          <a:blip r:embed="rId1"/>
          <a:stretch/>
        </p:blipFill>
        <p:spPr>
          <a:xfrm>
            <a:off x="6934320" y="990720"/>
            <a:ext cx="1904760" cy="1855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ad-Spinning M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Samuel S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ntice in one of Arkwright’s Factories (Great Bri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cotton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rate of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"/>
          <p:cNvPicPr/>
          <p:nvPr/>
        </p:nvPicPr>
        <p:blipFill>
          <a:blip r:embed="rId1"/>
          <a:stretch/>
        </p:blipFill>
        <p:spPr>
          <a:xfrm>
            <a:off x="5562720" y="3352680"/>
            <a:ext cx="3147840" cy="3322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er: Robert Fu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: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ractical steamboat was called the Cler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traveling on river easier and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trade and the moving of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ceangoing steamship wouldn’t be produced until 1850 in Great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mage?id=62145&amp;rendTypeId=4"/>
          <p:cNvPicPr/>
          <p:nvPr/>
        </p:nvPicPr>
        <p:blipFill>
          <a:blip r:embed="rId1"/>
          <a:stretch/>
        </p:blipFill>
        <p:spPr>
          <a:xfrm>
            <a:off x="5181480" y="106668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 Whit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7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tton by factorie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er could produce fifty time more cotton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of slave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 Kingdom:” owners of large pla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ottongin"/>
          <p:cNvPicPr/>
          <p:nvPr/>
        </p:nvPicPr>
        <p:blipFill>
          <a:blip r:embed="rId1"/>
          <a:stretch/>
        </p:blipFill>
        <p:spPr>
          <a:xfrm>
            <a:off x="6019920" y="422280"/>
            <a:ext cx="2971800" cy="221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li_whitney"/>
          <p:cNvPicPr/>
          <p:nvPr/>
        </p:nvPicPr>
        <p:blipFill>
          <a:blip r:embed="rId2"/>
          <a:stretch/>
        </p:blipFill>
        <p:spPr>
          <a:xfrm>
            <a:off x="7086600" y="4648320"/>
            <a:ext cx="1859040" cy="1950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Samuel M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s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es in the East c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mmunicat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s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rse_telegraph"/>
          <p:cNvPicPr/>
          <p:nvPr/>
        </p:nvPicPr>
        <p:blipFill>
          <a:blip r:embed="rId1"/>
          <a:stretch/>
        </p:blipFill>
        <p:spPr>
          <a:xfrm>
            <a:off x="6324480" y="380880"/>
            <a:ext cx="2743200" cy="5743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 P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John De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gh plains soil could not be plowed by cast iron plows (stic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ed farmers grea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ohn-deere-first-plow"/>
          <p:cNvPicPr/>
          <p:nvPr/>
        </p:nvPicPr>
        <p:blipFill>
          <a:blip r:embed="rId1"/>
          <a:stretch/>
        </p:blipFill>
        <p:spPr>
          <a:xfrm>
            <a:off x="5562720" y="4114800"/>
            <a:ext cx="3219480" cy="2333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Cyrus McCorm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wheat many time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a human worker 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d farmers to cultiv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land with fewer wo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for the prairies of the Mid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reaper_ad"/>
          <p:cNvPicPr/>
          <p:nvPr/>
        </p:nvPicPr>
        <p:blipFill>
          <a:blip r:embed="rId1"/>
          <a:stretch/>
        </p:blipFill>
        <p:spPr>
          <a:xfrm>
            <a:off x="6095880" y="1828800"/>
            <a:ext cx="2895840" cy="2266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er: Francis L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versions of English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ught spinning and w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ed textile work to be done a lot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IM"/>
          <p:cNvPicPr/>
          <p:nvPr/>
        </p:nvPicPr>
        <p:blipFill>
          <a:blip r:embed="rId1"/>
          <a:stretch/>
        </p:blipFill>
        <p:spPr>
          <a:xfrm>
            <a:off x="2514600" y="4495680"/>
            <a:ext cx="3581280" cy="2311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wing 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or: Elias Ho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: 18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producing clothing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cloths less expensive so even the lower and middle classes could dress like the wealthier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back to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4808-1z"/>
          <p:cNvPicPr/>
          <p:nvPr/>
        </p:nvPicPr>
        <p:blipFill>
          <a:blip r:embed="rId1"/>
          <a:stretch/>
        </p:blipFill>
        <p:spPr>
          <a:xfrm>
            <a:off x="5715000" y="4448160"/>
            <a:ext cx="2254320" cy="2333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17:42Z</dcterms:created>
  <dc:creator>PUSD</dc:creator>
  <dc:description/>
  <dc:language>en-US</dc:language>
  <cp:lastModifiedBy>Legion</cp:lastModifiedBy>
  <dcterms:modified xsi:type="dcterms:W3CDTF">2017-07-05T09:25:19Z</dcterms:modified>
  <cp:revision>6</cp:revision>
  <dc:subject/>
  <dc:title>Inventions</dc:title>
</cp:coreProperties>
</file>