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tes reforms--glasnost and perestro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2468-EA13-4505-92C6-A8578DE2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A320-E093-413C-9C1B-98E90BE4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830E-4429-491D-AD05-08B8C682A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412E-26BA-4328-A6D7-56F2AF41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90F-7FA1-49B8-B085-BEBDAE5F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A25-C78B-4F17-B9DC-CD6DC068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9A39-8BDE-4873-89D1-BFC021D5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0E36-F2D7-4FAF-8D88-F86940D6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F889-E21B-4F82-9ACE-62A87388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5E21-9B8D-42CD-99B7-CD771D1B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E787-42BF-4D1D-871C-24817A1C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58C-FB8A-4CE1-9423-62371163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ED87-F36F-40EB-8736-BA1DD5ED5A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sm and the 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3981600" y="3429000"/>
            <a:ext cx="1482480" cy="2200320"/>
          </a:xfrm>
          <a:prstGeom prst="rect">
            <a:avLst/>
          </a:prstGeom>
          <a:ln w="0">
            <a:noFill/>
          </a:ln>
        </p:spPr>
      </p:pic>
      <p:sp>
        <p:nvSpPr>
          <p:cNvPr id="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 respon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7 Truman announces that US will aid any country resisting “outside pressur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on learned from appeasing Hit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shall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 provides 13 billion to western Europe (then Japan, Korea, and Taiwan) to re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 intensif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8 Berlin blockade and airl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49 Soviets test the atomic b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 “goes communis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erica “goes McCarthyit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647640" y="4002120"/>
            <a:ext cx="2019240" cy="2550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6049800" y="4191120"/>
            <a:ext cx="3092760" cy="235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3"/>
          <a:stretch/>
        </p:blipFill>
        <p:spPr>
          <a:xfrm>
            <a:off x="3124080" y="4656240"/>
            <a:ext cx="2362320" cy="1431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4"/>
          <a:stretch/>
        </p:blipFill>
        <p:spPr>
          <a:xfrm>
            <a:off x="6880320" y="1500120"/>
            <a:ext cx="2111400" cy="25844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ina--since 194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8-60 “Great Leap Forward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o orders collectivization, backyard found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-30 million die through star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2 break with Soviet Union obv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6-76 “Cultural Revolut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ies close, Red Guards run amok, “counter-revolutionaries” kil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8 period of (economic) liberalization begins under Deng Xia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6276960" y="5057640"/>
            <a:ext cx="2371680" cy="17622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xy w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or conflicts” around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www.learner.org/channel/courses/worldhistory/unit_video_22-2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troop deploym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0-53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65-73 Viet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9-89 Afghan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199120" y="4352760"/>
            <a:ext cx="3487680" cy="23004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e call for World War I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ban missile crisis 19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709560" y="2895480"/>
            <a:ext cx="2637000" cy="3305160"/>
          </a:xfrm>
          <a:prstGeom prst="rect">
            <a:avLst/>
          </a:prstGeom>
          <a:ln w="0">
            <a:noFill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big surpr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nd of European commun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70s and 80s religious and cultural dis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iling econom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gan’s rol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blood at the Kreml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5 Mikhail Gorbachev becomes General Secre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tes reforms-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lasn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estro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allows contested elections within the Communist Par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 in Eastern Eur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0s rise of “Solidarity”--suppres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8 illegal “Solidarity” shipworkers, with encouragement from the Pope, go on stri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 Polish Communist party (and Gorbachev) allows Solidarity to compete in national e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darity victor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886360" y="4762440"/>
            <a:ext cx="2086200" cy="159084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st Germ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little reform--the Sta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rbachev calls for change in East Germ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 German tourists go through Hungary to Austria--at first a few, then 10,0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rlin Wall is torn 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0 Germany reuni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6629400" y="4232160"/>
            <a:ext cx="2205000" cy="2502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ck in USS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1 hardliners in the military wage a coup against Gorbachev, coup fai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st Party is abolished in Rus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viet Union is dissolved by dec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S is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arly Soviet Union under communis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 comes to power by means of a disciplined hierarchical party, soon including what would become the KG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four years, civil war with Czar supporters, aided by U.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1 Introduced the New Economic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4 Len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57680" y="5334120"/>
            <a:ext cx="2214720" cy="1461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2 new nation st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2017800" y="1981080"/>
            <a:ext cx="5099040" cy="41054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ssia--backsliding under Putin since 2000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stalgia for “good old days”, and Chinese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reasing control over media--especially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rest of oligarchs on trumped up charges--Khodorkovsk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Chechen war to make governorships appointed, not el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5372280" y="5334120"/>
            <a:ext cx="2095200" cy="1396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ing revolu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or revolutions” in Georgia, Ukraine, and Kyrgist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news.bbc.co.uk/1/hi/world/europe/4459224.stm#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6438960" y="4314960"/>
            <a:ext cx="2200320" cy="1419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619360" y="3962520"/>
            <a:ext cx="3181320" cy="2447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590400" y="4400640"/>
            <a:ext cx="1704960" cy="170496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is left among Communis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 countr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na, Vietnam, Laos, North Korea, Cu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several post Communist societies have changed litt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China . . 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89--crackdown at Tiananmen Squ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1990s, some signs of loosening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contested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reedom to criticize local gover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0s of NGOs allowed to organ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the other hand, since 1999 Falun Gong outlawed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33200" y="4129200"/>
            <a:ext cx="4753080" cy="2705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2"/>
          <a:stretch/>
        </p:blipFill>
        <p:spPr>
          <a:xfrm>
            <a:off x="6172200" y="4667400"/>
            <a:ext cx="2733840" cy="178092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General Secretary emer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nin’s testa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927 Stalin emerges as most powerful fig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29 rejects NEP, begins forced industri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countryside, collectiv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llions sta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30s, purges and show t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0,000s executed, maybe 5 million died in gu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6796080" y="4776840"/>
            <a:ext cx="22478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otsky and Kamenev disapp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eat Patriotic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SR was probably most responsible for Allied vi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suffered the most--over 20 million d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2695680" y="4419720"/>
            <a:ext cx="2371680" cy="166680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Relative) tha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3 Stalin d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56 Krushchev gives “secret speech” denouncing Stalin and the cult of persona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orients economy more towards consumer goods, hou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862440" y="5019840"/>
            <a:ext cx="2309760" cy="1519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7569360" y="4419720"/>
            <a:ext cx="1573200" cy="24368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D W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t war peri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anded soviet sphere--in defiance of Yalta Ac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buffer or expansionis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ron curta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1530360" y="1981080"/>
            <a:ext cx="6073920" cy="4105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3T01:03:13Z</dcterms:created>
  <dc:creator>Jeff</dc:creator>
  <dc:description/>
  <dc:language>en-US</dc:language>
  <cp:lastModifiedBy>Legion</cp:lastModifiedBy>
  <dcterms:modified xsi:type="dcterms:W3CDTF">2017-07-05T08:45:55Z</dcterms:modified>
  <cp:revision>22</cp:revision>
  <dc:subject/>
  <dc:title>Communism and the Cold War</dc:title>
</cp:coreProperties>
</file>