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4494-7893-4E46-8957-9B7448919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Lithographic Vie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California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50-18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ctorial Letter Sheets and Lithographs produc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ton &amp; Rey Company, San Francisc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 Lithographic Views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f the California Gold Rush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850-1857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om Pictorial Letter Sheets and Lithographs produced b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ritton &amp; Rey Company, San Francisco,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d oth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EAM OF A PROSPECTING M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DREAM OF A PROSPECTING MINER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upont Street) SAN-FRANCISCO, 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bourne &amp; Co. Lith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ESE LIF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Dupont Street) SAN-FRANCISCO, CAL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shbourne &amp; Co. Lithograph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INESE LIFE!!!!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ograph by Britton &amp; Rey San Francis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ograph by Britton &amp; Rey San Francisco.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NTE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ograph by Britton &amp; Rey San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ograph by Britton &amp; Rey San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AR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seum of the City of 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0 Gladys Cox H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epared b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Museum of the City of San Francisc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©2000 Gladys Cox Hansen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at the WIDE WEST OFFICE, 184 Clay Street,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CALIFORNIA MINES ARE 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ublished at the WIDE WEST OFFICE, 184 Clay Street,San Francisc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OW THE CALIFORNIA MINES ARE WORKED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MINERS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 AT WORK WITH LONG 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 AT WORK WITH LONG TOM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ONG TOM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and Published  by  Britton &amp; R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and Published  by  Britton &amp; Rey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LUME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and Published by  Britton &amp; R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NG WATE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and Published by  Britton &amp; Rey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LEVATING WATER WHEEL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 WEIGHING THEIR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 WEIGHING THEIR GOLD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THE P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VIDING THE PILE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284-65B1-4072-A8BE-591D5931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6365-0C54-4905-8CA6-8F5447DF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9198-EE4E-4A56-B354-B2B0DC10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3CAC-1342-4881-AF3E-DF2E97C7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491-71CB-475E-9E48-885A60FB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D89-EACA-4A39-9C56-D0EE7E3F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C3D-4FA1-4801-9F66-518EFC9C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EC3-F6AA-49E7-99A5-92D9C4C2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E645-910F-4B99-9E00-F079394C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C448-F6F4-46A9-98E2-AF1E77C2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6C90-BC33-4FE8-85D6-7CD65693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BE84-6052-4BD6-AC88-671157A5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B5CA-5729-4250-91FC-4D2CA6C996C4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434960" y="1660680"/>
            <a:ext cx="6275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14 Lithographic Views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of the California Gold Rush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1850-1857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240280" y="4191120"/>
            <a:ext cx="475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From Pictorial Letter Sheets and Lithographs produced by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Britton &amp; Rey Company, San Francisco,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and others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754200" y="5867280"/>
            <a:ext cx="585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4" name="Picture 5" descr="&#9;gold1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155600"/>
            <a:ext cx="7621560" cy="4546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470160" y="334800"/>
            <a:ext cx="829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DREAM OF A PROSPECTING MINER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10520" y="30492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52280" y="6415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9" name="Picture 5" descr="&#10;GOLD13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22400"/>
            <a:ext cx="7621560" cy="4813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3888720" y="58672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INER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&#10;GOLD14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996840"/>
            <a:ext cx="7621560" cy="48643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010520" y="30492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52280" y="6415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660480" y="58672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AMBLER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2057400" y="6110280"/>
            <a:ext cx="5105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(Dupont Street) 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SAN-FRANCISCO, CAL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ishbourne &amp; Co. Lithograph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8" name="Picture 4" descr="&#10;GOLD10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914400" y="861840"/>
            <a:ext cx="7392960" cy="52340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2971080" y="228600"/>
            <a:ext cx="35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HINESE LIFE!!!!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680400" y="6248520"/>
            <a:ext cx="51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ograph by Britton &amp; Rey San Francisco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79640" y="16812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3" name="Picture 5" descr="&#9;gold8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774720"/>
            <a:ext cx="7621560" cy="48639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3930840" y="56386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NT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&#9;GOLD9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838080"/>
            <a:ext cx="7621560" cy="4546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669600" y="6248520"/>
            <a:ext cx="50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ograph by Britton &amp; Rey San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979640" y="16812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057920" y="5562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ARO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53160" y="2319480"/>
            <a:ext cx="84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repared by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he Museum of the City of San Francisco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398760" y="4191120"/>
            <a:ext cx="23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©2000 Gladys Cox Hansen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5000">
    <p:wipe dir="u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advTm="2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380880" y="5745240"/>
            <a:ext cx="746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Published at the WIDE WEST OFFICE, 184 Clay Street,San Francisco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2" name="Picture 4" descr="&#9;gold7.gif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1066680"/>
            <a:ext cx="8153280" cy="42134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OW THE CALIFORNIA MINES ARE WORKED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609480" y="58672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6" name="Picture 4" descr="&#9;GOLD6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270080"/>
            <a:ext cx="7621560" cy="4317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3140640" y="3571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MINERS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836280" y="457200"/>
            <a:ext cx="75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S AT WORK WITH LONG TOM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0" name="Picture 4" descr="&#9;GOLD3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486080"/>
            <a:ext cx="7621560" cy="3886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677880" y="5692680"/>
            <a:ext cx="585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609480" y="6004080"/>
            <a:ext cx="67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4" name="Picture 4" descr="&#10;GOLD16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15920"/>
            <a:ext cx="7621560" cy="4826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327840" y="30492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 TOM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683280" y="609588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and Published  by  Britton &amp; Rey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8" name="Picture 4" descr="&#10;gold11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22400"/>
            <a:ext cx="7621560" cy="48132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828240" y="30492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LUM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59600" y="6095880"/>
            <a:ext cx="43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and Published by  Britton &amp; Rey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2" name="Picture 4" descr="&#10;gold12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35000"/>
            <a:ext cx="7621560" cy="478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751760" y="304920"/>
            <a:ext cx="56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LEVATING WATER WHE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80040"/>
            <a:ext cx="66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6" name="Picture 4" descr="&#9;gold2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824040"/>
            <a:ext cx="7621560" cy="5208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1213560" y="152280"/>
            <a:ext cx="67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S WEIGHING THEIR GOLD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678960" y="5715000"/>
            <a:ext cx="589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0" name="Picture 4" descr="&#10;GOLD15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467000"/>
            <a:ext cx="7621560" cy="3924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2549160" y="457200"/>
            <a:ext cx="40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IVIDING THE PILE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9T21:37:03Z</dcterms:created>
  <dc:creator>Museum of the City of San Francisco</dc:creator>
  <dc:description/>
  <dc:language>en-US</dc:language>
  <cp:lastModifiedBy>Legion</cp:lastModifiedBy>
  <dcterms:modified xsi:type="dcterms:W3CDTF">2017-07-05T08:02:03Z</dcterms:modified>
  <cp:revision>21</cp:revision>
  <dc:subject/>
  <dc:title>No Slide Title</dc:title>
</cp:coreProperties>
</file>