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9B2C-8088-43C2-86BA-EF81E924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224-ABA2-45DD-80A4-0E0D2391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7CD-58C2-448A-AE74-73C6C71D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058-B95A-4A92-BDFE-B85347A5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4FE-D7C9-4272-89E5-6E31B429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978-EDAF-436A-A932-E65F04F2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CD2-0DC7-4545-A42D-71647BC4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EFB-46DC-4E1C-8198-CAFF52E8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40A-2E12-470C-A906-3A6C7E9F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441-C574-49D8-B6C0-2EA02C3D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491-7A83-41F7-8A29-4A44BA6B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296-4C12-437E-B7C4-5165AAE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A67-7CD9-4C9C-BB57-118EC49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F95D-8624-4512-B617-102FA11ADE2E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4960" y="1660680"/>
            <a:ext cx="627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40280" y="41911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4200" y="58672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5" descr="&#9;gold1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15560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70160" y="334800"/>
            <a:ext cx="82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" name="Picture 5" descr="&#10;GOLD13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888720" y="586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&#10;GOLD14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996840"/>
            <a:ext cx="7621560" cy="486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660480" y="5867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057400" y="6110280"/>
            <a:ext cx="510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Dupont Street)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AN-FRANCISCO, CAL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4" descr="&#10;GOLD10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861840"/>
            <a:ext cx="7392960" cy="5234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971080" y="22860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0400" y="624852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Picture 5" descr="&#9;gold8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774720"/>
            <a:ext cx="7621560" cy="4863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930840" y="5638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&#9;GOLD9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3808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69600" y="6248520"/>
            <a:ext cx="50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57920" y="5562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53160" y="231948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98760" y="419112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57452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" name="Picture 4" descr="&#9;gold7.gif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09480" y="5867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4" descr="&#9;GOLD6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270080"/>
            <a:ext cx="7621560" cy="431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140640" y="357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836280" y="4572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4" descr="&#9;GOLD3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86080"/>
            <a:ext cx="7621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77880" y="56926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09480" y="600408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4" descr="&#10;GOLD16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15920"/>
            <a:ext cx="7621560" cy="482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327840" y="3049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83280" y="609588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4" descr="&#10;gold11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28240" y="3049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9600" y="609588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4" descr="&#10;gold12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35000"/>
            <a:ext cx="7621560" cy="47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51760" y="30492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8004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4" descr="&#9;gold2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24040"/>
            <a:ext cx="7621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3560" y="1522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78960" y="571500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4" descr="&#10;GOLD15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67000"/>
            <a:ext cx="762156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49160" y="4572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1:37:03Z</dcterms:created>
  <dc:creator>Museum of the City of San Francisco</dc:creator>
  <dc:description/>
  <dc:language>en-US</dc:language>
  <cp:lastModifiedBy>Legion</cp:lastModifiedBy>
  <dcterms:modified xsi:type="dcterms:W3CDTF">2017-07-05T08:02:03Z</dcterms:modified>
  <cp:revision>21</cp:revision>
  <dc:subject/>
  <dc:title>No Slide Title</dc:title>
</cp:coreProperties>
</file>