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7382-EB6B-41EF-BE5A-CC7C086A6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Lithographic Vie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California Gold Ru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50-18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ctorial Letter Sheets and Lithographs produc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ton &amp; Rey Company, San Francisc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 Lithographic Views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f the California Gold Rush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850-1857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rom Pictorial Letter Sheets and Lithographs produced b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Britton &amp; Rey Company, San Francisco,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d other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EAM OF A PROSPECTING M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DREAM OF A PROSPECTING MINER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INER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B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AMBLER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upont Street) SAN-FRANCISCO, 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bourne &amp; Co. Lith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ESE LIF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Dupont Street) SAN-FRANCISCO, CAL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shbourne &amp; Co. Lithography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INESE LIFE!!!!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ograph by Britton &amp; Rey San Francisc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ograph by Britton &amp; Rey San Francisco.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NTE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ograph by Britton &amp; Rey San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ograph by Britton &amp; Rey San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ARO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useum of the City of San Fran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2000 Gladys Cox Han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epared b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Museum of the City of San Francisco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©2000 Gladys Cox Hansen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d at the WIDE WEST OFFICE, 184 Clay Street,San Fran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CALIFORNIA MINES ARE WOR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ublished at the WIDE WEST OFFICE, 184 Clay Street,San Francisco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OW THE CALIFORNIA MINES ARE WORKED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MINERS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S AT WORK WITH LONG 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INERS AT WORK WITH LONG TOMS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ONG TOM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and Published  by  Britton &amp; R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and Published  by  Britton &amp; Rey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LUME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and Published by  Britton &amp; R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NG WATE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and Published by  Britton &amp; Rey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LEVATING WATER WHEEL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ERS WEIGHING THEIR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INERS WEIGHING THEIR GOLD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THE P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VIDING THE PILE.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2AD-0FFF-43C7-BBA1-B3FB814F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B46B-7CC0-4FFD-8C67-579C6F6A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2804-9A06-4A61-98DD-A20002BB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856-DDF1-403F-94FC-053B83CD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BF17-BB06-4FBD-B1B4-D1577A4E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C8F9-52DE-447C-A624-874BD9A6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4925-0A7A-4A11-BEC7-C48EE584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3E2-45C6-4DAE-93E8-45404CEA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EB9E-327C-48EE-BDCC-678C8F14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3F14-88BE-4920-8954-0D022FCA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7386-335E-4299-A27F-A6C22C3A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2A95-F52A-44E3-8486-FBC2CAAE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7587-63DE-4A82-AD0D-0111BFD3AEFD}" type="slidenum">
              <a:rPr b="0" lang="en-US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434960" y="1660680"/>
            <a:ext cx="6275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14 Lithographic Views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of the California Gold Rush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1850-1857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240280" y="4191120"/>
            <a:ext cx="475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From Pictorial Letter Sheets and Lithographs produced by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Britton &amp; Rey Company, San Francisco,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and others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754200" y="5867280"/>
            <a:ext cx="585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4" name="Picture 5" descr="&#9;gold1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155600"/>
            <a:ext cx="7621560" cy="45468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470160" y="334800"/>
            <a:ext cx="829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DREAM OF A PROSPECTING MINER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1010520" y="304920"/>
            <a:ext cx="72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52280" y="6415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9" name="Picture 5" descr="&#10;GOLD13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22400"/>
            <a:ext cx="7621560" cy="4813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3888720" y="58672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INER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&#10;GOLD14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996840"/>
            <a:ext cx="7621560" cy="48643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010520" y="304920"/>
            <a:ext cx="72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ELESTIAL EMPIRE IN CALIFORN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52280" y="6415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ith. &amp; Published by Britton &amp; Rey Corner Montgomery &amp; California sts. S. Francisco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660480" y="58672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AMBLER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2057400" y="6110280"/>
            <a:ext cx="5105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(Dupont Street) 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SAN-FRANCISCO, CAL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ishbourne &amp; Co. Lithograph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8" name="Picture 4" descr="&#10;GOLD10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914400" y="861840"/>
            <a:ext cx="7392960" cy="52340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2971080" y="228600"/>
            <a:ext cx="352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HINESE LIFE!!!!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680400" y="6248520"/>
            <a:ext cx="51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ograph by Britton &amp; Rey San Francisco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79640" y="16812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3" name="Picture 5" descr="&#9;gold8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774720"/>
            <a:ext cx="7621560" cy="48639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3930840" y="56386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NT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&#9;GOLD9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838080"/>
            <a:ext cx="7621560" cy="4546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669600" y="6248520"/>
            <a:ext cx="50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ograph by Britton &amp; Rey San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979640" y="16812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GAMBLING IN THE MIN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057920" y="556272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ARO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53160" y="2319480"/>
            <a:ext cx="84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Prepared by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the Museum of the City of San Francisco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398760" y="4191120"/>
            <a:ext cx="23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©2000 Gladys Cox Hansen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5000">
    <p:wipe dir="u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advTm="2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380880" y="5745240"/>
            <a:ext cx="746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Published at the WIDE WEST OFFICE, 184 Clay Street,San Francisco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2" name="Picture 4" descr="&#9;gold7.gif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1066680"/>
            <a:ext cx="8153280" cy="42134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OW THE CALIFORNIA MINES ARE WORKED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609480" y="586728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6" name="Picture 4" descr="&#9;GOLD6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270080"/>
            <a:ext cx="7621560" cy="43178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3140640" y="35712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MINERS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836280" y="457200"/>
            <a:ext cx="754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NERS AT WORK WITH LONG TOM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0" name="Picture 4" descr="&#9;GOLD3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486080"/>
            <a:ext cx="7621560" cy="3886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677880" y="5692680"/>
            <a:ext cx="585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609480" y="6004080"/>
            <a:ext cx="67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4" name="Picture 4" descr="&#10;GOLD16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15920"/>
            <a:ext cx="7621560" cy="4826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327840" y="304920"/>
            <a:ext cx="24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NG TOM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683280" y="609588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and Published  by  Britton &amp; Rey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8" name="Picture 4" descr="&#10;gold11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22400"/>
            <a:ext cx="7621560" cy="48132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828240" y="30492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LUM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59600" y="6095880"/>
            <a:ext cx="43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and Published by  Britton &amp; Rey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2" name="Picture 4" descr="&#10;gold12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035000"/>
            <a:ext cx="7621560" cy="478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1751760" y="304920"/>
            <a:ext cx="56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LEVATING WATER WHE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080040"/>
            <a:ext cx="66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6" name="Picture 4" descr="&#9;gold2.jpg 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824040"/>
            <a:ext cx="7621560" cy="52084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1213560" y="152280"/>
            <a:ext cx="67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NERS WEIGHING THEIR GOLD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678960" y="5715000"/>
            <a:ext cx="589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Lith. &amp; Published by Britton &amp; Rey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rner Montgomery &amp; California Sts. S. Francisco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0" name="Picture 4" descr="&#10;GOLD15.jpg                                                     000799CA_x000c_macintosh HD                   ABA78158:"/>
          <p:cNvPicPr/>
          <p:nvPr/>
        </p:nvPicPr>
        <p:blipFill>
          <a:blip r:embed="rId1"/>
          <a:stretch/>
        </p:blipFill>
        <p:spPr>
          <a:xfrm>
            <a:off x="760320" y="1467000"/>
            <a:ext cx="7621560" cy="3924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2549160" y="457200"/>
            <a:ext cx="40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IVIDING THE PILE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 advTm="10000"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9T21:37:03Z</dcterms:created>
  <dc:creator>Museum of the City of San Francisco</dc:creator>
  <dc:description/>
  <dc:language>en-US</dc:language>
  <cp:lastModifiedBy>Legion</cp:lastModifiedBy>
  <dcterms:modified xsi:type="dcterms:W3CDTF">2017-07-05T08:02:03Z</dcterms:modified>
  <cp:revision>21</cp:revision>
  <dc:subject/>
  <dc:title>No Slide Title</dc:title>
</cp:coreProperties>
</file>