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lick to move the slide</a:t>
            </a: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1CC1-1730-4810-84B9-E2B39A3EE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e! You should wear GOGGLES and LAB-COATS at all times during this prac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tain a dropping t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few drops of each of the solutions to individual ‘holes’ in the dropping tile. Make sure you know which solution is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ose a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one piece of that metal to each of th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e – you will need to watch carefully for any evidence of a reaction taking pl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put a tick into the relevant box. If no reaction takes place, put a cr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 reaction takes place, try and describe what is happe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 all the reactions into a large beaker – do NOT put any solids into the sin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for each metal using fresh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PLACEMENT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eactive metals can displace less reactive metals from their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 +  iron (II) nitrate    magnesium nitrate  +  ir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 is more reactive than 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 +  copper (II) sulphate    lead (II) sulphate  + 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 is more reactive than cop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+ lead (II) sulphate    no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not more reactive than l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AND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 +  Acid    Salt  +  Hydro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s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chlo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phu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hano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 AND 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  +  Acid    Salt  +  Hydrog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ta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s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d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drochlo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lphu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itr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thanoic ac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ING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MING SA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bbe0e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c7d4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685800" y="1659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Times New Roman"/>
              </a:rPr>
              <a:t>Chemical Re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838080" y="1143000"/>
            <a:ext cx="228600" cy="5029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7620120" y="632448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be0e3"/>
                </a:solidFill>
                <a:latin typeface="Times New Roman"/>
              </a:rPr>
              <a:t>gala/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o Rea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opper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calc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87280" y="1397160"/>
          <a:ext cx="7201080" cy="4410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102924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1447920" y="1219320"/>
            <a:ext cx="6653160" cy="54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are! You should wear GOGGLES and LAB-COATS at all times during this prac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tain a dropping t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a few drops of each of the solutions to individual ‘holes’ in the dropping tile. Make sure you know which solution is whi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Choose a me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dd one piece of that metal to each of the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Observe – you will need to watch carefully for any evidence of a reaction taking p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put a tick into the relevant box. If no reaction takes place, put a cro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If a reaction takes place, try and describe what is happe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Wash all the reactions into a large beaker – do NOT put any solids into the sink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Repeat for each metal using fresh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bbe0e3"/>
              </a:buClr>
              <a:buFont typeface="Monaco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87280" y="1397160"/>
          <a:ext cx="7201080" cy="4356000"/>
        </p:xfrm>
        <a:graphic>
          <a:graphicData uri="http://schemas.openxmlformats.org/drawingml/2006/table">
            <a:tbl>
              <a:tblPr/>
              <a:tblGrid>
                <a:gridCol w="1424160"/>
                <a:gridCol w="952560"/>
                <a:gridCol w="1295280"/>
                <a:gridCol w="1224000"/>
                <a:gridCol w="1081080"/>
                <a:gridCol w="1224000"/>
              </a:tblGrid>
              <a:tr h="9720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 ion so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 (I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 (II)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 sulph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 (II) nit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Zin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L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3200" spc="-1" strike="noStrike">
                          <a:solidFill>
                            <a:srgbClr val="bbe0e3"/>
                          </a:solidFill>
                          <a:latin typeface="Trebuchet MS"/>
                        </a:rPr>
                        <a:t>X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99"/>
                      </a:solidFill>
                    </a:lnL>
                    <a:lnR w="5760">
                      <a:solidFill>
                        <a:srgbClr val="ffff99"/>
                      </a:solidFill>
                    </a:lnR>
                    <a:lnT w="5760">
                      <a:solidFill>
                        <a:srgbClr val="ffff99"/>
                      </a:solidFill>
                    </a:lnT>
                    <a:lnB w="576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1447920" y="1219320"/>
            <a:ext cx="66531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447920" y="1219320"/>
            <a:ext cx="66531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1447920" y="1219320"/>
            <a:ext cx="6653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7"/>
          <p:cNvSpPr/>
          <p:nvPr/>
        </p:nvSpPr>
        <p:spPr>
          <a:xfrm>
            <a:off x="1447920" y="1219320"/>
            <a:ext cx="665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1447920" y="1219320"/>
            <a:ext cx="665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1447920" y="1219320"/>
            <a:ext cx="665316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447920" y="1219320"/>
            <a:ext cx="6653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DISPLACEMENT RE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1447920" y="1219320"/>
            <a:ext cx="665316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Monaco"/>
              </a:rPr>
              <a:t>More reactive metals can displace less reactive metals from their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magnesium  +  iron (II) nitr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magnesium nitrate  +  iro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magnesium is more reactive than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lead  +  copper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  lead (II) sulphate  + 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Monaco"/>
              </a:rPr>
              <a:t>	</a:t>
            </a:r>
            <a:r>
              <a:rPr b="1" i="1" lang="en-US" sz="1800" spc="-1" strike="noStrike">
                <a:solidFill>
                  <a:srgbClr val="bbe0e3"/>
                </a:solidFill>
                <a:latin typeface="Monaco"/>
              </a:rPr>
              <a:t>lead is more reactive than co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b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copper + lead (II) sulphate  </a:t>
            </a:r>
            <a:r>
              <a:rPr b="0" lang="en-US" sz="18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 no re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copper</a:t>
            </a:r>
            <a:r>
              <a:rPr b="0" lang="en-US" sz="1800" spc="-1" strike="noStrike">
                <a:solidFill>
                  <a:srgbClr val="bbe0e3"/>
                </a:solidFill>
                <a:latin typeface="Times New Roman"/>
              </a:rPr>
              <a:t> </a:t>
            </a:r>
            <a:r>
              <a:rPr b="1" i="1" lang="en-US" sz="1800" spc="-1" strike="noStrike">
                <a:solidFill>
                  <a:srgbClr val="bbe0e3"/>
                </a:solidFill>
                <a:latin typeface="Times New Roman"/>
              </a:rPr>
              <a:t>is not more reactive than lea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METALS AND AC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258920" y="4365720"/>
            <a:ext cx="69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Metal  +  Acid  </a:t>
            </a:r>
            <a:r>
              <a:rPr b="1" lang="en-US" sz="2400" spc="-1" strike="noStrike">
                <a:solidFill>
                  <a:srgbClr val="bbe0e3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bbe0e3"/>
                </a:solidFill>
                <a:latin typeface="Monaco"/>
              </a:rPr>
              <a:t>  Salt  +  Hydro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1476360" y="119700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Met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Magnes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o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Calc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1212840"/>
            <a:ext cx="2590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be0e3"/>
                </a:solidFill>
                <a:latin typeface="Times New Roman"/>
              </a:rPr>
              <a:t>Ac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Hydrochlo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Sulphu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Nitr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Times New Roman"/>
              </a:rPr>
              <a:t>Ethanoic ac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25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250" fill="hold">
                                          <p:stCondLst>
                                            <p:cond delay="75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219320" y="609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c7d4"/>
                </a:solidFill>
                <a:latin typeface="Trebuchet MS"/>
              </a:rPr>
              <a:t>FORMING SA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10824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2717640" y="1160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219320" y="6094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c7d4"/>
                </a:solidFill>
                <a:latin typeface="Times New Roman"/>
              </a:rPr>
              <a:t>FORMING SA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5487840" y="33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332080" y="606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523880" y="1397160"/>
          <a:ext cx="6648480" cy="4514760"/>
        </p:xfrm>
        <a:graphic>
          <a:graphicData uri="http://schemas.openxmlformats.org/drawingml/2006/table">
            <a:tbl>
              <a:tblPr/>
              <a:tblGrid>
                <a:gridCol w="1752840"/>
                <a:gridCol w="2016000"/>
                <a:gridCol w="2879640"/>
              </a:tblGrid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AL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hydrochlo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magnes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ethano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3300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 sulph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opp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nit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iron nit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odium chlori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calc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ethano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magnes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Trebuchet MS"/>
                        </a:rPr>
                        <a:t>sulphuric ac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70-01-02T00:25:46Z</dcterms:created>
  <dc:creator>Gavin Lazaro</dc:creator>
  <dc:description/>
  <dc:language>en-US</dc:language>
  <cp:lastModifiedBy>RomaK</cp:lastModifiedBy>
  <dcterms:modified xsi:type="dcterms:W3CDTF">2015-09-02T05:57:24Z</dcterms:modified>
  <cp:revision>22</cp:revision>
  <dc:subject/>
  <dc:title>chemical reactions metals and acids</dc:title>
</cp:coreProperties>
</file>