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CF56-D79C-4EF5-82C1-440698237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 +  Acid    Salt  + 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  +  Acid    Salt  +  Hydro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685800" y="165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hem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838080" y="1143000"/>
            <a:ext cx="2286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7620120" y="6324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Times New Roman"/>
              </a:rPr>
              <a:t>gala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o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1397160"/>
          <a:ext cx="7201080" cy="4410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447920" y="1219320"/>
            <a:ext cx="66531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are! You should wear GOGGLES and LAB-COATS at all times during this 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tain a dropping 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a few drops of each of the solutions to individual ‘holes’ in the dropping tile. Make sure you know which solution is 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hoose a 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one piece of that metal to each of the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serve – you will need to watch carefully for any evidence of a reaction taking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put a tick into the relevant box. If no reaction takes place, put a cro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try and describe what is happ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Wash all the reactions into a large beaker – do NOT put any solids into the sin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Repeat for each metal using fresh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447920" y="1219320"/>
            <a:ext cx="6653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447920" y="1219320"/>
            <a:ext cx="6653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447920" y="1219320"/>
            <a:ext cx="665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447920" y="1219320"/>
            <a:ext cx="665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447920" y="1219320"/>
            <a:ext cx="66531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447920" y="1219320"/>
            <a:ext cx="66531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copper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is not more reactive than l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258920" y="43657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Metal  +  Acid  </a:t>
            </a:r>
            <a:r>
              <a:rPr b="1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  Salt  + 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FORMING SA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2T00:25:46Z</dcterms:created>
  <dc:creator>Gavin Lazaro</dc:creator>
  <dc:description/>
  <dc:language>en-US</dc:language>
  <cp:lastModifiedBy>RomaK</cp:lastModifiedBy>
  <dcterms:modified xsi:type="dcterms:W3CDTF">2015-09-02T05:57:24Z</dcterms:modified>
  <cp:revision>22</cp:revision>
  <dc:subject/>
  <dc:title>chemical reactions metals and acids</dc:title>
</cp:coreProperties>
</file>