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9B66-A029-4D51-B8B3-31DEF38E1AA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a:t>
            </a:r>
            <a:br>
              <a:rPr sz="1200"/>
            </a:br>
            <a:r>
              <a:rPr b="0" lang="en-US" sz="1200" spc="-1" strike="noStrike">
                <a:solidFill>
                  <a:srgbClr val="000000"/>
                </a:solidFill>
                <a:latin typeface="Calibri"/>
              </a:rPr>
              <a:t>and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a:t>
            </a:r>
            <a:br>
              <a:rPr sz="1200"/>
            </a:br>
            <a:r>
              <a:rPr b="0" lang="en-US" sz="1200" spc="-1" strike="noStrike">
                <a:solidFill>
                  <a:srgbClr val="ffffff"/>
                </a:solidFill>
                <a:latin typeface="Garamond"/>
              </a:rPr>
              <a:t>and the Wild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Buffalo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F. Cody: born 1846, died 1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d as a Pony Express rider, stagecoach driver, hunter, and scout for the U.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how, ‘Buffalo Bill’s Wild West’ (later Buffalo Bill’s Wild West &amp; Congress of Rough Riders) ran from  1883 to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o Was Buffalo Bil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iam F. Cody: born 1846, died 19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orked as a Pony Express rider, stagecoach driver, hunter, and scout for the U.S Arm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s show, ‘Buffalo Bill’s Wild West’ (later Buffalo Bill’s Wild West &amp; Congress of Rough Riders) ran from  1883 to 1916.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Autob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wrote his autobiography in 1879. In order to understand him, it is important to understand his book, and the scholarly discussion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 assumption is that someone else wrote the book for him, probably the same person who wrote the scripts for his sho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some scholars question this. They point to the book’s peculiar sty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its hybrid style, now reportorial, now novelistic or folkloric, the Autobiography presents Buffalo Bill as both an authentic participant in frontier affairs and a consummate show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S. Kasson, Buffalo Bill’s Wild West: Celebrity, Memory and Popular History, (New York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Buffalo Bill write his book so early in his career? Was he trying to prove that he had, in fact, lived the life he was now depicting on the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qu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s to his birth as “my debut upon the world’s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uring my engagement as a hunter for the company – a period of less than 18 months – I killed 4,280 buffaloes; and I had many exciting adventures with the Indians, as well as hair-breadth esc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enticity of the book really ma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Autobiograph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common assumption is that someone else wrote the book for him, probably the same person who wrote the scripts for his show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owever, some scholars question this. They point to the book’s peculiar styl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With its hybrid style, now reportorial, now novelistic or folkloric, the Autobiography presents Buffalo Bill as both an authentic participant in frontier affairs and a consummate showma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S. Kasson, Buffalo Bill’s Wild West: Celebrity, Memory and Popular History, (New York 2000).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did Buffalo Bill write his book so early in his career? Was he trying to prove that he had, in fact, lived the life he was now depicting on the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me interesting quo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fers to his birth as “my debut upon the world’s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es the authenticity of the book really matt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ppearances on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plays and dime novels about Buffalo Bill before he began producing his own show. He had already become a character i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 went to see one of these plays, he was asked to make a short appearance on stage. He wr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never felt more relieved in my life than when I got out of the view of that immens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larly consensus is that Buffalo Bill did not at first make any real, conscious decision to become a showman. He was not, at any time in his life, an a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first years of his show, the late 1870s, he continued to scout for the U.S Army over the summ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rst Appearances on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re were plays and dime novels about Buffalo Bill before he began producing his own show. He had already become a character in popular cul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he went to see one of these plays, he was asked to make a short appearance on stage. He wri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I never felt more relieved in my life than when I got out of the view of that immense crow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the first years of his show, the late 1870s, he continued to scout for the U.S Army over the summe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show was exceptionally popular, performing all over the U.S.A and in Europe. He even performed the show twice for Queen Victo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as it s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Wild West Sh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show was exceptionally popular, performing all over the U.S.A and in Europe. He even performed the show twice for Queen Victoria.</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was it so popula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 W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became a celebrity in his time. In a way, he transcended the American West, to become a symbol for all that it was as a place, and all that it stoo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d West 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Indians thought of it all is, unfortunately, unkn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nd the Indi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at the Indians thought of it all is, unfortunately, unknow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t Dis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ffalo Bill show at Disneyland Paris raises some interesting questions. Why did they choose this show? What image are they trying to present by using this s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land website states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que dinner- show in Europe! Exceptional atmosphere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erd of wild buffalo, authentic cowboys and Native American Indians, Buffalo Bill and Sitting Bull in a grandiose arena showing you how the West was won.</a:t>
            </a:r>
            <a:br>
              <a:rPr sz="1200"/>
            </a:br>
            <a:br>
              <a:rPr sz="1200"/>
            </a:br>
            <a:r>
              <a:rPr b="0" lang="en-US" sz="1200" spc="-1" strike="noStrike">
                <a:solidFill>
                  <a:srgbClr val="000000"/>
                </a:solidFill>
                <a:latin typeface="Calibri"/>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000000"/>
                </a:solidFill>
                <a:latin typeface="Calibri"/>
              </a:rPr>
              <a:t>Become a pioneer for an evening and take your own cowboy hat back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 Park also contains ‘Frontier land’, which promises an authentic western experience. It is interesting that they chose the West, rather than anything else, to depict Ame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t Disne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land website states thi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unique dinner- show in Europe! Exceptional atmosphere </a:t>
            </a:r>
            <a:br>
              <a:rPr sz="1200"/>
            </a:b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magin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US"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today would claim that the show had an educational value, but people in Cody’s time had no chance to view the West firsthand. Are we right to devalue their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nclus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D62F036-E0C6-475E-B76B-13CC9835E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12B892-C512-4912-B0F9-D933A7596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8E8CB19-3A41-4765-8F84-719EC2057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7F1EB3A-A06D-455D-B647-88FBB96B1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FD468-D737-45CC-85AE-7DE53B40E1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6EFD3-F2D0-406E-A733-F24FE0A75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DAF8F-D6B9-4F83-AB51-B7A5861AD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8CE93-4563-43BE-81DF-A1714DA2F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CC51B-D4D4-41E9-B2E2-00164D4AC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3A530-D005-4C3A-9128-EDF269EF7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F8553-E1F7-4E59-80DB-FC77402A1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62DCAC4-020C-4A46-805B-54E8A58EE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74CB9-2169-48E8-B8F6-A09C4D4F3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3FD9C-6D59-40E0-B492-BCE518D38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CD5B6-A8BC-49AE-94E0-F99956DC0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BEBCE-013E-4569-8E7E-A8822A0F4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9D505A-6215-4F33-B3E8-B8C2233CE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82D5FB5-6587-48B4-8903-F7EFFE25B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47B8F4-08E9-4EE5-96C3-4DCB56894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499AEC-A3C7-4353-953D-1B9693926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C29533-7C74-4EBD-A69E-E21FE59E5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6E1952-9437-42BA-BFC7-6E86D22CC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6BCD66-CB7D-4F71-ADDB-4C59E73F6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08A1BB-930B-4EDE-9435-D2E90270A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C8FB-3203-42CA-9B20-37BF8DE8D275}"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BA37-CCED-4EAA-94BF-72E18683EE78}"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691920"/>
            <a:ext cx="7772400" cy="20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Buffalo Bill</a:t>
            </a:r>
            <a:br>
              <a:rPr sz="6000"/>
            </a:br>
            <a:r>
              <a:rPr b="1" lang="en-GB" sz="6000" spc="-1" strike="noStrike">
                <a:solidFill>
                  <a:srgbClr val="e5e5ff"/>
                </a:solidFill>
                <a:latin typeface="Garamond"/>
              </a:rPr>
              <a:t>and the Wild West</a:t>
            </a:r>
            <a:endParaRPr b="1" lang="en-US" sz="6000" spc="-1" strike="noStrike">
              <a:solidFill>
                <a:srgbClr val="e5e5ff"/>
              </a:solidFill>
              <a:latin typeface="Garamond"/>
            </a:endParaRPr>
          </a:p>
        </p:txBody>
      </p:sp>
      <p:pic>
        <p:nvPicPr>
          <p:cNvPr id="108" name="Picture 5" descr="Buffalo Bill's Wild West Show"/>
          <p:cNvPicPr/>
          <p:nvPr/>
        </p:nvPicPr>
        <p:blipFill>
          <a:blip r:embed="rId1"/>
          <a:stretch/>
        </p:blipFill>
        <p:spPr>
          <a:xfrm>
            <a:off x="2484360" y="2846520"/>
            <a:ext cx="3959280" cy="261288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o Was Buffalo Bill?</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illiam F. Cody: born 1846, died 19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orked as a Pony Express rider, stagecoach driver, hunter, and scout for the U.S Army.</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His show, ‘Buffalo Bill’s Wild West’ (later Buffalo Bill’s Wild West &amp; Congress of Rough Riders) ran from  1883 to 1916. </a:t>
            </a:r>
            <a:endParaRPr b="0" lang="en-US" sz="2400" spc="-1" strike="noStrike">
              <a:solidFill>
                <a:srgbClr val="ffffff"/>
              </a:solidFill>
              <a:latin typeface="Garamond"/>
            </a:endParaRPr>
          </a:p>
        </p:txBody>
      </p:sp>
      <p:sp>
        <p:nvSpPr>
          <p:cNvPr id="11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s Autobiography</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common assumption is that someone else wrote the book for him, probably the same person who wrote the scripts for his shows.</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However, some scholars question this. They point to the book’s peculiar style. </a:t>
            </a:r>
            <a:endParaRPr b="0" lang="en-US" sz="1600" spc="-1" strike="noStrike">
              <a:solidFill>
                <a:srgbClr val="ffffff"/>
              </a:solidFill>
              <a:latin typeface="Garamond"/>
            </a:endParaRPr>
          </a:p>
          <a:p>
            <a:pPr marL="325800" indent="-325800" algn="ctr">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With its hybrid style, now reportorial, now novelistic or folkloric, the </a:t>
            </a:r>
            <a:r>
              <a:rPr b="0" i="1" lang="en-GB" sz="1600" spc="-1" strike="noStrike">
                <a:solidFill>
                  <a:srgbClr val="ffffff"/>
                </a:solidFill>
                <a:latin typeface="Garamond"/>
              </a:rPr>
              <a:t>Autobiography </a:t>
            </a:r>
            <a:r>
              <a:rPr b="0" lang="en-GB" sz="1600" spc="-1" strike="noStrike">
                <a:solidFill>
                  <a:srgbClr val="ffffff"/>
                </a:solidFill>
                <a:latin typeface="Garamond"/>
              </a:rPr>
              <a:t>presents Buffalo Bill as both an authentic participant in frontier affairs </a:t>
            </a:r>
            <a:r>
              <a:rPr b="0" i="1" lang="en-GB" sz="1600" spc="-1" strike="noStrike">
                <a:solidFill>
                  <a:srgbClr val="ffffff"/>
                </a:solidFill>
                <a:latin typeface="Garamond"/>
              </a:rPr>
              <a:t>and</a:t>
            </a:r>
            <a:r>
              <a:rPr b="0" lang="en-GB" sz="1600" spc="-1" strike="noStrike">
                <a:solidFill>
                  <a:srgbClr val="ffffff"/>
                </a:solidFill>
                <a:latin typeface="Garamond"/>
              </a:rPr>
              <a:t> a consummate showman”.</a:t>
            </a:r>
            <a:endParaRPr b="0" lang="en-US" sz="1600" spc="-1" strike="noStrike">
              <a:solidFill>
                <a:srgbClr val="ffffff"/>
              </a:solidFill>
              <a:latin typeface="Garamond"/>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Joy S. Kasson, </a:t>
            </a:r>
            <a:r>
              <a:rPr b="1" i="1" lang="en-GB" sz="1400" spc="-1" strike="noStrike">
                <a:solidFill>
                  <a:srgbClr val="ffffff"/>
                </a:solidFill>
                <a:latin typeface="Garamond"/>
              </a:rPr>
              <a:t>Buffalo Bill’s Wild West: Celebrity, Memory and Popular History, (New York 2000).</a:t>
            </a:r>
            <a:r>
              <a:rPr b="0" lang="en-GB" sz="1400" spc="-1" strike="noStrike">
                <a:solidFill>
                  <a:srgbClr val="ffffff"/>
                </a:solidFill>
                <a:latin typeface="Garamond"/>
              </a:rPr>
              <a:t> </a:t>
            </a:r>
            <a:endParaRPr b="0" lang="en-US" sz="14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did Buffalo Bill write his book so early in his career? Was he trying to prove that he had, in fact, lived the life he was now depicting on the stage?</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Some interesting quotes:</a:t>
            </a:r>
            <a:endParaRPr b="0" lang="en-US" sz="16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Refers to his birth as “my debut upon the world’s stage”.</a:t>
            </a:r>
            <a:endParaRPr b="0" lang="en-US" sz="14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a:t>
            </a:r>
            <a:r>
              <a:rPr b="0" lang="en-GB" sz="14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400" spc="-1" strike="noStrike">
              <a:solidFill>
                <a:srgbClr val="ffffff"/>
              </a:solidFill>
              <a:latin typeface="Garamond"/>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Does the authenticity of the book really matter?</a:t>
            </a:r>
            <a:endParaRPr b="0" lang="en-US" sz="1600" spc="-1" strike="noStrike">
              <a:solidFill>
                <a:srgbClr val="ffffff"/>
              </a:solidFill>
              <a:latin typeface="Garamond"/>
            </a:endParaRPr>
          </a:p>
          <a:p>
            <a:pPr lvl="1" marL="7056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First Appearances on Stag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re were plays and dime novels about Buffalo Bill </a:t>
            </a:r>
            <a:r>
              <a:rPr b="0" i="1" lang="en-GB" sz="2000" spc="-1" strike="noStrike">
                <a:solidFill>
                  <a:srgbClr val="ffffff"/>
                </a:solidFill>
                <a:latin typeface="Garamond"/>
              </a:rPr>
              <a:t>before</a:t>
            </a:r>
            <a:r>
              <a:rPr b="0" lang="en-GB" sz="2000" spc="-1" strike="noStrike">
                <a:solidFill>
                  <a:srgbClr val="ffffff"/>
                </a:solidFill>
                <a:latin typeface="Garamond"/>
              </a:rPr>
              <a:t> he began producing his own show. He had already become a character in popular cultur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n he went to see one of these plays, he was asked to make a short appearance on stage. He writes;</a:t>
            </a:r>
            <a:endParaRPr b="0" lang="en-US" sz="2000" spc="-1" strike="noStrike">
              <a:solidFill>
                <a:srgbClr val="ffffff"/>
              </a:solidFill>
              <a:latin typeface="Garamond"/>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I never felt more relieved in my life than when I got out of the view of that immense crowd”.</a:t>
            </a:r>
            <a:endParaRPr b="0" lang="en-US" sz="16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During the first years of his show, the late 1870s, he continued to scout for the U.S Army over the summer. </a:t>
            </a:r>
            <a:endParaRPr b="0" lang="en-US" sz="2000" spc="-1" strike="noStrike">
              <a:solidFill>
                <a:srgbClr val="ffffff"/>
              </a:solidFill>
              <a:latin typeface="Garamond"/>
            </a:endParaRPr>
          </a:p>
        </p:txBody>
      </p:sp>
      <p:sp>
        <p:nvSpPr>
          <p:cNvPr id="1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Wild West Show</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At the turn of the 20</a:t>
            </a:r>
            <a:r>
              <a:rPr b="0" lang="en-GB" sz="1600" spc="-1" strike="noStrike" baseline="30000">
                <a:solidFill>
                  <a:srgbClr val="ffffff"/>
                </a:solidFill>
                <a:latin typeface="Garamond"/>
              </a:rPr>
              <a:t>th</a:t>
            </a:r>
            <a:r>
              <a:rPr b="0" lang="en-GB" sz="1600" spc="-1" strike="noStrike">
                <a:solidFill>
                  <a:srgbClr val="ffffff"/>
                </a:solidFill>
                <a:latin typeface="Garamond"/>
              </a:rPr>
              <a:t> century, millions of people around the world thought they remembered the American Wild West because they had seen it, full of life and colour, smoking guns and galloping horses, presided over by the most recognisable celebrity of his day: William F. Cody, or Buffalo Bill”.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a:t>
            </a:r>
            <a:endParaRPr b="0" lang="en-US" sz="14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s show was exceptionally popular, performing all over the U.S.A and in Europe. He even performed the show twice for Queen Victoria.</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was it so popular?</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began in 1882 as part of a 4</a:t>
            </a:r>
            <a:r>
              <a:rPr b="0" lang="en-GB" sz="1600" spc="-1" strike="noStrike" baseline="30000">
                <a:solidFill>
                  <a:srgbClr val="ffffff"/>
                </a:solidFill>
                <a:latin typeface="Garamond"/>
              </a:rPr>
              <a:t>th</a:t>
            </a:r>
            <a:r>
              <a:rPr b="0" lang="en-GB" sz="1600" spc="-1" strike="noStrike">
                <a:solidFill>
                  <a:srgbClr val="ffffff"/>
                </a:solidFill>
                <a:latin typeface="Garamond"/>
              </a:rPr>
              <a:t>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600" spc="-1" strike="noStrike">
              <a:solidFill>
                <a:srgbClr val="ffffff"/>
              </a:solidFill>
              <a:latin typeface="Garamond"/>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ild West 2</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show had a great emphasis on authenticity. Of Cody it is said, “he insisted on authenticity of detail in the Wild West, which was never called show or circus, but rather an exhibitio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xvi.</a:t>
            </a:r>
            <a:endParaRPr b="0" lang="en-US" sz="1400" spc="-1" strike="noStrike">
              <a:solidFill>
                <a:srgbClr val="ffffff"/>
              </a:solidFill>
              <a:latin typeface="Garamond"/>
            </a:endParaRPr>
          </a:p>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a:t>
            </a:r>
            <a:r>
              <a:rPr b="1" lang="en-GB" sz="1400" spc="-1" strike="noStrike">
                <a:solidFill>
                  <a:srgbClr val="ffffff"/>
                </a:solidFill>
                <a:latin typeface="Garamond"/>
              </a:rPr>
              <a:t>Slotkin, </a:t>
            </a:r>
            <a:r>
              <a:rPr b="1" i="1" lang="en-GB" sz="1400" spc="-1" strike="noStrike">
                <a:solidFill>
                  <a:srgbClr val="ffffff"/>
                </a:solidFill>
                <a:latin typeface="Garamond"/>
              </a:rPr>
              <a:t>Gunfighter Nation</a:t>
            </a:r>
            <a:r>
              <a:rPr b="1" lang="en-GB" sz="1400" spc="-1" strike="noStrike">
                <a:solidFill>
                  <a:srgbClr val="ffffff"/>
                </a:solidFill>
                <a:latin typeface="Garamond"/>
              </a:rPr>
              <a:t>, p.68.</a:t>
            </a:r>
            <a:endParaRPr b="0" lang="en-US" sz="14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Joy Kasson remarks of the show, “it blurred the lines between fiction and fact, entertainment and education”.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 </a:t>
            </a:r>
            <a:r>
              <a:rPr b="0" lang="en-GB" sz="1600" spc="-1" strike="noStrike">
                <a:solidFill>
                  <a:srgbClr val="ffffff"/>
                </a:solidFill>
                <a:latin typeface="Garamond"/>
              </a:rPr>
              <a:t>It began the link between American national identity and popular culture that is the subject of Slotkin’s book </a:t>
            </a:r>
            <a:r>
              <a:rPr b="0" i="1" lang="en-GB" sz="1600" spc="-1" strike="noStrike">
                <a:solidFill>
                  <a:srgbClr val="ffffff"/>
                </a:solidFill>
                <a:latin typeface="Garamond"/>
              </a:rPr>
              <a:t>Gunfighter Nation, </a:t>
            </a:r>
            <a:r>
              <a:rPr b="0" lang="en-GB" sz="1600" spc="-1" strike="noStrike">
                <a:solidFill>
                  <a:srgbClr val="ffffff"/>
                </a:solidFill>
                <a:latin typeface="Garamond"/>
              </a:rPr>
              <a:t>where the Wild West is used as a metaphor for all types of American national experience.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600" spc="-1" strike="noStrike">
              <a:solidFill>
                <a:srgbClr val="ffffff"/>
              </a:solidFill>
              <a:latin typeface="Garamond"/>
            </a:endParaRPr>
          </a:p>
        </p:txBody>
      </p:sp>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nd the Indian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6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28.</a:t>
            </a:r>
            <a:endParaRPr b="0" lang="en-US" sz="14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at the Indians thought of it all is, unfortunately, unknown.</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7" name="Picture 8" descr="Sitting_Bull-Buffalo_Bill"/>
          <p:cNvPicPr/>
          <p:nvPr/>
        </p:nvPicPr>
        <p:blipFill>
          <a:blip r:embed="rId1"/>
          <a:stretch/>
        </p:blipFill>
        <p:spPr>
          <a:xfrm>
            <a:off x="6588000" y="4941720"/>
            <a:ext cx="1038240" cy="156852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t Disney</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4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land website states this; </a:t>
            </a:r>
            <a:endParaRPr b="0" lang="en-US" sz="14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unique dinner- show in Europe! Exceptional atmosphere </a:t>
            </a:r>
            <a:br>
              <a:rPr sz="1200"/>
            </a:br>
            <a:r>
              <a:rPr b="0" lang="en-GB" sz="1200" spc="-1" strike="noStrike">
                <a:solidFill>
                  <a:srgbClr val="ffffff"/>
                </a:solidFill>
                <a:latin typeface="Garamond"/>
              </a:rPr>
              <a:t> </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Imagine…</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GB"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GB"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400" spc="-1" strike="noStrike">
              <a:solidFill>
                <a:srgbClr val="ffffff"/>
              </a:solidFill>
              <a:latin typeface="Garamon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31" name="Picture 5" descr="arene"/>
          <p:cNvPicPr/>
          <p:nvPr/>
        </p:nvPicPr>
        <p:blipFill>
          <a:blip r:embed="rId1"/>
          <a:stretch/>
        </p:blipFill>
        <p:spPr>
          <a:xfrm>
            <a:off x="7308720" y="260280"/>
            <a:ext cx="1619280" cy="1190520"/>
          </a:xfrm>
          <a:prstGeom prst="rect">
            <a:avLst/>
          </a:prstGeom>
          <a:ln w="0">
            <a:noFill/>
          </a:ln>
        </p:spPr>
      </p:pic>
      <p:pic>
        <p:nvPicPr>
          <p:cNvPr id="132" name="Picture 7" descr="cavalcade"/>
          <p:cNvPicPr/>
          <p:nvPr/>
        </p:nvPicPr>
        <p:blipFill>
          <a:blip r:embed="rId2"/>
          <a:stretch/>
        </p:blipFill>
        <p:spPr>
          <a:xfrm>
            <a:off x="179280" y="5300640"/>
            <a:ext cx="1619280" cy="1190520"/>
          </a:xfrm>
          <a:prstGeom prst="rect">
            <a:avLst/>
          </a:prstGeom>
          <a:ln w="0">
            <a:noFill/>
          </a:ln>
        </p:spPr>
      </p:pic>
      <p:pic>
        <p:nvPicPr>
          <p:cNvPr id="133" name="Picture 9" descr="chapeaux"/>
          <p:cNvPicPr/>
          <p:nvPr/>
        </p:nvPicPr>
        <p:blipFill>
          <a:blip r:embed="rId3"/>
          <a:stretch/>
        </p:blipFill>
        <p:spPr>
          <a:xfrm>
            <a:off x="7308720" y="5300640"/>
            <a:ext cx="1609920" cy="1190520"/>
          </a:xfrm>
          <a:prstGeom prst="rect">
            <a:avLst/>
          </a:prstGeom>
          <a:ln w="0">
            <a:noFill/>
          </a:ln>
        </p:spPr>
      </p:pic>
      <p:pic>
        <p:nvPicPr>
          <p:cNvPr id="134" name="Picture 11" descr="team"/>
          <p:cNvPicPr/>
          <p:nvPr/>
        </p:nvPicPr>
        <p:blipFill>
          <a:blip r:embed="rId4"/>
          <a:stretch/>
        </p:blipFill>
        <p:spPr>
          <a:xfrm>
            <a:off x="179280" y="189000"/>
            <a:ext cx="1619280" cy="1190520"/>
          </a:xfrm>
          <a:prstGeom prst="rect">
            <a:avLst/>
          </a:prstGeom>
          <a:ln w="0">
            <a:noFill/>
          </a:ln>
        </p:spPr>
      </p:pic>
      <p:pic>
        <p:nvPicPr>
          <p:cNvPr id="135" name="Picture 13" descr="Frontierland"/>
          <p:cNvPicPr/>
          <p:nvPr/>
        </p:nvPicPr>
        <p:blipFill>
          <a:blip r:embed="rId5"/>
          <a:stretch/>
        </p:blipFill>
        <p:spPr>
          <a:xfrm>
            <a:off x="3564000" y="5229360"/>
            <a:ext cx="2144520" cy="1152360"/>
          </a:xfrm>
          <a:prstGeom prst="rect">
            <a:avLst/>
          </a:prstGeom>
          <a:ln w="0">
            <a:noFill/>
          </a:ln>
        </p:spPr>
      </p:pic>
      <p:sp>
        <p:nvSpPr>
          <p:cNvPr id="13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a:t>
            </a:r>
            <a:r>
              <a:rPr b="0" i="1" lang="en-GB" sz="2000" spc="-1" strike="noStrike">
                <a:solidFill>
                  <a:srgbClr val="ffffff"/>
                </a:solidFill>
                <a:latin typeface="Garamond"/>
              </a:rPr>
              <a:t>was </a:t>
            </a:r>
            <a:r>
              <a:rPr b="0" lang="en-GB" sz="2000" spc="-1" strike="noStrike">
                <a:solidFill>
                  <a:srgbClr val="ffffff"/>
                </a:solidFill>
                <a:latin typeface="Garamond"/>
              </a:rPr>
              <a:t>the American West? </a:t>
            </a:r>
            <a:endParaRPr b="0" lang="en-US" sz="2000" spc="-1" strike="noStrike">
              <a:solidFill>
                <a:srgbClr val="ffffff"/>
              </a:solidFill>
              <a:latin typeface="Garamond"/>
            </a:endParaRPr>
          </a:p>
        </p:txBody>
      </p:sp>
      <p:sp>
        <p:nvSpPr>
          <p:cNvPr id="13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08:56:11Z</dcterms:created>
  <dc:creator>Johnstone</dc:creator>
  <dc:description/>
  <dc:language>en-US</dc:language>
  <cp:lastModifiedBy>Legion</cp:lastModifiedBy>
  <dcterms:modified xsi:type="dcterms:W3CDTF">2017-07-05T07:52:47Z</dcterms:modified>
  <cp:revision>6</cp:revision>
  <dc:subject/>
  <dc:title>Buffalo Bill and the Wild West</dc:title>
</cp:coreProperties>
</file>