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3CAB-4771-42EF-91E7-84A1F6966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A37-6811-4892-B8EB-DBAC1440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C45-16F4-4542-A3C5-105BFCD5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D92-4A42-4678-8825-8B78AE7A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B30-7485-406D-BBD3-3E39DD7C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7CF-76BB-470F-B9E5-CD629629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F00-BC18-4351-AC53-7F8A5A6A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B41-C48B-453C-84E4-D280AAFD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087-E3DF-4612-9E25-8538C1CA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8BC-D51A-49F4-9576-9CEB2E3F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129-FCD0-437D-B2A9-D18666B5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68E-80A0-424C-BCAD-ACDDEFFD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CF9-7306-4FB7-8371-C6FC4CBE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D63A-E9D4-4A62-AE36-10F943574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rdonn.org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60948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Sylfaen"/>
              </a:rPr>
              <a:t>Child of Water &amp; Little Blue 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ylfaen"/>
              </a:rPr>
              <a:t>A Native American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Loosely based on an Apache My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28800" y="28954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ll Apache children know, it is a wise thing to hunt for turquoise blue rocks. This myth explains why.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8800" y="5029200"/>
            <a:ext cx="623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Retold by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Sylfaen"/>
                <a:hlinkClick r:id="rId1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llustrated by Phillip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rock1.gif"/>
          <p:cNvPicPr/>
          <p:nvPr/>
        </p:nvPicPr>
        <p:blipFill>
          <a:blip r:embed="rId2"/>
          <a:stretch/>
        </p:blipFill>
        <p:spPr>
          <a:xfrm>
            <a:off x="5486400" y="1295280"/>
            <a:ext cx="333072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1295280" y="2133720"/>
            <a:ext cx="358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ll Apache children know, it is a wise thing to hunt for turquoise blue r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 find one, you too might find yourself some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rock1.gif"/>
          <p:cNvPicPr/>
          <p:nvPr/>
        </p:nvPicPr>
        <p:blipFill>
          <a:blip r:embed="rId1"/>
          <a:stretch/>
        </p:blipFill>
        <p:spPr>
          <a:xfrm>
            <a:off x="4952880" y="762120"/>
            <a:ext cx="3330720" cy="53146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6094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0082"/>
                </a:solidFill>
                <a:latin typeface="Sylfaen"/>
              </a:rPr>
              <a:t>To Learn M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0" y="185724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aaaam.gif"/>
          <p:cNvPicPr/>
          <p:nvPr/>
        </p:nvPicPr>
        <p:blipFill>
          <a:blip r:embed="rId1"/>
          <a:stretch/>
        </p:blipFill>
        <p:spPr>
          <a:xfrm>
            <a:off x="357120" y="1285920"/>
            <a:ext cx="3971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8" descr="BANNER 2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322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62120" y="4191120"/>
            <a:ext cx="7772400" cy="155628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is brought to you by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Pete’s Power Point Statio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7e4e99"/>
                </a:solidFill>
                <a:latin typeface="Times New Roman"/>
              </a:rPr>
              <a:t>Visit us on the web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p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5880" y="164304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55" name="Picture 5" descr="rock2.gif"/>
          <p:cNvPicPr/>
          <p:nvPr/>
        </p:nvPicPr>
        <p:blipFill>
          <a:blip r:embed="rId1"/>
          <a:stretch/>
        </p:blipFill>
        <p:spPr>
          <a:xfrm>
            <a:off x="5581800" y="990720"/>
            <a:ext cx="3562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41911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48320" y="16430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Here are the rules," said Child of Water. He carefully explained that he would be on one side of the cliff and the monster would be on the oth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0" name="Picture 3" descr="rock3.gif"/>
          <p:cNvPicPr/>
          <p:nvPr/>
        </p:nvPicPr>
        <p:blipFill>
          <a:blip r:embed="rId1"/>
          <a:stretch/>
        </p:blipFill>
        <p:spPr>
          <a:xfrm>
            <a:off x="380880" y="163836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733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85880" y="1917720"/>
            <a:ext cx="428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o you accept these rules and promise to follow them?" chanted Child of Water, in the way of the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 was only a very small boy. But he knew the chant was binding. It was a promise that must be k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5" name="Picture 4" descr="rock5.gif"/>
          <p:cNvPicPr/>
          <p:nvPr/>
        </p:nvPicPr>
        <p:blipFill>
          <a:blip r:embed="rId1"/>
          <a:stretch/>
        </p:blipFill>
        <p:spPr>
          <a:xfrm>
            <a:off x="5000760" y="1143000"/>
            <a:ext cx="34718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000760" y="164304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I'll play your silly game," laughed the mon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First I'll shoot you full of arrows. Then I'll eat you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mothe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fo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9" name="Picture 3" descr="rock4a.gif"/>
          <p:cNvPicPr/>
          <p:nvPr/>
        </p:nvPicPr>
        <p:blipFill>
          <a:blip r:embed="rId1"/>
          <a:stretch/>
        </p:blipFill>
        <p:spPr>
          <a:xfrm>
            <a:off x="642960" y="0"/>
            <a:ext cx="40910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57200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thinking about this satisfying treat had the monster smacking his l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85880" y="1643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85880" y="442908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shot four arrows at Child of Water. To his surprise, all his arrows missed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rock6.gif"/>
          <p:cNvPicPr/>
          <p:nvPr/>
        </p:nvPicPr>
        <p:blipFill>
          <a:blip r:embed="rId1"/>
          <a:stretch/>
        </p:blipFill>
        <p:spPr>
          <a:xfrm>
            <a:off x="3714840" y="3124080"/>
            <a:ext cx="5429160" cy="31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85880" y="3214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nster did not care about the rules. He did not wait for the sig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71960" y="16430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80" name="Picture 3" descr="rock8A.gif"/>
          <p:cNvPicPr/>
          <p:nvPr/>
        </p:nvPicPr>
        <p:blipFill>
          <a:blip r:embed="rId1"/>
          <a:stretch/>
        </p:blipFill>
        <p:spPr>
          <a:xfrm>
            <a:off x="214200" y="1571760"/>
            <a:ext cx="4011840" cy="481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572000" y="41911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n, everyone had gathered around. What a noise they made that night rejoic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85880" y="164304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3680" y="316872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ime went on, and as Child of Water grew taller, each of the other monsters in the land  came to challenge him, one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ock7.gif"/>
          <p:cNvPicPr/>
          <p:nvPr/>
        </p:nvPicPr>
        <p:blipFill>
          <a:blip r:embed="rId1"/>
          <a:stretch/>
        </p:blipFill>
        <p:spPr>
          <a:xfrm>
            <a:off x="857160" y="2857680"/>
            <a:ext cx="4214880" cy="3882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85880" y="2057400"/>
            <a:ext cx="393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ime, wearing his lucky blue rock, each monster's arrows missed Child of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Child of Water's arrows killed each monster, every time, until all the monsters were go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90" name="Picture 3" descr="rock8.gif"/>
          <p:cNvPicPr/>
          <p:nvPr/>
        </p:nvPicPr>
        <p:blipFill>
          <a:blip r:embed="rId1"/>
          <a:stretch/>
        </p:blipFill>
        <p:spPr>
          <a:xfrm>
            <a:off x="4648320" y="1219320"/>
            <a:ext cx="4011480" cy="4814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19:36Z</dcterms:created>
  <dc:creator>Lin Donn</dc:creator>
  <dc:description>Illustrated by Phillip Martin</dc:description>
  <cp:keywords>Native American Myth</cp:keywords>
  <dc:language>en-US</dc:language>
  <cp:lastModifiedBy>Legion</cp:lastModifiedBy>
  <dcterms:modified xsi:type="dcterms:W3CDTF">2017-07-05T07:36:29Z</dcterms:modified>
  <cp:revision>55</cp:revision>
  <dc:subject/>
  <dc:title>Child of Water &amp; Little Blue Rock</dc:title>
</cp:coreProperties>
</file>