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12E1-4502-42BE-A09A-46DEB553C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&amp; Little Blue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ive American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ly based on an Apache My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This myth explains why. 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old by Lin Don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ed by Phillip Mar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&amp; Little Blue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ive American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ly based on an Apache My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This myth explains why. 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old by Lin Don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ed by Phillip Mar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 find one, you too might find yourself some lu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 find one, you too might find yourself some lu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brought to you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ete’s Power Point St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 us on the web at ppps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brought to you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ete’s Power Point St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 us on the web at ppps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Here are the rules," said Child of Water. He carefully explained that he would be on one side of the cliff and the monster would be on the other.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Here are the rules," said Child of Water. He carefully explained that he would be on one side of the cliff and the monster would be on the other.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Do you accept these rules and promise to follow them?" chanted Child of Water, in the way of the peop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was only a very small boy. But he knew the chant was binding. It was a promise that must be kep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Do you accept these rules and promise to follow them?" chanted Child of Water, in the way of the peop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was only a very small boy. But he knew the chant was binding. It was a promise that must be kep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'll play your silly game," laughed the mon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First I'll shoot you full of arrows. Then I'll eat you, and your mother and all your food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ing about this satisfying treat had the monster smacking his li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'll play your silly game," laughed the mon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First I'll shoot you full of arrows. Then I'll eat you, and your mother and all your food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ing about this satisfying treat had the monster smacking his li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hot four arrows at Child of Water. To his surprise, all his arrows missed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ster did not care about the rules. He did not wait for the sig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hot four arrows at Child of Water. To his surprise, all his arrows missed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ster did not care about the rules. He did not wait for the sig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n, everyone had gathered around. What a noise they made that night rejoic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n, everyone had gathered around. What a noise they made that night rejoic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ime went on, and as Child of Water grew taller, each of the other monsters in the land  came to challenge him, one by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ime went on, and as Child of Water grew taller, each of the other monsters in the land  came to challenge him, one by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ime, wearing his lucky blue rock, each monster's arrows missed Child of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hild of Water's arrows killed each monster, every time, until all the monsters were gone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ime, wearing his lucky blue rock, each monster's arrows missed Child of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hild of Water's arrows killed each monster, every time, until all the monsters were gone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37D9-4F47-424C-A87C-A8604DAF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753F-88BC-4851-8982-645C1C72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E7DE-7D12-41AD-B498-0B398208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BCB-8B0A-413E-91E4-DABE92E9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0F40-0398-4712-8451-AA460C17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B701-4E60-44B5-B5D0-6F4B56C0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F317-2618-4C3B-9E13-EC6C5083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B08D-182D-4607-9C32-4AC94982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8CC5-489A-46BF-9F04-41826032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B55A-1F45-4FB9-99C4-0A142C0A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BBBE-8009-4638-978B-4EAD4838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4748-0ECE-4F5A-BD5B-7CBF0B9D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1E04-07B2-4468-A3FE-8A1CC4A5A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rdonn.org/index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38080" y="609480"/>
            <a:ext cx="7696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0082"/>
                </a:solidFill>
                <a:latin typeface="Sylfaen"/>
              </a:rPr>
              <a:t>Child of Water &amp; Little Blue R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Sylfaen"/>
              </a:rPr>
              <a:t>A Native American 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Loosely based on an Apache My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928800" y="2895480"/>
            <a:ext cx="471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all Apache children know, it is a wise thing to hunt for turquoise blue rocks. This myth explains why.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28800" y="5029200"/>
            <a:ext cx="623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Retold by </a:t>
            </a:r>
            <a:r>
              <a:rPr b="0" lang="en-US" sz="2000" spc="-1" strike="noStrike" u="sng">
                <a:solidFill>
                  <a:srgbClr val="410082"/>
                </a:solidFill>
                <a:uFillTx/>
                <a:latin typeface="Sylfaen"/>
                <a:hlinkClick r:id="rId1"/>
              </a:rPr>
              <a:t>Lin Don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Illustrated by Phillip Mar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rock1.gif"/>
          <p:cNvPicPr/>
          <p:nvPr/>
        </p:nvPicPr>
        <p:blipFill>
          <a:blip r:embed="rId2"/>
          <a:stretch/>
        </p:blipFill>
        <p:spPr>
          <a:xfrm>
            <a:off x="5486400" y="1295280"/>
            <a:ext cx="3330720" cy="53150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3" name="Text Box 1029"/>
          <p:cNvSpPr/>
          <p:nvPr/>
        </p:nvSpPr>
        <p:spPr>
          <a:xfrm>
            <a:off x="1295280" y="2133720"/>
            <a:ext cx="358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all Apache children know, it is a wise thing to hunt for turquoise blue roc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 find one, you too might find yourself some lu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rock1.gif"/>
          <p:cNvPicPr/>
          <p:nvPr/>
        </p:nvPicPr>
        <p:blipFill>
          <a:blip r:embed="rId1"/>
          <a:stretch/>
        </p:blipFill>
        <p:spPr>
          <a:xfrm>
            <a:off x="4952880" y="762120"/>
            <a:ext cx="3330720" cy="53146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143000" y="609480"/>
            <a:ext cx="742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10082"/>
                </a:solidFill>
                <a:latin typeface="Sylfaen"/>
              </a:rPr>
              <a:t>To Learn Mo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572000" y="1857240"/>
            <a:ext cx="4143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aaaam.gif"/>
          <p:cNvPicPr/>
          <p:nvPr/>
        </p:nvPicPr>
        <p:blipFill>
          <a:blip r:embed="rId1"/>
          <a:stretch/>
        </p:blipFill>
        <p:spPr>
          <a:xfrm>
            <a:off x="357120" y="1285920"/>
            <a:ext cx="3971880" cy="4572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28" descr="BANNER 2"/>
          <p:cNvPicPr/>
          <p:nvPr/>
        </p:nvPicPr>
        <p:blipFill>
          <a:blip r:embed="rId1"/>
          <a:stretch/>
        </p:blipFill>
        <p:spPr>
          <a:xfrm>
            <a:off x="1295280" y="228600"/>
            <a:ext cx="6477120" cy="39211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2322720" y="3244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9c2d1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762120" y="4191120"/>
            <a:ext cx="7772400" cy="1556280"/>
          </a:xfrm>
          <a:prstGeom prst="rect">
            <a:avLst/>
          </a:prstGeom>
          <a:noFill/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This presentation is brought to you by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Pete’s Power Point Station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. </a:t>
            </a:r>
            <a:br>
              <a:rPr sz="3200"/>
            </a:br>
            <a:r>
              <a:rPr b="1" lang="en-US" sz="3200" spc="-1" strike="noStrike">
                <a:solidFill>
                  <a:srgbClr val="7e4e99"/>
                </a:solidFill>
                <a:latin typeface="Times New Roman"/>
              </a:rPr>
              <a:t>Visit us on the web 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ps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85880" y="164304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55" name="Picture 5" descr="rock2.gif"/>
          <p:cNvPicPr/>
          <p:nvPr/>
        </p:nvPicPr>
        <p:blipFill>
          <a:blip r:embed="rId1"/>
          <a:stretch/>
        </p:blipFill>
        <p:spPr>
          <a:xfrm>
            <a:off x="5581800" y="990720"/>
            <a:ext cx="3562200" cy="5029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762120" y="419112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648320" y="164304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Here are the rules," said Child of Water. He carefully explained that he would be on one side of the cliff and the monster would be on the oth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0" name="Picture 3" descr="rock3.gif"/>
          <p:cNvPicPr/>
          <p:nvPr/>
        </p:nvPicPr>
        <p:blipFill>
          <a:blip r:embed="rId1"/>
          <a:stretch/>
        </p:blipFill>
        <p:spPr>
          <a:xfrm>
            <a:off x="380880" y="163836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733920" y="4038480"/>
            <a:ext cx="487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785880" y="1917720"/>
            <a:ext cx="4286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Do you accept these rules and promise to follow them?" chanted Child of Water, in the way of the peop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ild of Water was only a very small boy. But he knew the chant was binding. It was a promise that must be kep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5" name="Picture 4" descr="rock5.gif"/>
          <p:cNvPicPr/>
          <p:nvPr/>
        </p:nvPicPr>
        <p:blipFill>
          <a:blip r:embed="rId1"/>
          <a:stretch/>
        </p:blipFill>
        <p:spPr>
          <a:xfrm>
            <a:off x="5000760" y="1143000"/>
            <a:ext cx="3471840" cy="51721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5000760" y="1643040"/>
            <a:ext cx="3929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I'll play your silly game," laughed the mons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First I'll shoot you full of arrows. Then I'll eat you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our mother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our food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9" name="Picture 3" descr="rock4a.gif"/>
          <p:cNvPicPr/>
          <p:nvPr/>
        </p:nvPicPr>
        <p:blipFill>
          <a:blip r:embed="rId1"/>
          <a:stretch/>
        </p:blipFill>
        <p:spPr>
          <a:xfrm>
            <a:off x="642960" y="0"/>
            <a:ext cx="40910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4572000" y="48769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 thinking about this satisfying treat had the monster smacking his li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785880" y="164304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785880" y="4429080"/>
            <a:ext cx="307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 shot four arrows at Child of Water. To his surprise, all his arrows missed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rock6.gif"/>
          <p:cNvPicPr/>
          <p:nvPr/>
        </p:nvPicPr>
        <p:blipFill>
          <a:blip r:embed="rId1"/>
          <a:stretch/>
        </p:blipFill>
        <p:spPr>
          <a:xfrm>
            <a:off x="3714840" y="3124080"/>
            <a:ext cx="5429160" cy="31845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785880" y="321480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nster did not care about the rules. He did not wait for the sig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4071960" y="1643040"/>
            <a:ext cx="471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80" name="Picture 3" descr="rock8A.gif"/>
          <p:cNvPicPr/>
          <p:nvPr/>
        </p:nvPicPr>
        <p:blipFill>
          <a:blip r:embed="rId1"/>
          <a:stretch/>
        </p:blipFill>
        <p:spPr>
          <a:xfrm>
            <a:off x="214200" y="1571760"/>
            <a:ext cx="4011840" cy="4814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4572000" y="419112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then, everyone had gathered around. What a noise they made that night rejoic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785880" y="164304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143680" y="3168720"/>
            <a:ext cx="3500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time went on, and as Child of Water grew taller, each of the other monsters in the land  came to challenge him, one by o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rock7.gif"/>
          <p:cNvPicPr/>
          <p:nvPr/>
        </p:nvPicPr>
        <p:blipFill>
          <a:blip r:embed="rId1"/>
          <a:stretch/>
        </p:blipFill>
        <p:spPr>
          <a:xfrm>
            <a:off x="857160" y="2857680"/>
            <a:ext cx="4214880" cy="38829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785880" y="2057400"/>
            <a:ext cx="3938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time, wearing his lucky blue rock, each monster's arrows missed Child of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Child of Water's arrows killed each monster, every time, until all the monsters were go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90" name="Picture 3" descr="rock8.gif"/>
          <p:cNvPicPr/>
          <p:nvPr/>
        </p:nvPicPr>
        <p:blipFill>
          <a:blip r:embed="rId1"/>
          <a:stretch/>
        </p:blipFill>
        <p:spPr>
          <a:xfrm>
            <a:off x="4648320" y="1219320"/>
            <a:ext cx="4011480" cy="48146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20:19:36Z</dcterms:created>
  <dc:creator>Lin Donn</dc:creator>
  <dc:description>Illustrated by Phillip Martin</dc:description>
  <cp:keywords>Native American Myth</cp:keywords>
  <dc:language>en-US</dc:language>
  <cp:lastModifiedBy>Legion</cp:lastModifiedBy>
  <dcterms:modified xsi:type="dcterms:W3CDTF">2017-07-05T07:36:29Z</dcterms:modified>
  <cp:revision>55</cp:revision>
  <dc:subject/>
  <dc:title>Child of Water &amp; Little Blue Rock</dc:title>
</cp:coreProperties>
</file>