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520C8-90C5-43B1-9254-5A67AD6F7A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mediate Algebr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 Gustafson and Fri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view of Basic Algeb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ociative – addition, 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utative – addition, 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ributive – multiplication is distributed over addi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(b + c) = ab + 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ropertie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ssociative – addition, multi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mmutative – addition, multi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tributive – multiplication is distributed over additio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 (b + c) = ab + a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ti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 –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 –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 – opposi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 – reciproc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dentitie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ition – zer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ultiplication – o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verse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ition – opposi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ultiplication – reciproca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3: Definition of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NENTS: repeated 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expression: a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the base and n is the ex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nents are NOT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s to multiply “a” n 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3: Definition of Expon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XPONENTS: repeated multi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 the expression: an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 is the base and n is the expon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xponents are NOT fa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eans to multiply “a” n tim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3: Definition of Ex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 OF OPERATION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 algebraic expression has more than one operation, the following order appl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r up any group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e expon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multiplication and division from left to r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addition and subtraction from left to r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3: Definition of Expon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ORDER OF OPERATION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f an algebraic expression has more than one operation, the following order applie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lear up any group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valuate expone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o multiplication and division from left to righ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o addition and subtraction from left to righ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5: Solving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gebraic Expression vs. Eq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ons: a combination of numbers and op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uation: a statement that two expressions are eq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5: Solving Equ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lgebraic Expression vs. Equ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xpressions: a combination of numbers and oper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quation: a statement that two expressions are equ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5: Solving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RESSION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multiplying, the terms do not need to be ali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only add like term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5: Solving Equ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XPRESSIONS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e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Like te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hen multiplying, the terms do not need to be alik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an only add like terms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5: Solving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OLVE AN EQUATION IN ONE VARIAB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see fractions, multiply both sides by the LCD. This will eliminate the fr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ify the algebraic expressions on each side of the equal sign (eliminate parentheses and combine like term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e addition property of equality to isolate the variable terms from the constant terms on opposite sides of the equal sig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e multiplication property to make the coefficient  of the variable equal to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your results by evalu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5: Solving Equ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O SOLVE AN EQUATION IN ONE VARIABL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f you see fractions, multiply both sides by the LCD. This will eliminate the frac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implify the algebraic expressions on each side of the equal sign (eliminate parentheses and combine like terms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se the addition property of equality to isolate the variable terms from the constant terms on opposite sides of the equal sig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se the multiplication property to make the coefficient  of the variable equal to o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heck your results by evaluat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5: Solving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EQUA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AL: if x equals this, then y equals th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TY: always true no matter what numbers you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DICTION: never true no matter what numbers you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S: conditional equations that model a relationship between the variab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5: Solving Equ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YPES OF EQUATION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DITIONAL: if x equals this, then y equals tha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DENTITY: always true no matter what numbers you u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TRADICTION: never true no matter what numbers you u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FORMULAS: conditional equations that model a relationship between the variabl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6 &amp; 1.7: Solving Problems,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PROBLE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(forc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form 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‘ole common sense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: Basic Algebra 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 YOUR VOCABULARY! You can’t follow directions if you don’t know what the words in the instructions me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ize the processes and the proper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ill provide formulas for your refer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questions if you are un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check your work to make sure that you answered the question, and that your answer is reason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hapter 1: Basic Algebra Revie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UMMARY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KNOW YOUR VOCABULARY! You can’t follow directions if you don’t know what the words in the instructions mea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emorize the processes and the propert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 will provide formulas for your referen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sk questions if you are unsu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lways check your work to make sure that you answered the question, and that your answer is reasonab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1: The Real Numbe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S: collections of obje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l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ration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ativ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d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{  }  {x | x &gt; 5}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read “the set of all x such that x is greater than 5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1: The Real Numbe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TS: collections of objec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atur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hole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ation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rration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g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ositive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egative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Even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Odd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Use {  }  {x | x &gt; 5}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s read “the set of all x such that x is greater than 5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1: The Real Numbe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: plot on the number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vidual numbers are d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1: The Real Numbe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APHS: plot on the number 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vidual numbers are do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1: The Real Numbe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: plot on the number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vals including end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1: The Real Numbe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APHS: plot on the number 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vals including end poi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[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]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1: The Real Numbe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: plot on the number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vals not including end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1: The Real Numbe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APHS: plot on the number 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tervals not including end poi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(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ION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ion (the same as adding a number with the opposite sig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vision (the same as multiplying by the recipro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ends that have opposite sig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ract absolute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the sign of the addend with the largest absolute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ends that have the same sig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absolute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the sign of the adde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ITION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ends that have opposite sig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ubtract absolute valu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Keep the sign of the addend with the largest absolute valu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ends that have the same sig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dd absolute valu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Keep the sign of the adde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ICA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absolute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actors have the same sign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is posi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factors have opposite signs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is 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ULTIPLICATION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ultiply absolute valu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f the factors have the same signs,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he product is positi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f the factors have opposite signs,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he product is negati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STICS: measures of central tendenc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ection 1.2: Arithmetic &amp; Properties of Real Numb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TATISTICS: measures of central tendenc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ea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edia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o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9E24-9A1A-43C5-949D-6299A116B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2171-3C1E-42BE-8926-DE7126897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586D-945E-430E-B56D-95F89DB79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B2DD-F2A0-4BFA-A567-5361C378C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B6A74-9CCA-4C6C-A5AE-03E2B11BB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8A045-350E-42B6-922E-D6B0B9A37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4DD54-B1D1-41EF-A533-36C17F537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094FF-955A-4C60-9947-B4291EAC7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72EE3-FBFB-4F49-AAC7-D36E7545E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2CE40-3084-4741-B7AE-17441C59D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3C16F-ED32-47F4-86F2-07BD0258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65FC-299C-468A-8792-B13428D64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FB0D7-7B02-40D5-9419-A6F132FC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77C00-F4AE-4750-BA9F-238B65B2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2B66C-B639-4686-BC48-F5D360D8D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7BB6D-982E-4BC2-A025-27D731E89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096CC-4304-45A3-A153-753AB7850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BFDC-9906-4D3F-BB47-00EF2D4F9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4384-0EBC-4747-B047-69475659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D2B8-449B-4071-9876-DFAD1ABD3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70A7-5877-491C-8642-5CC2F405B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79C1-3535-4655-87CC-92B6176C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6F3C-4F8B-4573-B4E0-D2EF20FC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DD95-36B2-427D-89BF-D196E647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D9387-E02C-4053-B2C7-2B839321633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4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734CD-4C53-431E-886E-B0BED33919A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ntermediate Algebra</a:t>
            </a:r>
            <a:br>
              <a:rPr sz="4400"/>
            </a:b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by Gustafson and Frisk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hapter 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Review of Basic Algeb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Місце для нижнього колонтитула 3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Properti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23"/>
          <p:cNvSpPr/>
          <p:nvPr/>
        </p:nvSpPr>
        <p:spPr>
          <a:xfrm>
            <a:off x="914400" y="1905120"/>
            <a:ext cx="75438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ssociative – addition, multi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tative – addition, multi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24"/>
          <p:cNvSpPr/>
          <p:nvPr/>
        </p:nvSpPr>
        <p:spPr>
          <a:xfrm>
            <a:off x="1066680" y="41148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tributive – multiplication is distributed over addition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(b + c) = ab + a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dentiti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914400" y="1905120"/>
            <a:ext cx="75438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ition – zer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ication – o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Placeholder 26"/>
          <p:cNvSpPr/>
          <p:nvPr/>
        </p:nvSpPr>
        <p:spPr>
          <a:xfrm>
            <a:off x="914400" y="358128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Inverse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914400" y="4343400"/>
            <a:ext cx="75438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ition – oppos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plication – reciproc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Місце для нижнього колонтитула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3: Definition of Ex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XPONENTS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peated multipl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914400" y="2286000"/>
            <a:ext cx="754380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e expression: a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is the base and n is the expon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onents are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NO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fac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ns to multiply “a” n ti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Місце для нижнього колонтитула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7" dur="1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3: Definition of Ex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ORDER OF OPERATION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914400" y="1905120"/>
            <a:ext cx="7543800" cy="42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an algebraic expression has more than one operation, the following order appli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ear up any group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aluate exponent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multiplication and division from left to righ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addition and subtraction from left to righ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Місце для нижнього колонтитула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5: Solving Equ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lgebraic Expression vs. Eq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3"/>
          <p:cNvSpPr/>
          <p:nvPr/>
        </p:nvSpPr>
        <p:spPr>
          <a:xfrm>
            <a:off x="914400" y="2286000"/>
            <a:ext cx="7543800" cy="21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ressions: a combination of numbers and ope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quation: a statement that two expressions are equ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Місце для нижнього колонтитула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5: Solving Equ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EXPRESSION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914400" y="2286000"/>
            <a:ext cx="754380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ke ter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n multiplying, the terms do not need to be ali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Can only add like term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Місце для нижнього колонтитула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5: Solving Equ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O SOLVE AN EQUATION IN ONE VARIAB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914400" y="1905120"/>
            <a:ext cx="7848720" cy="44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you see fractions,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multiply both sides by the LC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This will eliminate the frac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Simplif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the algebraic expressions on each side of the equal sign (eliminate parentheses and combine like term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the addition property of equality to 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isolate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variable terms from the constant terms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 opposite sides of the equal sig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 the multiplication property to make the coefficient  of the variable equal to o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heck your results by evaluat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Місце для нижнього колонтитула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29" dur="indefinite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30" dur="indefinite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31" dur="indefinite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35" dur="indefinite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36" dur="indefinite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37" dur="indefinite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41" dur="indefinite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42" dur="indefinite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43" dur="indefinite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47" dur="indefinite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48" dur="indefinite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49" dur="indefinite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mph" presetID="5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53" dur="indefinite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indefinite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indefinite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5: Solving Equ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TYPES OF EQUA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914400" y="1905120"/>
            <a:ext cx="7543800" cy="47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DITIONAL: if x equals this, then y equals tha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ENTITY: always true no matter what numbers you 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RADICTION: never true no matter what numbers you 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MULAS: conditional equations that model a relationship between the variab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Місце для нижнього колонтитула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20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6 &amp; 1.7: Solving Problems,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ahoma"/>
              </a:rPr>
              <a:t>TYPES OF PROBLEM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914400" y="1905120"/>
            <a:ext cx="7543800" cy="35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eome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rc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ysics (forc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iform mo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ixt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ood ‘ole common sense analy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Місце для нижнього колонтитула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0800000">
                                      <p:cBhvr>
                                        <p:cTn id="420" dur="5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Chapter 1: Basic Algebra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SUMMARY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914400" y="1905120"/>
            <a:ext cx="7543800" cy="47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NOW YOUR VOCABULARY!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can’t follow directions if you don’t know what the words in the instructions me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morize the processes and the properti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 will provide formulas for your refere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k questions if you are unsu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ways check your work to make sure that you answered the question, and that your answer is reasona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Місце для нижнього колонтитула 4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1" dur="1000" fill="hold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90560" y="274320"/>
            <a:ext cx="6095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1: The Real Number System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142640"/>
            <a:ext cx="77724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SETS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llections of objec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7720" y="2209680"/>
            <a:ext cx="3505320" cy="25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tural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ole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ational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rrational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l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76560" y="2209680"/>
            <a:ext cx="3431880" cy="27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eg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itive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gative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ven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dd Numb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Content Placeholder 25"/>
          <p:cNvSpPr/>
          <p:nvPr/>
        </p:nvSpPr>
        <p:spPr>
          <a:xfrm>
            <a:off x="914400" y="4800600"/>
            <a:ext cx="7315200" cy="15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28800" indent="-1828800"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se {  } 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{x | x &gt; 5}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s read “the set of all x such that x is greater than 5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1828800" indent="-18288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590560" y="274320"/>
            <a:ext cx="609588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1: The Real Number System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GRAPHS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ot on the number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1600200" y="4038480"/>
            <a:ext cx="6324480" cy="1178640"/>
            <a:chOff x="1600200" y="4038480"/>
            <a:chExt cx="6324480" cy="1178640"/>
          </a:xfrm>
        </p:grpSpPr>
        <p:sp>
          <p:nvSpPr>
            <p:cNvPr id="128" name="Rectangle 6"/>
            <p:cNvSpPr/>
            <p:nvPr/>
          </p:nvSpPr>
          <p:spPr>
            <a:xfrm>
              <a:off x="3701160" y="457200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7"/>
            <p:cNvSpPr/>
            <p:nvPr/>
          </p:nvSpPr>
          <p:spPr>
            <a:xfrm>
              <a:off x="4408560" y="4574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8"/>
            <p:cNvSpPr/>
            <p:nvPr/>
          </p:nvSpPr>
          <p:spPr>
            <a:xfrm>
              <a:off x="6302880" y="4574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Rectangle 9"/>
            <p:cNvSpPr/>
            <p:nvPr/>
          </p:nvSpPr>
          <p:spPr>
            <a:xfrm>
              <a:off x="5040000" y="4574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ectangle 10"/>
            <p:cNvSpPr/>
            <p:nvPr/>
          </p:nvSpPr>
          <p:spPr>
            <a:xfrm>
              <a:off x="6934320" y="4574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Rectangle 11"/>
            <p:cNvSpPr/>
            <p:nvPr/>
          </p:nvSpPr>
          <p:spPr>
            <a:xfrm>
              <a:off x="5671440" y="457452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Rectangle 12"/>
            <p:cNvSpPr/>
            <p:nvPr/>
          </p:nvSpPr>
          <p:spPr>
            <a:xfrm>
              <a:off x="2841120" y="457200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15"/>
            <p:cNvSpPr/>
            <p:nvPr/>
          </p:nvSpPr>
          <p:spPr>
            <a:xfrm>
              <a:off x="1600200" y="4267080"/>
              <a:ext cx="6324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16"/>
            <p:cNvSpPr/>
            <p:nvPr/>
          </p:nvSpPr>
          <p:spPr>
            <a:xfrm>
              <a:off x="2438280" y="411444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17"/>
            <p:cNvSpPr/>
            <p:nvPr/>
          </p:nvSpPr>
          <p:spPr>
            <a:xfrm>
              <a:off x="3222000" y="40384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18"/>
            <p:cNvSpPr/>
            <p:nvPr/>
          </p:nvSpPr>
          <p:spPr>
            <a:xfrm>
              <a:off x="4005720" y="411444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19"/>
            <p:cNvSpPr/>
            <p:nvPr/>
          </p:nvSpPr>
          <p:spPr>
            <a:xfrm>
              <a:off x="4675320" y="40384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Line 20"/>
            <p:cNvSpPr/>
            <p:nvPr/>
          </p:nvSpPr>
          <p:spPr>
            <a:xfrm>
              <a:off x="5306760" y="411444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Line 21"/>
            <p:cNvSpPr/>
            <p:nvPr/>
          </p:nvSpPr>
          <p:spPr>
            <a:xfrm>
              <a:off x="5938200" y="40384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22"/>
            <p:cNvSpPr/>
            <p:nvPr/>
          </p:nvSpPr>
          <p:spPr>
            <a:xfrm>
              <a:off x="6569640" y="411444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Line 19"/>
            <p:cNvSpPr/>
            <p:nvPr/>
          </p:nvSpPr>
          <p:spPr>
            <a:xfrm>
              <a:off x="7201080" y="40384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Rectangle 12"/>
            <p:cNvSpPr/>
            <p:nvPr/>
          </p:nvSpPr>
          <p:spPr>
            <a:xfrm>
              <a:off x="2057400" y="457200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" name="TextBox 46"/>
          <p:cNvSpPr/>
          <p:nvPr/>
        </p:nvSpPr>
        <p:spPr>
          <a:xfrm>
            <a:off x="1523880" y="243828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Arial"/>
              </a:rPr>
              <a:t>Individual numbers are do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Oval 47"/>
          <p:cNvSpPr/>
          <p:nvPr/>
        </p:nvSpPr>
        <p:spPr>
          <a:xfrm>
            <a:off x="5181480" y="411480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27"/>
          <p:cNvGrpSpPr/>
          <p:nvPr/>
        </p:nvGrpSpPr>
        <p:grpSpPr>
          <a:xfrm>
            <a:off x="1523880" y="4611600"/>
            <a:ext cx="6324840" cy="1178640"/>
            <a:chOff x="1523880" y="4611600"/>
            <a:chExt cx="6324840" cy="1178640"/>
          </a:xfrm>
        </p:grpSpPr>
        <p:sp>
          <p:nvSpPr>
            <p:cNvPr id="149" name="Rectangle 6"/>
            <p:cNvSpPr/>
            <p:nvPr/>
          </p:nvSpPr>
          <p:spPr>
            <a:xfrm>
              <a:off x="3624840" y="514512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Rectangle 7"/>
            <p:cNvSpPr/>
            <p:nvPr/>
          </p:nvSpPr>
          <p:spPr>
            <a:xfrm>
              <a:off x="433260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Rectangle 8"/>
            <p:cNvSpPr/>
            <p:nvPr/>
          </p:nvSpPr>
          <p:spPr>
            <a:xfrm>
              <a:off x="622692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Rectangle 9"/>
            <p:cNvSpPr/>
            <p:nvPr/>
          </p:nvSpPr>
          <p:spPr>
            <a:xfrm>
              <a:off x="496404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Rectangle 10"/>
            <p:cNvSpPr/>
            <p:nvPr/>
          </p:nvSpPr>
          <p:spPr>
            <a:xfrm>
              <a:off x="685836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Rectangle 11"/>
            <p:cNvSpPr/>
            <p:nvPr/>
          </p:nvSpPr>
          <p:spPr>
            <a:xfrm>
              <a:off x="559548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Rectangle 12"/>
            <p:cNvSpPr/>
            <p:nvPr/>
          </p:nvSpPr>
          <p:spPr>
            <a:xfrm>
              <a:off x="2764800" y="514512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15"/>
            <p:cNvSpPr/>
            <p:nvPr/>
          </p:nvSpPr>
          <p:spPr>
            <a:xfrm>
              <a:off x="1523880" y="4840200"/>
              <a:ext cx="6324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Line 16"/>
            <p:cNvSpPr/>
            <p:nvPr/>
          </p:nvSpPr>
          <p:spPr>
            <a:xfrm>
              <a:off x="236196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Line 17"/>
            <p:cNvSpPr/>
            <p:nvPr/>
          </p:nvSpPr>
          <p:spPr>
            <a:xfrm>
              <a:off x="314568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Line 18"/>
            <p:cNvSpPr/>
            <p:nvPr/>
          </p:nvSpPr>
          <p:spPr>
            <a:xfrm>
              <a:off x="392976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Line 19"/>
            <p:cNvSpPr/>
            <p:nvPr/>
          </p:nvSpPr>
          <p:spPr>
            <a:xfrm>
              <a:off x="459936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Line 20"/>
            <p:cNvSpPr/>
            <p:nvPr/>
          </p:nvSpPr>
          <p:spPr>
            <a:xfrm>
              <a:off x="523080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Line 21"/>
            <p:cNvSpPr/>
            <p:nvPr/>
          </p:nvSpPr>
          <p:spPr>
            <a:xfrm>
              <a:off x="586224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Line 22"/>
            <p:cNvSpPr/>
            <p:nvPr/>
          </p:nvSpPr>
          <p:spPr>
            <a:xfrm>
              <a:off x="649332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Line 19"/>
            <p:cNvSpPr/>
            <p:nvPr/>
          </p:nvSpPr>
          <p:spPr>
            <a:xfrm>
              <a:off x="712476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Rectangle 12"/>
            <p:cNvSpPr/>
            <p:nvPr/>
          </p:nvSpPr>
          <p:spPr>
            <a:xfrm>
              <a:off x="1981080" y="514512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" name="Rectangle 2"/>
          <p:cNvSpPr/>
          <p:nvPr/>
        </p:nvSpPr>
        <p:spPr>
          <a:xfrm>
            <a:off x="2590920" y="274680"/>
            <a:ext cx="6095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1: The Real Number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GRAPHS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ot on the number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Group 31"/>
          <p:cNvGrpSpPr/>
          <p:nvPr/>
        </p:nvGrpSpPr>
        <p:grpSpPr>
          <a:xfrm>
            <a:off x="1600200" y="3048120"/>
            <a:ext cx="6324480" cy="1178280"/>
            <a:chOff x="1600200" y="3048120"/>
            <a:chExt cx="6324480" cy="1178280"/>
          </a:xfrm>
        </p:grpSpPr>
        <p:sp>
          <p:nvSpPr>
            <p:cNvPr id="169" name="Rectangle 6"/>
            <p:cNvSpPr/>
            <p:nvPr/>
          </p:nvSpPr>
          <p:spPr>
            <a:xfrm>
              <a:off x="3701160" y="358128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Rectangle 7"/>
            <p:cNvSpPr/>
            <p:nvPr/>
          </p:nvSpPr>
          <p:spPr>
            <a:xfrm>
              <a:off x="440856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Rectangle 8"/>
            <p:cNvSpPr/>
            <p:nvPr/>
          </p:nvSpPr>
          <p:spPr>
            <a:xfrm>
              <a:off x="630288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Rectangle 9"/>
            <p:cNvSpPr/>
            <p:nvPr/>
          </p:nvSpPr>
          <p:spPr>
            <a:xfrm>
              <a:off x="504000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Rectangle 10"/>
            <p:cNvSpPr/>
            <p:nvPr/>
          </p:nvSpPr>
          <p:spPr>
            <a:xfrm>
              <a:off x="693432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Rectangle 11"/>
            <p:cNvSpPr/>
            <p:nvPr/>
          </p:nvSpPr>
          <p:spPr>
            <a:xfrm>
              <a:off x="567144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Rectangle 12"/>
            <p:cNvSpPr/>
            <p:nvPr/>
          </p:nvSpPr>
          <p:spPr>
            <a:xfrm>
              <a:off x="2841120" y="358128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Line 15"/>
            <p:cNvSpPr/>
            <p:nvPr/>
          </p:nvSpPr>
          <p:spPr>
            <a:xfrm>
              <a:off x="1600200" y="3276360"/>
              <a:ext cx="6324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Line 16"/>
            <p:cNvSpPr/>
            <p:nvPr/>
          </p:nvSpPr>
          <p:spPr>
            <a:xfrm>
              <a:off x="243828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17"/>
            <p:cNvSpPr/>
            <p:nvPr/>
          </p:nvSpPr>
          <p:spPr>
            <a:xfrm>
              <a:off x="322200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Line 18"/>
            <p:cNvSpPr/>
            <p:nvPr/>
          </p:nvSpPr>
          <p:spPr>
            <a:xfrm>
              <a:off x="400572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19"/>
            <p:cNvSpPr/>
            <p:nvPr/>
          </p:nvSpPr>
          <p:spPr>
            <a:xfrm>
              <a:off x="467532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20"/>
            <p:cNvSpPr/>
            <p:nvPr/>
          </p:nvSpPr>
          <p:spPr>
            <a:xfrm>
              <a:off x="530676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21"/>
            <p:cNvSpPr/>
            <p:nvPr/>
          </p:nvSpPr>
          <p:spPr>
            <a:xfrm>
              <a:off x="593820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Line 22"/>
            <p:cNvSpPr/>
            <p:nvPr/>
          </p:nvSpPr>
          <p:spPr>
            <a:xfrm>
              <a:off x="656964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Line 19"/>
            <p:cNvSpPr/>
            <p:nvPr/>
          </p:nvSpPr>
          <p:spPr>
            <a:xfrm>
              <a:off x="720108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Rectangle 12"/>
            <p:cNvSpPr/>
            <p:nvPr/>
          </p:nvSpPr>
          <p:spPr>
            <a:xfrm>
              <a:off x="2057400" y="358128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6" name="TextBox 49"/>
          <p:cNvSpPr/>
          <p:nvPr/>
        </p:nvSpPr>
        <p:spPr>
          <a:xfrm>
            <a:off x="1371600" y="220968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Intervals including end poi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Box 51"/>
          <p:cNvSpPr/>
          <p:nvPr/>
        </p:nvSpPr>
        <p:spPr>
          <a:xfrm>
            <a:off x="5791320" y="2895480"/>
            <a:ext cx="3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[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Box 70"/>
          <p:cNvSpPr/>
          <p:nvPr/>
        </p:nvSpPr>
        <p:spPr>
          <a:xfrm>
            <a:off x="4419720" y="4419720"/>
            <a:ext cx="3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[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Box 71"/>
          <p:cNvSpPr/>
          <p:nvPr/>
        </p:nvSpPr>
        <p:spPr>
          <a:xfrm>
            <a:off x="5715000" y="4419720"/>
            <a:ext cx="30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]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Straight Connector 73"/>
          <p:cNvSpPr/>
          <p:nvPr/>
        </p:nvSpPr>
        <p:spPr>
          <a:xfrm>
            <a:off x="4572000" y="4800600"/>
            <a:ext cx="1295280" cy="0"/>
          </a:xfrm>
          <a:prstGeom prst="line">
            <a:avLst/>
          </a:prstGeom>
          <a:ln w="152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23"/>
          <p:cNvSpPr/>
          <p:nvPr/>
        </p:nvSpPr>
        <p:spPr>
          <a:xfrm>
            <a:off x="5943600" y="3276720"/>
            <a:ext cx="1752480" cy="0"/>
          </a:xfrm>
          <a:prstGeom prst="line">
            <a:avLst/>
          </a:prstGeom>
          <a:ln w="1522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2"/>
          <p:cNvGrpSpPr/>
          <p:nvPr/>
        </p:nvGrpSpPr>
        <p:grpSpPr>
          <a:xfrm>
            <a:off x="1523880" y="4611600"/>
            <a:ext cx="6324840" cy="1178640"/>
            <a:chOff x="1523880" y="4611600"/>
            <a:chExt cx="6324840" cy="1178640"/>
          </a:xfrm>
        </p:grpSpPr>
        <p:sp>
          <p:nvSpPr>
            <p:cNvPr id="194" name="Rectangle 6"/>
            <p:cNvSpPr/>
            <p:nvPr/>
          </p:nvSpPr>
          <p:spPr>
            <a:xfrm>
              <a:off x="3624840" y="514512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Rectangle 7"/>
            <p:cNvSpPr/>
            <p:nvPr/>
          </p:nvSpPr>
          <p:spPr>
            <a:xfrm>
              <a:off x="433260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Rectangle 8"/>
            <p:cNvSpPr/>
            <p:nvPr/>
          </p:nvSpPr>
          <p:spPr>
            <a:xfrm>
              <a:off x="622692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Rectangle 9"/>
            <p:cNvSpPr/>
            <p:nvPr/>
          </p:nvSpPr>
          <p:spPr>
            <a:xfrm>
              <a:off x="496404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Rectangle 10"/>
            <p:cNvSpPr/>
            <p:nvPr/>
          </p:nvSpPr>
          <p:spPr>
            <a:xfrm>
              <a:off x="685836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Rectangle 11"/>
            <p:cNvSpPr/>
            <p:nvPr/>
          </p:nvSpPr>
          <p:spPr>
            <a:xfrm>
              <a:off x="5595480" y="514764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Rectangle 12"/>
            <p:cNvSpPr/>
            <p:nvPr/>
          </p:nvSpPr>
          <p:spPr>
            <a:xfrm>
              <a:off x="2764800" y="514512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Line 15"/>
            <p:cNvSpPr/>
            <p:nvPr/>
          </p:nvSpPr>
          <p:spPr>
            <a:xfrm>
              <a:off x="1523880" y="4840200"/>
              <a:ext cx="63248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16"/>
            <p:cNvSpPr/>
            <p:nvPr/>
          </p:nvSpPr>
          <p:spPr>
            <a:xfrm>
              <a:off x="236196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Line 17"/>
            <p:cNvSpPr/>
            <p:nvPr/>
          </p:nvSpPr>
          <p:spPr>
            <a:xfrm>
              <a:off x="314568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18"/>
            <p:cNvSpPr/>
            <p:nvPr/>
          </p:nvSpPr>
          <p:spPr>
            <a:xfrm>
              <a:off x="392976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Line 19"/>
            <p:cNvSpPr/>
            <p:nvPr/>
          </p:nvSpPr>
          <p:spPr>
            <a:xfrm>
              <a:off x="459936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Line 20"/>
            <p:cNvSpPr/>
            <p:nvPr/>
          </p:nvSpPr>
          <p:spPr>
            <a:xfrm>
              <a:off x="523080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Line 21"/>
            <p:cNvSpPr/>
            <p:nvPr/>
          </p:nvSpPr>
          <p:spPr>
            <a:xfrm>
              <a:off x="586224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Line 22"/>
            <p:cNvSpPr/>
            <p:nvPr/>
          </p:nvSpPr>
          <p:spPr>
            <a:xfrm>
              <a:off x="6493320" y="468756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Line 19"/>
            <p:cNvSpPr/>
            <p:nvPr/>
          </p:nvSpPr>
          <p:spPr>
            <a:xfrm>
              <a:off x="7124760" y="461160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Rectangle 12"/>
            <p:cNvSpPr/>
            <p:nvPr/>
          </p:nvSpPr>
          <p:spPr>
            <a:xfrm>
              <a:off x="1981080" y="514512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1" name="Rectangle 2"/>
          <p:cNvSpPr/>
          <p:nvPr/>
        </p:nvSpPr>
        <p:spPr>
          <a:xfrm>
            <a:off x="2590920" y="274680"/>
            <a:ext cx="6095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1: The Real Number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GRAPHS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lot on the number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Group 22"/>
          <p:cNvGrpSpPr/>
          <p:nvPr/>
        </p:nvGrpSpPr>
        <p:grpSpPr>
          <a:xfrm>
            <a:off x="1600200" y="3048120"/>
            <a:ext cx="6324480" cy="1178280"/>
            <a:chOff x="1600200" y="3048120"/>
            <a:chExt cx="6324480" cy="1178280"/>
          </a:xfrm>
        </p:grpSpPr>
        <p:sp>
          <p:nvSpPr>
            <p:cNvPr id="214" name="Rectangle 6"/>
            <p:cNvSpPr/>
            <p:nvPr/>
          </p:nvSpPr>
          <p:spPr>
            <a:xfrm>
              <a:off x="3701160" y="358128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Rectangle 7"/>
            <p:cNvSpPr/>
            <p:nvPr/>
          </p:nvSpPr>
          <p:spPr>
            <a:xfrm>
              <a:off x="440856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0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Rectangle 8"/>
            <p:cNvSpPr/>
            <p:nvPr/>
          </p:nvSpPr>
          <p:spPr>
            <a:xfrm>
              <a:off x="630288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Rectangle 9"/>
            <p:cNvSpPr/>
            <p:nvPr/>
          </p:nvSpPr>
          <p:spPr>
            <a:xfrm>
              <a:off x="504000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1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Rectangle 10"/>
            <p:cNvSpPr/>
            <p:nvPr/>
          </p:nvSpPr>
          <p:spPr>
            <a:xfrm>
              <a:off x="693432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4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Rectangle 11"/>
            <p:cNvSpPr/>
            <p:nvPr/>
          </p:nvSpPr>
          <p:spPr>
            <a:xfrm>
              <a:off x="5671440" y="3583800"/>
              <a:ext cx="53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Rectangle 12"/>
            <p:cNvSpPr/>
            <p:nvPr/>
          </p:nvSpPr>
          <p:spPr>
            <a:xfrm>
              <a:off x="2841120" y="358128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2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Line 15"/>
            <p:cNvSpPr/>
            <p:nvPr/>
          </p:nvSpPr>
          <p:spPr>
            <a:xfrm>
              <a:off x="1600200" y="3276360"/>
              <a:ext cx="6324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16"/>
            <p:cNvSpPr/>
            <p:nvPr/>
          </p:nvSpPr>
          <p:spPr>
            <a:xfrm>
              <a:off x="243828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Line 17"/>
            <p:cNvSpPr/>
            <p:nvPr/>
          </p:nvSpPr>
          <p:spPr>
            <a:xfrm>
              <a:off x="322200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18"/>
            <p:cNvSpPr/>
            <p:nvPr/>
          </p:nvSpPr>
          <p:spPr>
            <a:xfrm>
              <a:off x="400572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Line 19"/>
            <p:cNvSpPr/>
            <p:nvPr/>
          </p:nvSpPr>
          <p:spPr>
            <a:xfrm>
              <a:off x="467532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Line 20"/>
            <p:cNvSpPr/>
            <p:nvPr/>
          </p:nvSpPr>
          <p:spPr>
            <a:xfrm>
              <a:off x="530676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Line 21"/>
            <p:cNvSpPr/>
            <p:nvPr/>
          </p:nvSpPr>
          <p:spPr>
            <a:xfrm>
              <a:off x="593820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Line 22"/>
            <p:cNvSpPr/>
            <p:nvPr/>
          </p:nvSpPr>
          <p:spPr>
            <a:xfrm>
              <a:off x="6569640" y="312408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Line 19"/>
            <p:cNvSpPr/>
            <p:nvPr/>
          </p:nvSpPr>
          <p:spPr>
            <a:xfrm>
              <a:off x="7201080" y="3048120"/>
              <a:ext cx="0" cy="380880"/>
            </a:xfrm>
            <a:prstGeom prst="line">
              <a:avLst/>
            </a:prstGeom>
            <a:ln w="572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Rectangle 12"/>
            <p:cNvSpPr/>
            <p:nvPr/>
          </p:nvSpPr>
          <p:spPr>
            <a:xfrm>
              <a:off x="2057400" y="3581280"/>
              <a:ext cx="76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 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  <a:ea typeface="Arial"/>
                </a:rPr>
                <a:t>-3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1" name="TextBox 40"/>
          <p:cNvSpPr/>
          <p:nvPr/>
        </p:nvSpPr>
        <p:spPr>
          <a:xfrm>
            <a:off x="1219320" y="22096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Intervals not including end poi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Box 41"/>
          <p:cNvSpPr/>
          <p:nvPr/>
        </p:nvSpPr>
        <p:spPr>
          <a:xfrm>
            <a:off x="5791320" y="2895480"/>
            <a:ext cx="3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(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Box 42"/>
          <p:cNvSpPr/>
          <p:nvPr/>
        </p:nvSpPr>
        <p:spPr>
          <a:xfrm>
            <a:off x="4419720" y="4419720"/>
            <a:ext cx="30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(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Box 43"/>
          <p:cNvSpPr/>
          <p:nvPr/>
        </p:nvSpPr>
        <p:spPr>
          <a:xfrm>
            <a:off x="5715000" y="4419720"/>
            <a:ext cx="30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Straight Connector 44"/>
          <p:cNvSpPr/>
          <p:nvPr/>
        </p:nvSpPr>
        <p:spPr>
          <a:xfrm>
            <a:off x="4572000" y="4800600"/>
            <a:ext cx="1371600" cy="0"/>
          </a:xfrm>
          <a:prstGeom prst="line">
            <a:avLst/>
          </a:prstGeom>
          <a:ln w="152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Line 23"/>
          <p:cNvSpPr/>
          <p:nvPr/>
        </p:nvSpPr>
        <p:spPr>
          <a:xfrm>
            <a:off x="5943600" y="3276720"/>
            <a:ext cx="1752480" cy="0"/>
          </a:xfrm>
          <a:prstGeom prst="line">
            <a:avLst/>
          </a:prstGeom>
          <a:ln w="1522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63"/>
          <p:cNvSpPr/>
          <p:nvPr/>
        </p:nvSpPr>
        <p:spPr>
          <a:xfrm>
            <a:off x="762120" y="3803760"/>
            <a:ext cx="701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OPERATIONS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i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btraction (the same as adding a number with the opposite sig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ltipli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vision (the same as multiplying by the reciproca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ADDITION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Content Placeholder 19"/>
          <p:cNvSpPr/>
          <p:nvPr/>
        </p:nvSpPr>
        <p:spPr>
          <a:xfrm>
            <a:off x="914400" y="3962520"/>
            <a:ext cx="75438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ends that have opposite sig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ubtract absolute val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ep the sign of the addend with the largest absolute val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914400" y="1890720"/>
            <a:ext cx="754380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ends that have the same sig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d absolute val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ep the sign of the adde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MULTIPLICATION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5"/>
          <p:cNvSpPr/>
          <p:nvPr/>
        </p:nvSpPr>
        <p:spPr>
          <a:xfrm>
            <a:off x="914400" y="2286000"/>
            <a:ext cx="7543800" cy="27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ltiply absolute val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the factors have the same signs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product is posi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 factors have opposite signs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duct is nega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2"/>
          <p:cNvSpPr/>
          <p:nvPr/>
        </p:nvSpPr>
        <p:spPr>
          <a:xfrm>
            <a:off x="304920" y="274680"/>
            <a:ext cx="83818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ahoma"/>
              </a:rPr>
              <a:t>Section 1.2: Arithmetic &amp; Properties of Real Numb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 Placeholder 26"/>
          <p:cNvSpPr/>
          <p:nvPr/>
        </p:nvSpPr>
        <p:spPr>
          <a:xfrm>
            <a:off x="914400" y="1143000"/>
            <a:ext cx="77724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STATISTICS: 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measures of central tendency</a:t>
            </a:r>
            <a:r>
              <a:rPr b="0" lang="en-US" sz="30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17"/>
          <p:cNvSpPr/>
          <p:nvPr/>
        </p:nvSpPr>
        <p:spPr>
          <a:xfrm>
            <a:off x="914400" y="2286000"/>
            <a:ext cx="754380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dia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22:41:36Z</dcterms:created>
  <dc:creator>melissa.marshall</dc:creator>
  <dc:description/>
  <dc:language>en-US</dc:language>
  <cp:lastModifiedBy>LEGION</cp:lastModifiedBy>
  <dcterms:modified xsi:type="dcterms:W3CDTF">2017-09-18T07:58:11Z</dcterms:modified>
  <cp:revision>170</cp:revision>
  <dc:subject/>
  <dc:title>Inequalities and their Graphs</dc:title>
</cp:coreProperties>
</file>