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1403-2AEC-4B97-A65D-FA3A506BCF0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ASSIFY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LASSIFYING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_______________ is a sum or difference of terms.  Polynomials have special names based on their _______ and the number of _______ they ha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_______________ is a sum or difference of terms.  Polynomials have special names based on their _______ and the number of _______ they h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ING BY NUMBER OF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 TER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 TERM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 TERM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BY NUMBER OF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 T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 TER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 TER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assify each polynomial based on the number of terms that it h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1:    5x2 + 2x – 4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2:    3a3 + 2a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3:    5mn2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4:    3x2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5:    4x2 – 7x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6:    -9x2 + 2x – 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7:    5ab2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8:    -9a2bc3 – 2ab4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lassify each polynomial based on the number of terms that it h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1:    5x2 + 2x – 4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2:    3a3 + 2a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3:    5mn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4:    3x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5:    4x2 – 7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6:    -9x2 + 2x – 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7:    5ab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8:    -9a2bc3 – 2ab4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ING BY THE 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__________ of a polynomial is the exponent of the term with the greatest exponent(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degree of each polynomial below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. 1:   5x + 9x2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. 2:   3x3 + 5x – x2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. 3:   -4x + 7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. 4:   -x4 + 2x2 + 5x3 – x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NOM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BY THE 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__________ of a polynomial is the exponent of the term with the greatest exponent(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degree of each polynomial below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1:   5x + 9x2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2:   3x3 + 5x – x2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3:   -4x + 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4:   -x4 + 2x2 + 5x3 – x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O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degree of a monomial is the sum of the expon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5:   5xy + 9x2y3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6:   3x3y5 + 5xy – x2y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7:   -4xy + 7y3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8:   -x4y + 2x2y5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DD 2 &amp;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DD 3 &amp;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DD 2 &amp;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degree of a monomial is the sum of the expon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5:   5xy + 9x2y3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6:   3x3y5 + 5xy – x2y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7:   -4xy + 7y3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8:   -x4y + 2x2y5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D 2 &amp;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D 3 &amp;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D 2 &amp;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assify each polynomial above using its degree and number of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1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DRATIC 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UBIC 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NEAR 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RTIC 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TH DEGREE 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8TH DEGREE 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UBIC 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TH DEGREE 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lassify each polynomial above using its degree and number of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1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ADRATIC 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UBIC 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NEAR 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ARTIC 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TH DEGREE 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TH DEGREE 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UBIC 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TH DEGREE 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EA85-7AE2-4AB9-93EC-9F63D8F2C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18E8-1806-4A6A-866B-248F5C54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7886-FB85-44F6-9A62-788A2614D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8FA5-ED9D-4792-8DE2-B94825259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397B-D096-459F-9AA1-6674AE5C8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3692-43FE-404F-B258-81729D6A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73272-6CF4-4558-92B5-16216EA2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3E4C-4757-4337-9FF8-F711668C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2DE3-AF3E-4678-96A4-B2016931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A67AC-0AFE-45A5-959A-924BBEEC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C752-DEFB-4FEE-B808-C28889C2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B336-687F-4BFA-BB14-40545E74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9017-84F5-4206-939E-CDB55060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882B-D014-488A-B020-5B8228A4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62D4-447E-4231-8689-9A3B98F4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162A-7431-4B3F-96C7-4B2A0C7D9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1151-5936-4BD9-9AD5-93EF11BC4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12AA-4D88-4953-BA77-31157231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F467-0F54-4E09-BF95-852FCEF9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5460-A117-45D6-9FC7-38BE4B36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7C7D-FDB7-47F8-A244-9E7E0B15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00AA-A815-413C-A485-6A9CB0E0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69E3-1F99-460B-8A00-7568BBC9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5895-2F6A-4E79-A9E9-42348A99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24F4-A7A4-4D98-821F-B0929965B1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B8AA-6EB9-4781-A207-D4CED331CD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ASSIFYING POLYNOMIAL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Times New Roman"/>
              </a:rPr>
              <a:t>A _______________ is a sum or difference of terms.  Polynomials have special names based on their _______ and the number of _______ they have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286000" y="137160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66"/>
                </a:solidFill>
                <a:latin typeface="Arial"/>
              </a:rPr>
              <a:t>POLYNOM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219320" y="41148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66"/>
                </a:solidFill>
                <a:latin typeface="Arial"/>
              </a:rPr>
              <a:t>DEG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1295280" y="472428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66"/>
                </a:solidFill>
                <a:latin typeface="Arial"/>
              </a:rPr>
              <a:t>TER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NAMING BY NUMBER OF TERM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819840" cy="29718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3809880" y="25909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NOM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600200" y="3581280"/>
            <a:ext cx="1828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M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 TE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3886200" y="3581280"/>
            <a:ext cx="1828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 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6172200" y="3581280"/>
            <a:ext cx="1828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NOM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3 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fffff"/>
                </a:solidFill>
                <a:latin typeface="Arial"/>
              </a:rPr>
              <a:t>Classify each polynomial based on the number of terms that it has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914400" y="1828800"/>
            <a:ext cx="5257800" cy="43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1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x – 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2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2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3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m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4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5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7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6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9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x –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7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8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9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2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5029200" y="18288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5029200" y="23623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5029200" y="28954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5029200" y="3429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5029200" y="3962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5029200" y="4572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5029200" y="5105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5029200" y="56386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NAMING BY THE DEGRE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143000" y="19810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__________ of a polynomial is the exponent of the term with the greatest exponent(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752480" y="1981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cc"/>
                </a:solidFill>
                <a:latin typeface="Arial"/>
              </a:rPr>
              <a:t>DEG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143000" y="30481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 the degree of each polynomial below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1371600" y="3809880"/>
            <a:ext cx="49528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1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5x + 9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2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3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5x –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. 3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-4x + 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4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-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2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5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x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6172200" y="3809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0"/>
          <p:cNvSpPr/>
          <p:nvPr/>
        </p:nvSpPr>
        <p:spPr>
          <a:xfrm flipH="1">
            <a:off x="3124080" y="3886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6172200" y="4191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2"/>
          <p:cNvSpPr/>
          <p:nvPr/>
        </p:nvSpPr>
        <p:spPr>
          <a:xfrm flipH="1">
            <a:off x="2666880" y="42670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6172200" y="4648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4"/>
          <p:cNvSpPr/>
          <p:nvPr/>
        </p:nvSpPr>
        <p:spPr>
          <a:xfrm flipH="1">
            <a:off x="2514240" y="47242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6172200" y="5105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 flipH="1">
            <a:off x="2590560" y="51055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6553080" y="38098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6553080" y="41911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6553080" y="46483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6553080" y="5105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110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gree of a monomial is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he exponents.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143000" y="2819520"/>
            <a:ext cx="38862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5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5xy + 9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6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3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5xy –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7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-4xy + 7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8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-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 + 2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5029200" y="28195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743200" y="2133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2 &amp;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2743200" y="2133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3 &amp;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5029200" y="3276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5029200" y="3657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2743200" y="2133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2 &amp;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5029200" y="4038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5791320" y="28195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5791320" y="32767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5791320" y="36576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5791320" y="40384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1867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ify each polynomial above using its degree and number of ter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295280" y="2209680"/>
            <a:ext cx="14479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2209680" y="22096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DRATIC 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2209680" y="25909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BIC TR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2209680" y="30481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2209680" y="35053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RTIC POLY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2209680" y="38862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GREE 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2209680" y="42670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GREE TR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2209680" y="47242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BIC 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2209680" y="5105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GREE 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03:09:53Z</dcterms:created>
  <dc:creator>phubbard</dc:creator>
  <dc:description/>
  <dc:language>en-US</dc:language>
  <cp:lastModifiedBy>LEGION</cp:lastModifiedBy>
  <dcterms:modified xsi:type="dcterms:W3CDTF">2017-07-06T06:31:05Z</dcterms:modified>
  <cp:revision>12</cp:revision>
  <dc:subject/>
  <dc:title>CLASSIFYING POLYNOMIALS</dc:title>
</cp:coreProperties>
</file>