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7973-D267-4CF7-8B8E-44CAFEB7EA0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LASSIFYING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_______________ is a sum or difference of terms.  Polynomials have special names based on their _______ and the number of _______ they ha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_______________ is a sum or difference of terms.  Polynomials have special names based on their _______ and the number of _______ they h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ING BY NUMBER OF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 TER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 TER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 TER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BY NUMBER OF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 T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TE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TE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 each polynomial based on the number of terms that it h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1:    5x2 + 2x – 4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2:    3a3 + 2a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3:    5mn2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4:    3x2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5:    4x2 – 7x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6:    -9x2 + 2x – 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7:    5ab2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8:    -9a2bc3 – 2ab4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lassify each polynomial based on the number of terms that it h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1:    5x2 + 2x – 4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2:    3a3 + 2a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3:    5mn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4:    3x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5:    4x2 – 7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6:    -9x2 + 2x – 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7:    5ab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8:    -9a2bc3 – 2ab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ING BY THE 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__________ of a polynomial is the exponent of the term with the greatest exponent(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degree of each polynomial below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. 1:   5x + 9x2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. 2:   3x3 + 5x – x2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. 3:   -4x + 7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. 4:   -x4 + 2x2 + 5x3 – x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OM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BY THE 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__________ of a polynomial is the exponent of the term with the greatest exponent(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degree of each polynomial below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1:   5x + 9x2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2:   3x3 + 5x – x2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3:   -4x + 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4:   -x4 + 2x2 + 5x3 – x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O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degree of a monomial is the sum of the expon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5:   5xy + 9x2y3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6:   3x3y5 + 5xy – x2y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7:   -4xy + 7y3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8:   -x4y + 2x2y5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D 2 &amp;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D 3 &amp;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D 2 &amp;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degree of a monomial is the sum of the expon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5:   5xy + 9x2y3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6:   3x3y5 + 5xy – x2y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7:   -4xy + 7y3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8:   -x4y + 2x2y5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D 2 &amp;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D 3 &amp;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D 2 &amp;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 each polynomial above using its degree and number of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1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 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UBIC 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NEAR 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RTIC 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TH DEGREE 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TH DEGREE 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UBIC 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TH DEGREE 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lassify each polynomial above using its degree and number of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1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ADRATIC 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UBIC 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NEAR 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ARTIC 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TH DEGREE 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TH DEGREE 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UBIC 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TH DEGREE 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E61C-1F62-470C-BCB4-9A9812C64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9920-AA46-4652-BD28-5E1F2F41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9BD9-F09F-4281-ADF4-FAD6F5E94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8175-15A1-4229-B8CB-471F7020C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027A-BE38-4666-B495-1B0CB05F0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86F4-CCB8-4E2F-BAF8-177FBC12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5193-9703-4053-AE57-42B33FEA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6E80-B998-4C08-9ED0-7CF2ACDF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978E-889C-48EA-BE5D-C80E483D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2395-851A-400F-89DA-9141D0C9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AF9B-E3B4-4CB1-BA46-47BE57CA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C170-D424-48DB-A5C8-8E51BF73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D171-AC9A-42F6-B03B-DC26010D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B696-6880-4CB8-A459-264C81E2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DFF0-7ADA-4847-8F38-7F1DCEBE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CE79-94B6-440E-8C9A-2BC673544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928B-4BB6-482C-8FE4-46917AD3E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96F7-B9FE-4990-9EE3-8ACF0BAE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07AF-B9CC-4677-9595-B7624382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F4AE-FCAF-4144-B866-FFBD2EC4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C136-F837-4FDD-AE94-8EB9A33F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61A7-EE92-43CE-8B9C-7F3C694A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03DE-0800-4AA8-B708-4AC49212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3831-EDC5-4E4B-88A6-F434F488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FC45-5EBB-4E78-99A5-7C606396B0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9294-565D-4AEF-BB5E-13D7EAF65C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ASSIFYING POLYNOMIAL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Times New Roman"/>
              </a:rPr>
              <a:t>A _______________ is a sum or difference of terms.  Polynomials have special names based on their _______ and the number of _______ they have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286000" y="13716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66"/>
                </a:solidFill>
                <a:latin typeface="Arial"/>
              </a:rPr>
              <a:t>POLYNOM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219320" y="41148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66"/>
                </a:solidFill>
                <a:latin typeface="Arial"/>
              </a:rPr>
              <a:t>DEG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295280" y="472428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66"/>
                </a:solidFill>
                <a:latin typeface="Arial"/>
              </a:rPr>
              <a:t>TE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NAMING BY NUMBER OF TERM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819840" cy="29718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3809880" y="25909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NOM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600200" y="358128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M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 TE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3886200" y="358128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6172200" y="358128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OM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ffff"/>
                </a:solidFill>
                <a:latin typeface="Arial"/>
              </a:rPr>
              <a:t>Classify each polynomial based on the number of terms that it has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914400" y="1828800"/>
            <a:ext cx="5257800" cy="43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1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x – 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2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2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3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4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5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7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6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9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x –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7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8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9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5029200" y="18288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5029200" y="2362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5029200" y="28954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5029200" y="3429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029200" y="3962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5029200" y="4572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029200" y="5105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5029200" y="56386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AMING BY THE DEGRE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143000" y="19810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__________ of a polynomial is the exponent of the term with the greatest exponent(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75248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cc"/>
                </a:solidFill>
                <a:latin typeface="Arial"/>
              </a:rPr>
              <a:t>DE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143000" y="30481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 the degree of each polynomial below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1371600" y="3809880"/>
            <a:ext cx="49528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1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5x + 9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2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3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5x –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. 3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-4x + 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4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-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2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5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x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6172200" y="3809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"/>
          <p:cNvSpPr/>
          <p:nvPr/>
        </p:nvSpPr>
        <p:spPr>
          <a:xfrm flipH="1">
            <a:off x="3124080" y="3886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6172200" y="4191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2"/>
          <p:cNvSpPr/>
          <p:nvPr/>
        </p:nvSpPr>
        <p:spPr>
          <a:xfrm flipH="1">
            <a:off x="2666880" y="42670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6172200" y="4648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"/>
          <p:cNvSpPr/>
          <p:nvPr/>
        </p:nvSpPr>
        <p:spPr>
          <a:xfrm flipH="1">
            <a:off x="2514240" y="47242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6172200" y="5105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 flipH="1">
            <a:off x="2590560" y="51055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6553080" y="38098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6553080" y="41911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6553080" y="4648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6553080" y="5105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110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gree of a monomial i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exponents.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143000" y="2819520"/>
            <a:ext cx="3886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5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5xy + 9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6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3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5xy –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7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-4xy + 7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8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-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 + 2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5029200" y="2819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743200" y="2133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2 &amp;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2743200" y="2133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3 &amp;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5029200" y="3276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5029200" y="3657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2743200" y="2133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2 &amp;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5029200" y="4038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5791320" y="28195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5791320" y="32767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5791320" y="36576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5791320" y="40384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1867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fy each polynomial above using its degree and number of ter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295280" y="2209680"/>
            <a:ext cx="14479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209680" y="22096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DRATIC 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2209680" y="25909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BIC 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2209680" y="30481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2209680" y="35053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RTIC POLY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2209680" y="38862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GREE 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2209680" y="42670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GREE 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2209680" y="47242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BIC 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2209680" y="5105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GREE 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03:09:53Z</dcterms:created>
  <dc:creator>phubbard</dc:creator>
  <dc:description/>
  <dc:language>en-US</dc:language>
  <cp:lastModifiedBy>LEGION</cp:lastModifiedBy>
  <dcterms:modified xsi:type="dcterms:W3CDTF">2017-07-06T06:31:05Z</dcterms:modified>
  <cp:revision>12</cp:revision>
  <dc:subject/>
  <dc:title>CLASSIFYING POLYNOMIALS</dc:title>
</cp:coreProperties>
</file>