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6.wmf" ContentType="image/x-wmf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32.png" ContentType="image/png"/>
  <Override PartName="/ppt/media/image33.wmf" ContentType="image/x-wmf"/>
  <Override PartName="/ppt/media/image8.wmf" ContentType="image/x-wmf"/>
  <Override PartName="/ppt/media/image34.png" ContentType="image/png"/>
  <Override PartName="/ppt/media/image35.png" ContentType="image/png"/>
  <Override PartName="/ppt/media/image36.png" ContentType="image/png"/>
  <Override PartName="/ppt/media/image12.wmf" ContentType="image/x-wmf"/>
  <Override PartName="/ppt/media/image24.gif" ContentType="image/gif"/>
  <Override PartName="/ppt/media/image37.png" ContentType="image/png"/>
  <Override PartName="/ppt/media/image13.wmf" ContentType="image/x-wmf"/>
  <Override PartName="/ppt/media/image38.png" ContentType="image/png"/>
  <Override PartName="/ppt/media/image7.wmf" ContentType="image/x-wmf"/>
  <Override PartName="/ppt/media/image10.wmf" ContentType="image/x-wmf"/>
  <Override PartName="/ppt/media/image4.wmf" ContentType="image/x-wmf"/>
  <Override PartName="/ppt/media/image27.wmf" ContentType="image/x-wmf"/>
  <Override PartName="/ppt/media/image11.wmf" ContentType="image/x-wmf"/>
  <Override PartName="/ppt/media/image23.gif" ContentType="image/gif"/>
  <Override PartName="/ppt/media/image6.wmf" ContentType="image/x-wmf"/>
  <Override PartName="/ppt/media/image29.wmf" ContentType="image/x-wmf"/>
  <Override PartName="/ppt/media/image1.wmf" ContentType="image/x-wmf"/>
  <Override PartName="/ppt/media/image31.wmf" ContentType="image/x-wmf"/>
  <Override PartName="/ppt/media/image3.gif" ContentType="image/gif"/>
  <Override PartName="/ppt/media/image1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6668-79DD-4961-80D8-B0EB9078AFE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 3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mplex Number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Lesson 3.3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empting to combine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ultiplicative property of radicals only works for positive values under the radical 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ead use imaginary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arning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sider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It is tempting to combine the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multiplicative property of radicals only works for positive values under the radical sign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Instead use imaginary number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It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correct principles to simplify the follow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ry It Ou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Use the correct principles to simplify the following: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   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e expression under the radical in the quadratic form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known as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s when it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 and a perfect squa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 and not a perfect squa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of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              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iscriminan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sider the expression under the radical in the quadratic formula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is is known as the discriminan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hat happens when it is 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ositive and a perfect square?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ositive and not a perfect square?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Zero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egative ?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Return of the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e solution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th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intersec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x-ax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ol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sider the solution to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ote the graph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o intersections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ith x-axi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Using the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lve and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solve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undamental Theorem of 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polynomial f(x) of degree n ≥ 1 has at least one complex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member that complex includes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umber of Zeros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polynomial of degree n has at most n distinct zer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plain how theorems apply to thes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Fundamental Theorem of Algebra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A polynomial f(x) of degree n ≥ 1 has at least one complex zero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Remember that complex includes real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Number of Zeros theore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A polynomial of degree n has at most n distinct zero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Explain how theorems apply to these graph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gate Zeroes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a polynomial with real coeffici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+ bi is a zero, then a – bi will also be a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jugate Zeroes Theore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Given a polynomial with real coefficient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If a + bi is a zero, then a – bi will also be a zero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ssig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sson 3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age 2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xercises 1 – 78  EO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Assignmen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Lesson 3.3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Page 211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Exercises 1 – 78  EOO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aginary Number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powers if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Imaginary Number i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By definition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sider powers if i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we can handle quantities that occasionally show up in mathematical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Using i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ow we can handle quantities that occasionally show up in mathematical solution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hat abou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bine real numbers with imaginary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+ b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mplex Number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mbine real numbers with imaginary number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a + bi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Example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It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se complex numbers in standard form   a + b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ry It Ou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rite these complex numbers in standard form   a + bi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rations on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numbers can be combined wi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Operations on Complex Number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mplex numbers can be combined with 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addition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ubtraction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multiplication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ivision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sider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rations on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sion techn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 numerator and denominator by the conjugate of the denomin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Operations on Complex Number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ivision technique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Multiply numerator and denominator by the conjugate of the denominator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Numbers on the Calc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sible resu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t mo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form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Rectang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calculator do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ired resu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mplex Numbers on the Calculator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ossible resul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Reset mode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mplex format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o Rectangular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ow calculator does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esired resul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Numbers on the Calc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rations with complex on calc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sure to use the correct character for i. Use 2nd-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mplex Numbers on the Calculator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Operations with complex on calculator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Make sure to use the correct character for i. Use 2nd-i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9645-4C57-483A-9EAC-1D92424E3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403520"/>
            <a:ext cx="8686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B4D1-96CE-41F5-A0F2-E66107E2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908600" y="440352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9ECB-44F7-4798-AC85-A7676357B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94440" y="171936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331320" y="171936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40352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394440" y="440352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331320" y="440352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E610-6618-4ED6-963A-B68D43BE9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4ADD-660D-4FE4-BBC5-CCB3D2632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BCB9-4AE7-4D12-9337-3CADFD15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789A-73E3-4FB3-9BC8-71A0C56C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1BB4-B7E3-4BCC-AD90-DFA2321F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0468-1E72-45AB-80AF-A16FF6C8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A7F3-B900-49FD-A8C7-B362F337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F21D-AF64-45EA-8FA2-7566E562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B71D-82E0-45E6-9DD0-E4633BF2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908600" y="440352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36CE-969E-4612-A8C3-8956A7D5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8686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14B8-7F71-42EF-BCFC-DB5160C1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403520"/>
            <a:ext cx="8686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208C-2ED7-4BD0-BFB4-3AC2C883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908600" y="440352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42AA5-5738-4029-AA83-29399685C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94440" y="171936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331320" y="171936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40352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94440" y="440352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331320" y="440352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3A32-92C3-4366-B8DF-C02021A32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3B68-106D-4197-8EFE-E9745FD4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6347-8F92-4BAF-9714-CE35C4E2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46D1-D5E0-4979-B3AE-5F0D7AC8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5E02-06EC-4B67-B637-AB366ADD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C7EA-5906-4CBD-B73A-71447703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908600" y="440352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6F40-0F8A-4090-A5EB-4A121FBE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8686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0707-8F0B-4001-B494-32CCEC6D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f834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b2b2b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6DD0-E881-4A16-8206-F84AFF40197B}" type="slidenum"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f834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8"/>
          <p:cNvGrpSpPr/>
          <p:nvPr/>
        </p:nvGrpSpPr>
        <p:grpSpPr>
          <a:xfrm>
            <a:off x="8035920" y="2984400"/>
            <a:ext cx="791640" cy="1295280"/>
            <a:chOff x="8035920" y="2984400"/>
            <a:chExt cx="791640" cy="1295280"/>
          </a:xfrm>
        </p:grpSpPr>
        <p:sp>
          <p:nvSpPr>
            <p:cNvPr id="75" name="Oval 9"/>
            <p:cNvSpPr/>
            <p:nvPr/>
          </p:nvSpPr>
          <p:spPr>
            <a:xfrm>
              <a:off x="8035920" y="298440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8203680" y="2984400"/>
              <a:ext cx="11844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8371800" y="2984400"/>
              <a:ext cx="1180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8035920" y="3152160"/>
              <a:ext cx="11988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8203680" y="3152160"/>
              <a:ext cx="11844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8371800" y="3152160"/>
              <a:ext cx="11808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1" name="Oval 15"/>
            <p:cNvSpPr/>
            <p:nvPr/>
          </p:nvSpPr>
          <p:spPr>
            <a:xfrm>
              <a:off x="8539560" y="315216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2" name="Oval 16"/>
            <p:cNvSpPr/>
            <p:nvPr/>
          </p:nvSpPr>
          <p:spPr>
            <a:xfrm>
              <a:off x="8035920" y="3320280"/>
              <a:ext cx="119880" cy="11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3" name="Oval 17"/>
            <p:cNvSpPr/>
            <p:nvPr/>
          </p:nvSpPr>
          <p:spPr>
            <a:xfrm>
              <a:off x="8203680" y="3320280"/>
              <a:ext cx="118440" cy="11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4" name="Oval 18"/>
            <p:cNvSpPr/>
            <p:nvPr/>
          </p:nvSpPr>
          <p:spPr>
            <a:xfrm>
              <a:off x="8371800" y="332028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5" name="Oval 19"/>
            <p:cNvSpPr/>
            <p:nvPr/>
          </p:nvSpPr>
          <p:spPr>
            <a:xfrm>
              <a:off x="8539560" y="332028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6" name="Oval 20"/>
            <p:cNvSpPr/>
            <p:nvPr/>
          </p:nvSpPr>
          <p:spPr>
            <a:xfrm>
              <a:off x="8707680" y="332028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7" name="Oval 21"/>
            <p:cNvSpPr/>
            <p:nvPr/>
          </p:nvSpPr>
          <p:spPr>
            <a:xfrm>
              <a:off x="8035920" y="3488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8" name="Oval 22"/>
            <p:cNvSpPr/>
            <p:nvPr/>
          </p:nvSpPr>
          <p:spPr>
            <a:xfrm>
              <a:off x="8203680" y="3488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9" name="Oval 23"/>
            <p:cNvSpPr/>
            <p:nvPr/>
          </p:nvSpPr>
          <p:spPr>
            <a:xfrm>
              <a:off x="8371800" y="348804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0" name="Oval 24"/>
            <p:cNvSpPr/>
            <p:nvPr/>
          </p:nvSpPr>
          <p:spPr>
            <a:xfrm>
              <a:off x="8539560" y="3488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1" name="Oval 25"/>
            <p:cNvSpPr/>
            <p:nvPr/>
          </p:nvSpPr>
          <p:spPr>
            <a:xfrm>
              <a:off x="8035920" y="3656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2" name="Oval 26"/>
            <p:cNvSpPr/>
            <p:nvPr/>
          </p:nvSpPr>
          <p:spPr>
            <a:xfrm>
              <a:off x="8203680" y="365616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3" name="Oval 27"/>
            <p:cNvSpPr/>
            <p:nvPr/>
          </p:nvSpPr>
          <p:spPr>
            <a:xfrm>
              <a:off x="8371800" y="365616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4" name="Oval 28"/>
            <p:cNvSpPr/>
            <p:nvPr/>
          </p:nvSpPr>
          <p:spPr>
            <a:xfrm>
              <a:off x="8539560" y="365616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5" name="Oval 29"/>
            <p:cNvSpPr/>
            <p:nvPr/>
          </p:nvSpPr>
          <p:spPr>
            <a:xfrm>
              <a:off x="8707680" y="3656160"/>
              <a:ext cx="119880" cy="1198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6" name="Oval 30"/>
            <p:cNvSpPr/>
            <p:nvPr/>
          </p:nvSpPr>
          <p:spPr>
            <a:xfrm>
              <a:off x="8035920" y="382428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7" name="Oval 31"/>
            <p:cNvSpPr/>
            <p:nvPr/>
          </p:nvSpPr>
          <p:spPr>
            <a:xfrm>
              <a:off x="8203680" y="382428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8" name="Oval 32"/>
            <p:cNvSpPr/>
            <p:nvPr/>
          </p:nvSpPr>
          <p:spPr>
            <a:xfrm>
              <a:off x="8371800" y="382428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9" name="Oval 33"/>
            <p:cNvSpPr/>
            <p:nvPr/>
          </p:nvSpPr>
          <p:spPr>
            <a:xfrm>
              <a:off x="8539560" y="3824280"/>
              <a:ext cx="118080" cy="1180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0" name="Oval 34"/>
            <p:cNvSpPr/>
            <p:nvPr/>
          </p:nvSpPr>
          <p:spPr>
            <a:xfrm>
              <a:off x="8035920" y="399204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1" name="Oval 35"/>
            <p:cNvSpPr/>
            <p:nvPr/>
          </p:nvSpPr>
          <p:spPr>
            <a:xfrm>
              <a:off x="8203680" y="399204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2" name="Oval 36"/>
            <p:cNvSpPr/>
            <p:nvPr/>
          </p:nvSpPr>
          <p:spPr>
            <a:xfrm>
              <a:off x="8371800" y="3992040"/>
              <a:ext cx="118080" cy="1180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3" name="Oval 37"/>
            <p:cNvSpPr/>
            <p:nvPr/>
          </p:nvSpPr>
          <p:spPr>
            <a:xfrm>
              <a:off x="8539560" y="3992040"/>
              <a:ext cx="118080" cy="1180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4" name="Oval 38"/>
            <p:cNvSpPr/>
            <p:nvPr/>
          </p:nvSpPr>
          <p:spPr>
            <a:xfrm>
              <a:off x="8203680" y="4160160"/>
              <a:ext cx="11844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5" name="Oval 39"/>
            <p:cNvSpPr/>
            <p:nvPr/>
          </p:nvSpPr>
          <p:spPr>
            <a:xfrm>
              <a:off x="8539560" y="4160160"/>
              <a:ext cx="11808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b2b2b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2D36-A475-4F9A-8BAD-599DDFBE24C3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6080" y="466560"/>
            <a:ext cx="6781680" cy="164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Complex Numbers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Lesson 3.3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Warning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77440" y="1752480"/>
            <a:ext cx="8566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onsider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It is tempting to combine them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The multiplicative property of radicals only works for positive values under the radical sign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Instead use imaginary numbers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40" name="Picture 4" descr="j0163107"/>
          <p:cNvPicPr/>
          <p:nvPr/>
        </p:nvPicPr>
        <p:blipFill>
          <a:blip r:embed="rId1"/>
          <a:stretch/>
        </p:blipFill>
        <p:spPr>
          <a:xfrm>
            <a:off x="4044960" y="514440"/>
            <a:ext cx="1000080" cy="7808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j0213521"/>
          <p:cNvPicPr/>
          <p:nvPr/>
        </p:nvPicPr>
        <p:blipFill>
          <a:blip r:embed="rId2"/>
          <a:stretch/>
        </p:blipFill>
        <p:spPr>
          <a:xfrm>
            <a:off x="7097760" y="3414600"/>
            <a:ext cx="952560" cy="6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2" name="Object 6"/>
          <p:cNvGraphicFramePr/>
          <p:nvPr/>
        </p:nvGraphicFramePr>
        <p:xfrm>
          <a:off x="3828960" y="1724040"/>
          <a:ext cx="2100240" cy="58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28960" y="1724040"/>
                    <a:ext cx="210024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7"/>
          <p:cNvGraphicFramePr/>
          <p:nvPr/>
        </p:nvGraphicFramePr>
        <p:xfrm>
          <a:off x="1940040" y="3525840"/>
          <a:ext cx="4898880" cy="5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40040" y="3525840"/>
                    <a:ext cx="4898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8"/>
          <p:cNvGraphicFramePr/>
          <p:nvPr/>
        </p:nvGraphicFramePr>
        <p:xfrm>
          <a:off x="1757520" y="5856120"/>
          <a:ext cx="4927320" cy="57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7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57520" y="5856120"/>
                    <a:ext cx="492732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Try It Out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Use the correct principles to simplify the following: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251" name="Object 4"/>
          <p:cNvGraphicFramePr/>
          <p:nvPr/>
        </p:nvGraphicFramePr>
        <p:xfrm>
          <a:off x="4721400" y="2727360"/>
          <a:ext cx="2062080" cy="58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1400" y="2727360"/>
                    <a:ext cx="206208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5"/>
          <p:cNvGraphicFramePr/>
          <p:nvPr/>
        </p:nvGraphicFramePr>
        <p:xfrm>
          <a:off x="1201680" y="3838680"/>
          <a:ext cx="3400560" cy="71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01680" y="3838680"/>
                    <a:ext cx="3400560" cy="71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6"/>
          <p:cNvGraphicFramePr/>
          <p:nvPr/>
        </p:nvGraphicFramePr>
        <p:xfrm>
          <a:off x="4235400" y="5014800"/>
          <a:ext cx="2075040" cy="84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35400" y="5014800"/>
                    <a:ext cx="2075040" cy="8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The                </a:t>
            </a:r>
            <a:br>
              <a:rPr sz="3900"/>
            </a:b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Discriminant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onsider the expression under the radical in the quadratic formula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This is known as the </a:t>
            </a:r>
            <a:r>
              <a:rPr b="0" i="1" lang="en-US" sz="2600" spc="-1" strike="noStrike">
                <a:solidFill>
                  <a:srgbClr val="1c1c1c"/>
                </a:solidFill>
                <a:latin typeface="Arial"/>
              </a:rPr>
              <a:t>discriminant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What happens when it is 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Positive and a perfect square?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Positive and </a:t>
            </a:r>
            <a:r>
              <a:rPr b="0" lang="en-US" sz="2600" spc="-1" strike="noStrike" u="sng">
                <a:solidFill>
                  <a:srgbClr val="1c1c1c"/>
                </a:solidFill>
                <a:uFillTx/>
                <a:latin typeface="Arial"/>
              </a:rPr>
              <a:t>not</a:t>
            </a: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 a perfect square?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Zero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Negative ?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260" name="Object 4"/>
          <p:cNvGraphicFramePr/>
          <p:nvPr/>
        </p:nvGraphicFramePr>
        <p:xfrm>
          <a:off x="4265640" y="2478240"/>
          <a:ext cx="20113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5640" y="2478240"/>
                    <a:ext cx="20113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AutoShape 5"/>
          <p:cNvSpPr/>
          <p:nvPr/>
        </p:nvSpPr>
        <p:spPr>
          <a:xfrm>
            <a:off x="5029200" y="2533680"/>
            <a:ext cx="1319040" cy="509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3" name="Line 6"/>
          <p:cNvSpPr/>
          <p:nvPr/>
        </p:nvSpPr>
        <p:spPr>
          <a:xfrm flipH="1">
            <a:off x="6178680" y="2233440"/>
            <a:ext cx="326880" cy="28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64" name="WordArt 7" descr=""/>
          <p:cNvPicPr/>
          <p:nvPr/>
        </p:nvPicPr>
        <p:blipFill>
          <a:blip r:embed="rId3"/>
          <a:stretch/>
        </p:blipFill>
        <p:spPr>
          <a:xfrm>
            <a:off x="1590840" y="189000"/>
            <a:ext cx="3114360" cy="695160"/>
          </a:xfrm>
          <a:prstGeom prst="rect">
            <a:avLst/>
          </a:prstGeom>
          <a:ln w="0">
            <a:noFill/>
          </a:ln>
        </p:spPr>
      </p:pic>
      <p:grpSp>
        <p:nvGrpSpPr>
          <p:cNvPr id="265" name="Group 10"/>
          <p:cNvGrpSpPr/>
          <p:nvPr/>
        </p:nvGrpSpPr>
        <p:grpSpPr>
          <a:xfrm>
            <a:off x="3117960" y="5251320"/>
            <a:ext cx="3781440" cy="1606680"/>
            <a:chOff x="3117960" y="5251320"/>
            <a:chExt cx="3781440" cy="1606680"/>
          </a:xfrm>
        </p:grpSpPr>
        <p:sp>
          <p:nvSpPr>
            <p:cNvPr id="266" name="AutoShape 9"/>
            <p:cNvSpPr/>
            <p:nvPr/>
          </p:nvSpPr>
          <p:spPr>
            <a:xfrm>
              <a:off x="3117960" y="5251320"/>
              <a:ext cx="3781440" cy="1606680"/>
            </a:xfrm>
            <a:prstGeom prst="irregularSeal1">
              <a:avLst/>
            </a:prstGeom>
            <a:solidFill>
              <a:srgbClr val="808080"/>
            </a:solidFill>
            <a:ln w="25560">
              <a:solidFill>
                <a:srgbClr val="5c5c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7" name="Text Box 8"/>
            <p:cNvSpPr/>
            <p:nvPr/>
          </p:nvSpPr>
          <p:spPr>
            <a:xfrm>
              <a:off x="3490920" y="5735520"/>
              <a:ext cx="2895480" cy="459720"/>
            </a:xfrm>
            <a:prstGeom prst="rect">
              <a:avLst/>
            </a:prstGeom>
            <a:solidFill>
              <a:srgbClr val="5c8a8a"/>
            </a:solidFill>
            <a:ln w="25560">
              <a:solidFill>
                <a:srgbClr val="41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omplex roots</a:t>
              </a:r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2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Example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onsider the solution to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Note the graph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No intersections</a:t>
            </a:r>
            <a:br>
              <a:rPr sz="2600"/>
            </a:b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with x-axis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Using the </a:t>
            </a:r>
            <a:br>
              <a:rPr sz="3000"/>
            </a:br>
            <a:r>
              <a:rPr b="1" lang="en-US" sz="3000" spc="-1" strike="noStrike">
                <a:solidFill>
                  <a:srgbClr val="ffff99"/>
                </a:solidFill>
                <a:latin typeface="Courier New"/>
              </a:rPr>
              <a:t>solve 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and</a:t>
            </a:r>
            <a:br>
              <a:rPr sz="3000"/>
            </a:br>
            <a:r>
              <a:rPr b="1" lang="en-US" sz="3000" spc="-1" strike="noStrike">
                <a:solidFill>
                  <a:srgbClr val="ffff99"/>
                </a:solidFill>
                <a:latin typeface="Courier New"/>
              </a:rPr>
              <a:t>csolve</a:t>
            </a:r>
            <a:br>
              <a:rPr sz="3000"/>
            </a:b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functions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271" name="Object 4"/>
          <p:cNvGraphicFramePr/>
          <p:nvPr/>
        </p:nvGraphicFramePr>
        <p:xfrm>
          <a:off x="5168880" y="1685880"/>
          <a:ext cx="2409840" cy="5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68880" y="1685880"/>
                    <a:ext cx="240984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3" name="Picture 5" descr=""/>
          <p:cNvPicPr/>
          <p:nvPr/>
        </p:nvPicPr>
        <p:blipFill>
          <a:blip r:embed="rId3"/>
          <a:srcRect l="0" t="0" r="0" b="33688"/>
          <a:stretch/>
        </p:blipFill>
        <p:spPr>
          <a:xfrm>
            <a:off x="4249800" y="2446200"/>
            <a:ext cx="4367160" cy="1544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74" name="Picture 6" descr=""/>
          <p:cNvPicPr/>
          <p:nvPr/>
        </p:nvPicPr>
        <p:blipFill>
          <a:blip r:embed="rId4"/>
          <a:stretch/>
        </p:blipFill>
        <p:spPr>
          <a:xfrm>
            <a:off x="3724200" y="4446720"/>
            <a:ext cx="3959280" cy="2111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75" name="Line 7"/>
          <p:cNvSpPr/>
          <p:nvPr/>
        </p:nvSpPr>
        <p:spPr>
          <a:xfrm flipV="1">
            <a:off x="3859200" y="3394080"/>
            <a:ext cx="1797120" cy="295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Fundamental Theorem of Algebra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A polynomial f(x) of degree n 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Arial"/>
              </a:rPr>
              <a:t>≥ 1 has at least one complex zero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  <a:ea typeface="Arial"/>
              </a:rPr>
              <a:t>Remember that complex includes </a:t>
            </a:r>
            <a:r>
              <a:rPr b="0" lang="en-US" sz="2600" spc="-1" strike="noStrike" u="sng">
                <a:solidFill>
                  <a:srgbClr val="1c1c1c"/>
                </a:solidFill>
                <a:uFillTx/>
                <a:latin typeface="Arial"/>
                <a:ea typeface="Arial"/>
              </a:rPr>
              <a:t>reals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Arial"/>
              </a:rPr>
              <a:t>Number of Zeros theorem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  <a:ea typeface="Arial"/>
              </a:rPr>
              <a:t>A polynomial of degree </a:t>
            </a:r>
            <a:r>
              <a:rPr b="0" i="1" lang="en-US" sz="2600" spc="-1" strike="noStrike">
                <a:solidFill>
                  <a:srgbClr val="1c1c1c"/>
                </a:solidFill>
                <a:latin typeface="Arial"/>
                <a:ea typeface="Arial"/>
              </a:rPr>
              <a:t>n</a:t>
            </a:r>
            <a:r>
              <a:rPr b="0" lang="en-US" sz="2600" spc="-1" strike="noStrike">
                <a:solidFill>
                  <a:srgbClr val="1c1c1c"/>
                </a:solidFill>
                <a:latin typeface="Arial"/>
                <a:ea typeface="Arial"/>
              </a:rPr>
              <a:t> has at most </a:t>
            </a:r>
            <a:r>
              <a:rPr b="0" i="1" lang="en-US" sz="2600" spc="-1" strike="noStrike">
                <a:solidFill>
                  <a:srgbClr val="1c1c1c"/>
                </a:solidFill>
                <a:latin typeface="Arial"/>
                <a:ea typeface="Arial"/>
              </a:rPr>
              <a:t>n</a:t>
            </a:r>
            <a:r>
              <a:rPr b="0" lang="en-US" sz="2600" spc="-1" strike="noStrike">
                <a:solidFill>
                  <a:srgbClr val="1c1c1c"/>
                </a:solidFill>
                <a:latin typeface="Arial"/>
                <a:ea typeface="Arial"/>
              </a:rPr>
              <a:t> distinct zeros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Arial"/>
              </a:rPr>
              <a:t>Explain how theorems apply to these graphs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79" name="Picture 4" descr=""/>
          <p:cNvPicPr/>
          <p:nvPr/>
        </p:nvPicPr>
        <p:blipFill>
          <a:blip r:embed="rId1"/>
          <a:stretch/>
        </p:blipFill>
        <p:spPr>
          <a:xfrm>
            <a:off x="622440" y="5065560"/>
            <a:ext cx="2286000" cy="1219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80" name="Picture 6" descr=""/>
          <p:cNvPicPr/>
          <p:nvPr/>
        </p:nvPicPr>
        <p:blipFill>
          <a:blip r:embed="rId2"/>
          <a:stretch/>
        </p:blipFill>
        <p:spPr>
          <a:xfrm>
            <a:off x="3413160" y="5099040"/>
            <a:ext cx="2286000" cy="1219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81" name="Picture 8" descr=""/>
          <p:cNvPicPr/>
          <p:nvPr/>
        </p:nvPicPr>
        <p:blipFill>
          <a:blip r:embed="rId3"/>
          <a:stretch/>
        </p:blipFill>
        <p:spPr>
          <a:xfrm>
            <a:off x="6248520" y="5097600"/>
            <a:ext cx="2286000" cy="1218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Conjugate Zeroes Theorem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Given a polynomial with real coefficients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If </a:t>
            </a:r>
            <a:r>
              <a:rPr b="1" lang="en-US" sz="3000" spc="-1" strike="noStrike">
                <a:solidFill>
                  <a:srgbClr val="ffff99"/>
                </a:solidFill>
                <a:latin typeface="Courier New"/>
              </a:rPr>
              <a:t>a + b</a:t>
            </a:r>
            <a:r>
              <a:rPr b="1" i="1" lang="en-US" sz="3000" spc="-1" strike="noStrike">
                <a:solidFill>
                  <a:srgbClr val="ffff99"/>
                </a:solidFill>
                <a:latin typeface="Courier New"/>
              </a:rPr>
              <a:t>i</a:t>
            </a:r>
            <a:r>
              <a:rPr b="1" lang="en-US" sz="30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is a zero, then </a:t>
            </a:r>
            <a:r>
              <a:rPr b="1" lang="en-US" sz="3000" spc="-1" strike="noStrike">
                <a:solidFill>
                  <a:srgbClr val="ffff99"/>
                </a:solidFill>
                <a:latin typeface="Courier New"/>
              </a:rPr>
              <a:t>a – bi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 will also be a zero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285" name="Object 4"/>
          <p:cNvGraphicFramePr/>
          <p:nvPr/>
        </p:nvGraphicFramePr>
        <p:xfrm>
          <a:off x="1015920" y="2489040"/>
          <a:ext cx="7027920" cy="7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920" y="2489040"/>
                    <a:ext cx="70279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Line 5"/>
          <p:cNvSpPr/>
          <p:nvPr/>
        </p:nvSpPr>
        <p:spPr>
          <a:xfrm flipH="1">
            <a:off x="2825640" y="2217600"/>
            <a:ext cx="2355840" cy="484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8" name="Line 6"/>
          <p:cNvSpPr/>
          <p:nvPr/>
        </p:nvSpPr>
        <p:spPr>
          <a:xfrm flipH="1">
            <a:off x="4087440" y="2216160"/>
            <a:ext cx="1120680" cy="415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9" name="Line 7"/>
          <p:cNvSpPr/>
          <p:nvPr/>
        </p:nvSpPr>
        <p:spPr>
          <a:xfrm>
            <a:off x="5222880" y="2216160"/>
            <a:ext cx="1122480" cy="582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90" name="Group 11"/>
          <p:cNvGrpSpPr/>
          <p:nvPr/>
        </p:nvGrpSpPr>
        <p:grpSpPr>
          <a:xfrm>
            <a:off x="2259000" y="4378320"/>
            <a:ext cx="4371840" cy="1557360"/>
            <a:chOff x="2259000" y="4378320"/>
            <a:chExt cx="4371840" cy="1557360"/>
          </a:xfrm>
        </p:grpSpPr>
        <p:pic>
          <p:nvPicPr>
            <p:cNvPr id="291" name="Picture 8" descr=""/>
            <p:cNvPicPr/>
            <p:nvPr/>
          </p:nvPicPr>
          <p:blipFill>
            <a:blip r:embed="rId3"/>
            <a:srcRect l="0" t="54532" r="0" b="0"/>
            <a:stretch/>
          </p:blipFill>
          <p:spPr>
            <a:xfrm>
              <a:off x="2671920" y="4975200"/>
              <a:ext cx="3958920" cy="9604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292" name="Line 9"/>
            <p:cNvSpPr/>
            <p:nvPr/>
          </p:nvSpPr>
          <p:spPr>
            <a:xfrm>
              <a:off x="2259000" y="4475160"/>
              <a:ext cx="1744560" cy="8031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3" name="Line 10"/>
            <p:cNvSpPr/>
            <p:nvPr/>
          </p:nvSpPr>
          <p:spPr>
            <a:xfrm flipH="1">
              <a:off x="5998680" y="4378320"/>
              <a:ext cx="179640" cy="858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2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Assignment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712880" y="2013120"/>
            <a:ext cx="743112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Lesson 3.3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Page 211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Exercises 1 – 78  EOO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The Imaginary Number </a:t>
            </a:r>
            <a:r>
              <a:rPr b="0" i="1" lang="en-US" sz="3900" spc="-1" strike="noStrike">
                <a:solidFill>
                  <a:srgbClr val="1c1c1c"/>
                </a:solidFill>
                <a:latin typeface="Arial"/>
              </a:rPr>
              <a:t>i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By definition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onsider powers if </a:t>
            </a:r>
            <a:r>
              <a:rPr b="0" i="1" lang="en-US" sz="3000" spc="-1" strike="noStrike">
                <a:solidFill>
                  <a:srgbClr val="1c1c1c"/>
                </a:solidFill>
                <a:latin typeface="Arial"/>
              </a:rPr>
              <a:t>i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159" name="Object 4"/>
          <p:cNvGraphicFramePr/>
          <p:nvPr/>
        </p:nvGraphicFramePr>
        <p:xfrm>
          <a:off x="4191120" y="1676520"/>
          <a:ext cx="3352680" cy="59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676520"/>
                    <a:ext cx="335268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5"/>
          <p:cNvGraphicFramePr/>
          <p:nvPr/>
        </p:nvGraphicFramePr>
        <p:xfrm>
          <a:off x="2438280" y="3276720"/>
          <a:ext cx="3733920" cy="330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3276720"/>
                    <a:ext cx="3733920" cy="33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3" name="Group 6"/>
          <p:cNvGrpSpPr/>
          <p:nvPr/>
        </p:nvGrpSpPr>
        <p:grpSpPr>
          <a:xfrm>
            <a:off x="6508800" y="2433600"/>
            <a:ext cx="2262240" cy="2244600"/>
            <a:chOff x="6508800" y="2433600"/>
            <a:chExt cx="2262240" cy="2244600"/>
          </a:xfrm>
        </p:grpSpPr>
        <p:pic>
          <p:nvPicPr>
            <p:cNvPr id="164" name="Picture 7" descr="j0236531"/>
            <p:cNvPicPr/>
            <p:nvPr/>
          </p:nvPicPr>
          <p:blipFill>
            <a:blip r:embed="rId5"/>
            <a:stretch/>
          </p:blipFill>
          <p:spPr>
            <a:xfrm>
              <a:off x="7742520" y="3421080"/>
              <a:ext cx="1028520" cy="12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AutoShape 8"/>
            <p:cNvSpPr/>
            <p:nvPr/>
          </p:nvSpPr>
          <p:spPr>
            <a:xfrm>
              <a:off x="6508800" y="2433600"/>
              <a:ext cx="1317600" cy="1114560"/>
            </a:xfrm>
            <a:prstGeom prst="wedgeEllipseCallout">
              <a:avLst>
                <a:gd name="adj1" fmla="val 47467"/>
                <a:gd name="adj2" fmla="val 61824"/>
              </a:avLst>
            </a:prstGeom>
            <a:solidFill>
              <a:srgbClr val="669999"/>
            </a:solidFill>
            <a:ln w="25560">
              <a:solidFill>
                <a:srgbClr val="496f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Verdana"/>
                </a:rPr>
                <a:t>It's any number you can imagine</a:t>
              </a:r>
              <a:endParaRPr b="0" lang="en-US" sz="1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Using </a:t>
            </a:r>
            <a:r>
              <a:rPr b="0" i="1" lang="en-US" sz="3900" spc="-1" strike="noStrike">
                <a:solidFill>
                  <a:srgbClr val="1c1c1c"/>
                </a:solidFill>
                <a:latin typeface="Arial"/>
              </a:rPr>
              <a:t>i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Now we can handle quantities that occasionally show up in mathematical solutions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What about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169" name="Object 4"/>
          <p:cNvGraphicFramePr/>
          <p:nvPr/>
        </p:nvGraphicFramePr>
        <p:xfrm>
          <a:off x="2676600" y="3476520"/>
          <a:ext cx="4008240" cy="7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76600" y="3476520"/>
                    <a:ext cx="400824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5"/>
          <p:cNvGraphicFramePr/>
          <p:nvPr/>
        </p:nvGraphicFramePr>
        <p:xfrm>
          <a:off x="2911320" y="5567400"/>
          <a:ext cx="113832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1320" y="5567400"/>
                    <a:ext cx="113832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6"/>
          <p:cNvGraphicFramePr/>
          <p:nvPr/>
        </p:nvGraphicFramePr>
        <p:xfrm>
          <a:off x="5205240" y="5611680"/>
          <a:ext cx="1079640" cy="62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05240" y="5611680"/>
                    <a:ext cx="107964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Complex Numbers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ombine real numbers with imaginary numbers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a + b</a:t>
            </a:r>
            <a:r>
              <a:rPr b="1" i="1" lang="en-US" sz="2600" spc="-1" strike="noStrike">
                <a:solidFill>
                  <a:srgbClr val="1c1c1c"/>
                </a:solidFill>
                <a:latin typeface="Arial"/>
              </a:rPr>
              <a:t>i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Examples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61920" y="2708280"/>
            <a:ext cx="1797120" cy="1081080"/>
            <a:chOff x="61920" y="2708280"/>
            <a:chExt cx="1797120" cy="1081080"/>
          </a:xfrm>
        </p:grpSpPr>
        <p:sp>
          <p:nvSpPr>
            <p:cNvPr id="179" name="Text Box 5"/>
            <p:cNvSpPr/>
            <p:nvPr/>
          </p:nvSpPr>
          <p:spPr>
            <a:xfrm>
              <a:off x="61920" y="342108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Verdana"/>
                </a:rPr>
                <a:t>Real part</a:t>
              </a: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0" name="Line 6"/>
            <p:cNvSpPr/>
            <p:nvPr/>
          </p:nvSpPr>
          <p:spPr>
            <a:xfrm flipV="1">
              <a:off x="1084320" y="2708280"/>
              <a:ext cx="293760" cy="712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81" name="Group 7"/>
          <p:cNvGrpSpPr/>
          <p:nvPr/>
        </p:nvGrpSpPr>
        <p:grpSpPr>
          <a:xfrm>
            <a:off x="1979640" y="2752560"/>
            <a:ext cx="2332080" cy="1090440"/>
            <a:chOff x="1979640" y="2752560"/>
            <a:chExt cx="2332080" cy="1090440"/>
          </a:xfrm>
        </p:grpSpPr>
        <p:sp>
          <p:nvSpPr>
            <p:cNvPr id="182" name="Text Box 8"/>
            <p:cNvSpPr/>
            <p:nvPr/>
          </p:nvSpPr>
          <p:spPr>
            <a:xfrm>
              <a:off x="2668680" y="3200400"/>
              <a:ext cx="164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Verdana"/>
                </a:rPr>
                <a:t>Imaginary part</a:t>
              </a: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3" name="Freeform 9"/>
            <p:cNvSpPr/>
            <p:nvPr/>
          </p:nvSpPr>
          <p:spPr>
            <a:xfrm>
              <a:off x="1979640" y="2752560"/>
              <a:ext cx="611280" cy="647640"/>
            </a:xfrm>
            <a:custGeom>
              <a:avLst/>
              <a:gdLst/>
              <a:ahLst/>
              <a:rect l="l" t="t" r="r" b="b"/>
              <a:pathLst>
                <a:path w="385" h="408">
                  <a:moveTo>
                    <a:pt x="385" y="400"/>
                  </a:moveTo>
                  <a:cubicBezTo>
                    <a:pt x="255" y="404"/>
                    <a:pt x="126" y="408"/>
                    <a:pt x="63" y="341"/>
                  </a:cubicBezTo>
                  <a:cubicBezTo>
                    <a:pt x="0" y="274"/>
                    <a:pt x="2" y="137"/>
                    <a:pt x="4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aphicFrame>
        <p:nvGraphicFramePr>
          <p:cNvPr id="184" name="Object 10"/>
          <p:cNvGraphicFramePr/>
          <p:nvPr/>
        </p:nvGraphicFramePr>
        <p:xfrm>
          <a:off x="1776240" y="5308560"/>
          <a:ext cx="1020960" cy="4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6240" y="5308560"/>
                    <a:ext cx="102096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Object 11"/>
          <p:cNvGraphicFramePr/>
          <p:nvPr/>
        </p:nvGraphicFramePr>
        <p:xfrm>
          <a:off x="3659040" y="4770360"/>
          <a:ext cx="1252800" cy="9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9040" y="4770360"/>
                    <a:ext cx="125280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Object 12"/>
          <p:cNvGraphicFramePr/>
          <p:nvPr/>
        </p:nvGraphicFramePr>
        <p:xfrm>
          <a:off x="5600880" y="5518080"/>
          <a:ext cx="1920600" cy="58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00880" y="5518080"/>
                    <a:ext cx="19206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Try It Out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Write these complex numbers in standard form   a + b</a:t>
            </a:r>
            <a:r>
              <a:rPr b="1" i="1" lang="en-US" sz="3000" spc="-1" strike="noStrike">
                <a:solidFill>
                  <a:srgbClr val="1c1c1c"/>
                </a:solidFill>
                <a:latin typeface="Arial"/>
              </a:rPr>
              <a:t>i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193" name="Object 4"/>
          <p:cNvGraphicFramePr/>
          <p:nvPr/>
        </p:nvGraphicFramePr>
        <p:xfrm>
          <a:off x="1522440" y="3411360"/>
          <a:ext cx="152064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440" y="3411360"/>
                    <a:ext cx="152064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5"/>
          <p:cNvGraphicFramePr/>
          <p:nvPr/>
        </p:nvGraphicFramePr>
        <p:xfrm>
          <a:off x="4705200" y="3889440"/>
          <a:ext cx="1436760" cy="56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05200" y="3889440"/>
                    <a:ext cx="143676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6"/>
          <p:cNvGraphicFramePr/>
          <p:nvPr/>
        </p:nvGraphicFramePr>
        <p:xfrm>
          <a:off x="1820880" y="4854600"/>
          <a:ext cx="1787400" cy="62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0880" y="4854600"/>
                    <a:ext cx="178740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7"/>
          <p:cNvGraphicFramePr/>
          <p:nvPr/>
        </p:nvGraphicFramePr>
        <p:xfrm>
          <a:off x="5160960" y="5176800"/>
          <a:ext cx="1474920" cy="603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0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60960" y="5176800"/>
                    <a:ext cx="147492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Operations on Complex Numbers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omplex numbers can be combined with 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addition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subtraction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multiplication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division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onsider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204" name="Object 4"/>
          <p:cNvGraphicFramePr/>
          <p:nvPr/>
        </p:nvGraphicFramePr>
        <p:xfrm>
          <a:off x="4205160" y="4079880"/>
          <a:ext cx="3481560" cy="76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5160" y="4079880"/>
                    <a:ext cx="348156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5"/>
          <p:cNvGraphicFramePr/>
          <p:nvPr/>
        </p:nvGraphicFramePr>
        <p:xfrm>
          <a:off x="760320" y="4854600"/>
          <a:ext cx="3065400" cy="68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0320" y="4854600"/>
                    <a:ext cx="306540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6"/>
          <p:cNvGraphicFramePr/>
          <p:nvPr/>
        </p:nvGraphicFramePr>
        <p:xfrm>
          <a:off x="5288040" y="5272200"/>
          <a:ext cx="2762280" cy="657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88040" y="5272200"/>
                    <a:ext cx="276228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Operations on Complex Numbers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Division technique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Multiply numerator and denominator by the conjugate of the denominator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1805040" y="3389400"/>
          <a:ext cx="834840" cy="83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5040" y="3389400"/>
                    <a:ext cx="83484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5" name="Group 5"/>
          <p:cNvGrpSpPr/>
          <p:nvPr/>
        </p:nvGrpSpPr>
        <p:grpSpPr>
          <a:xfrm>
            <a:off x="2781360" y="3103560"/>
            <a:ext cx="3182760" cy="2948040"/>
            <a:chOff x="2781360" y="3103560"/>
            <a:chExt cx="3182760" cy="2948040"/>
          </a:xfrm>
        </p:grpSpPr>
        <p:graphicFrame>
          <p:nvGraphicFramePr>
            <p:cNvPr id="216" name="Object 6"/>
            <p:cNvGraphicFramePr/>
            <p:nvPr/>
          </p:nvGraphicFramePr>
          <p:xfrm>
            <a:off x="2781360" y="3390840"/>
            <a:ext cx="3182760" cy="2660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7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81360" y="3390840"/>
                      <a:ext cx="3182760" cy="266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8" name="Oval 7"/>
            <p:cNvSpPr/>
            <p:nvPr/>
          </p:nvSpPr>
          <p:spPr>
            <a:xfrm>
              <a:off x="3811680" y="3206880"/>
              <a:ext cx="1146240" cy="12492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9" name="Line 8"/>
            <p:cNvSpPr/>
            <p:nvPr/>
          </p:nvSpPr>
          <p:spPr>
            <a:xfrm>
              <a:off x="3387600" y="3103560"/>
              <a:ext cx="463680" cy="347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1c1c1c"/>
                </a:solidFill>
                <a:latin typeface="Arial"/>
              </a:rPr>
              <a:t>Complex Numbers on the Calculator</a:t>
            </a:r>
            <a:endParaRPr b="1" lang="en-US" sz="35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Possible result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Reset mode</a:t>
            </a:r>
            <a:br>
              <a:rPr sz="3000"/>
            </a:b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omplex format</a:t>
            </a:r>
            <a:br>
              <a:rPr sz="3000"/>
            </a:b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to </a:t>
            </a:r>
            <a:r>
              <a:rPr b="0" lang="en-US" sz="3000" spc="-1" strike="noStrike" u="sng">
                <a:solidFill>
                  <a:srgbClr val="1c1c1c"/>
                </a:solidFill>
                <a:uFillTx/>
                <a:latin typeface="Arial"/>
              </a:rPr>
              <a:t>Rectangular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Now calculator does </a:t>
            </a:r>
            <a:br>
              <a:rPr sz="3000"/>
            </a:b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desired result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4613400" y="1428840"/>
            <a:ext cx="2890800" cy="1541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24" name="Picture 5" descr=""/>
          <p:cNvPicPr/>
          <p:nvPr/>
        </p:nvPicPr>
        <p:blipFill>
          <a:blip r:embed="rId2"/>
          <a:stretch/>
        </p:blipFill>
        <p:spPr>
          <a:xfrm>
            <a:off x="5078520" y="2484360"/>
            <a:ext cx="3155760" cy="1683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225" name="Group 6"/>
          <p:cNvGrpSpPr/>
          <p:nvPr/>
        </p:nvGrpSpPr>
        <p:grpSpPr>
          <a:xfrm>
            <a:off x="4327560" y="5319720"/>
            <a:ext cx="4456080" cy="984240"/>
            <a:chOff x="4327560" y="5319720"/>
            <a:chExt cx="4456080" cy="984240"/>
          </a:xfrm>
        </p:grpSpPr>
        <p:pic>
          <p:nvPicPr>
            <p:cNvPr id="226" name="Picture 7" descr=""/>
            <p:cNvPicPr/>
            <p:nvPr/>
          </p:nvPicPr>
          <p:blipFill>
            <a:blip r:embed="rId3"/>
            <a:srcRect l="0" t="54975" r="0" b="0"/>
            <a:stretch/>
          </p:blipFill>
          <p:spPr>
            <a:xfrm>
              <a:off x="4524480" y="5354640"/>
              <a:ext cx="3949560" cy="9493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227" name="Oval 8"/>
            <p:cNvSpPr/>
            <p:nvPr/>
          </p:nvSpPr>
          <p:spPr>
            <a:xfrm>
              <a:off x="7624800" y="5653080"/>
              <a:ext cx="1158840" cy="477720"/>
            </a:xfrm>
            <a:prstGeom prst="ellipse">
              <a:avLst/>
            </a:prstGeom>
            <a:noFill/>
            <a:ln w="19080">
              <a:solidFill>
                <a:srgbClr val="d8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8" name="Line 9"/>
            <p:cNvSpPr/>
            <p:nvPr/>
          </p:nvSpPr>
          <p:spPr>
            <a:xfrm>
              <a:off x="4327560" y="5319720"/>
              <a:ext cx="3206880" cy="514440"/>
            </a:xfrm>
            <a:prstGeom prst="line">
              <a:avLst/>
            </a:prstGeom>
            <a:ln w="19080">
              <a:solidFill>
                <a:srgbClr val="d8d8e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10" descr="http://upload.wikimedia.org/wikipedia/commons/0/0d/TI-89Titanium.png"/>
          <p:cNvPicPr/>
          <p:nvPr/>
        </p:nvPicPr>
        <p:blipFill>
          <a:blip r:embed="rId1"/>
          <a:srcRect l="0" t="42599" r="0" b="22273"/>
          <a:stretch/>
        </p:blipFill>
        <p:spPr>
          <a:xfrm>
            <a:off x="3594240" y="2270160"/>
            <a:ext cx="5445000" cy="400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1c1c1c"/>
                </a:solidFill>
                <a:latin typeface="Arial"/>
              </a:rPr>
              <a:t>Complex Numbers on the Calculator</a:t>
            </a:r>
            <a:endParaRPr b="1" lang="en-US" sz="35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Operations with complex on calculator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438120" y="3811680"/>
            <a:ext cx="2962440" cy="916920"/>
          </a:xfrm>
          <a:prstGeom prst="rect">
            <a:avLst/>
          </a:prstGeom>
          <a:solidFill>
            <a:srgbClr val="669999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Make sure to use the correct character for </a:t>
            </a:r>
            <a:r>
              <a:rPr b="1" i="1" lang="en-US" sz="1800" spc="-1" strike="noStrike">
                <a:solidFill>
                  <a:srgbClr val="ffffcc"/>
                </a:solidFill>
                <a:latin typeface="Verdana"/>
              </a:rPr>
              <a:t>i</a:t>
            </a: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. Use 2</a:t>
            </a:r>
            <a:r>
              <a:rPr b="0" lang="en-US" sz="1800" spc="-1" strike="noStrike" baseline="30000">
                <a:solidFill>
                  <a:srgbClr val="ffffcc"/>
                </a:solidFill>
                <a:latin typeface="Verdana"/>
              </a:rPr>
              <a:t>nd</a:t>
            </a: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-i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Oval 6"/>
          <p:cNvSpPr/>
          <p:nvPr/>
        </p:nvSpPr>
        <p:spPr>
          <a:xfrm>
            <a:off x="6080040" y="3360600"/>
            <a:ext cx="387360" cy="4510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Oval 7"/>
          <p:cNvSpPr/>
          <p:nvPr/>
        </p:nvSpPr>
        <p:spPr>
          <a:xfrm>
            <a:off x="4278240" y="2301840"/>
            <a:ext cx="750960" cy="4507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Line 8"/>
          <p:cNvSpPr/>
          <p:nvPr/>
        </p:nvSpPr>
        <p:spPr>
          <a:xfrm>
            <a:off x="4932360" y="2752560"/>
            <a:ext cx="1147680" cy="8337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4T23:44:35Z</dcterms:created>
  <dc:creator>Steve Armstrong</dc:creator>
  <dc:description/>
  <dc:language>en-US</dc:language>
  <cp:lastModifiedBy>LEGION</cp:lastModifiedBy>
  <dcterms:modified xsi:type="dcterms:W3CDTF">2017-07-06T06:31:58Z</dcterms:modified>
  <cp:revision>13</cp:revision>
  <dc:subject/>
  <dc:title>The Fundamental Theorem of Algebra</dc:title>
</cp:coreProperties>
</file>