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8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71E2F-86D2-4580-A683-6D63A4B08C4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33FC5-7C03-4ED3-87C0-18A0B2BD61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(-3x2)3 = -3(x2)3 = -3x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(-3x2)3 = -(3x2)3 = -27x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(-3x2)3 = (-3)3(x2)3 = -27x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closer to the 102 mark than to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closer to the 103 mark than to the 102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exactly between the 102 and the 103 m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x) is exponential and g(x) is lin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f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g(x) is neither linear or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f(x) is linear and g(x) is expon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pulation of bacteria is described by y = 200(2.75)t where t is measured in days.  Which statement is corr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1.1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100(1.5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00(.2)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100(1/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25(8)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30(1/2)t/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8(1/2)8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4t where t is measured in d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log(a2) is about .0906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4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It equals .25 + 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It equals .25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many years, how should you rank the jobs according to the income you will rece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02A6-C99C-4F2C-890C-C6B80D023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DD15-8742-4A60-BF8B-C129A24F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FFC-2B9B-45F2-8A73-34BAC3A7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15C9-97E0-49A5-B4B0-B859CD27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EBF7-A8E9-48EB-825D-C674D8EBE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50C9-D2E3-4D00-9B26-A5583388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2430-659C-49D7-8FF0-99FE3D99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C6D6-12EC-4CA1-AEF9-54A34D88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BC83-23DB-44C4-8DFC-996641E0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A762-B783-45A8-8790-C3AD032C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FEF3-0C0F-43DD-BEAB-7A00CD2B9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A7D7-BBAB-442A-AC70-36625D1E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DDBEF-7B31-4ED6-A656-8A0C3189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3081-1C41-4175-BA05-0040271F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F4BA-3E0F-4880-85E9-FB9DAEAE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199D-222E-40E6-A027-2652E961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D819-1E5A-491B-827C-4632AB8A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2B40-2336-4B7B-BED5-B14D1E7DE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FE71B-0F83-429A-92CE-2768B34F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9193F-E8A3-43CA-A478-182DE663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EA0BC-351F-48E7-B70D-4541A28A1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D7921-259A-430F-80B3-6579EECE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BAC-FAD9-4B4D-8AF7-D59AFABD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B85A-E395-4193-B832-1B1E4039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1033F-9F62-4488-B44E-B38FF879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A3543-0667-4411-8F42-445A614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2C2B9-02F3-46A9-A69F-A05394DF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F24C8-F0C3-40D0-95E2-EB16C30F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0C5E9-8B57-4165-9317-E6CF9A9B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B2FB5-466E-4DFD-8986-439ECCF1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F0717-B418-4BB5-90B2-E72CD2534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C1916-86CD-4A72-AD0E-D3D887E9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63C6D-FA72-428F-BB91-365FE2BA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EB6-0CB7-4AB7-BA31-9ACBF31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1FB04-A220-42C3-87E9-11F03A7F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43A0-EE84-4562-A9F3-0229E26D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F37B-53F6-49D9-AA5F-DCC40D82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6993-0B0D-4FB4-A2B7-CFED7DC0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B1722-3399-4588-9C7A-3BDF77E8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03F01-BD1D-469D-9758-4F0DB42F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48304-08B8-4CAF-A725-328863BD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CEE92-99CB-465A-8605-0AA4A9C5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FC56C-7A50-4630-A0A5-16833C0D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4575-5B1F-4B3B-86E9-0105882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8C2C-92DD-4DD6-AB4D-F3089E8E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C147-D868-4827-A821-CD1D0D81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8494-D688-422F-BB31-F0ABA4AE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95D6-9501-48C1-BCD2-B7672B9B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16925-496F-4B7D-B45F-1979EFEDC4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F8E5F-76FC-4473-8815-CF7934C44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D5D37-D19F-4214-8738-20774869C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044CA-5244-4CBF-B246-0F5780264B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58EB2-D423-4F88-9493-1C924F48E6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44566-D367-4306-A2C6-2000190739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8DC159-5A9F-4FA9-8AD3-1CC44C0216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99A36-F647-4DDF-94A0-5C67D755F8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jogger runs away from campus at a steady rate, stops to talk to some friends, runs away from campus for a little longer, and then returns to campus.  Which graph below could show the jogger’s distance as a function of tim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304920" y="3657600"/>
            <a:ext cx="2185920" cy="2185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tretch/>
        </p:blipFill>
        <p:spPr>
          <a:xfrm>
            <a:off x="4572000" y="3657600"/>
            <a:ext cx="2187720" cy="2187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"/>
          <p:cNvPicPr/>
          <p:nvPr/>
        </p:nvPicPr>
        <p:blipFill>
          <a:blip r:embed="rId3"/>
          <a:stretch/>
        </p:blipFill>
        <p:spPr>
          <a:xfrm>
            <a:off x="2438280" y="35053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"/>
          <p:cNvPicPr/>
          <p:nvPr/>
        </p:nvPicPr>
        <p:blipFill>
          <a:blip r:embed="rId4"/>
          <a:stretch/>
        </p:blipFill>
        <p:spPr>
          <a:xfrm>
            <a:off x="6591240" y="3352680"/>
            <a:ext cx="255276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n two linear equations, how many solutions can the system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) Exactly one solution or no 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Exactly one solution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) Exactly one solution, no solutions, or infinitely many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) Any number of solu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aph on the right shows three different tax systems as a function of income.  Which represents a progressive tax (that is, where richer people pay a higher percentage of their income on taxes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7" descr="[image]"/>
          <p:cNvPicPr/>
          <p:nvPr/>
        </p:nvPicPr>
        <p:blipFill>
          <a:blip r:embed="rId1"/>
          <a:stretch/>
        </p:blipFill>
        <p:spPr>
          <a:xfrm>
            <a:off x="5181480" y="152388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tatement below is correc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3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(-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(-3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-2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your logarithmic scale of time, where does 500 years ago f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closer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 than to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exactly between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nd the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819160" cy="2514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6"/>
          <p:cNvSpPr/>
          <p:nvPr/>
        </p:nvSpPr>
        <p:spPr>
          <a:xfrm>
            <a:off x="457200" y="1905120"/>
            <a:ext cx="44956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of the following is tru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(x) is exponential and g(x) i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: g(x) is neither linear or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: f(x) is linear and g(x) is 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opulation of bacteria is described by y = 200(2.75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 is measured in days.  Which statement is correc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The population is growing at 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The population is growing at 275% per 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The population is growing at 175% per ho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ll functions below are graphed, which graph is the blue grap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1.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100(1.5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lphaU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 = 200(.2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191120" y="17146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of the below functions has a half life of 8 days?  (In all functions, t measures days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y = 100(1/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y = 25(8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y = 30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/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y = 8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8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ill the half-life be for the equation  y = 50(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ere t is measured in day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25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know that log a is about .301, which of the following statements is tru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log(100a) is about 2.3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log(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is about .0906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Both A and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either A nor B are tr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se the average rate of change of jobs in Caddo Parish with respect to time is 10,000 jobs/year for the period from 1995 to 2005. Which statement is most accurat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year, the number of jobs increased by 10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umber of jobs never decreas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 A) and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ither A) nor 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se you know that ln(a) equals .25.  What can you say about ln(a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It equals 4.25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: It equals .25 +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: It equals .2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cept Test: Which slope is largest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2" name="Object 2"/>
          <p:cNvGraphicFramePr/>
          <p:nvPr/>
        </p:nvGraphicFramePr>
        <p:xfrm>
          <a:off x="533520" y="1447920"/>
          <a:ext cx="4267080" cy="252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4267080" cy="25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3"/>
          <p:cNvGraphicFramePr/>
          <p:nvPr/>
        </p:nvGraphicFramePr>
        <p:xfrm>
          <a:off x="5257800" y="685800"/>
          <a:ext cx="3276720" cy="579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685800"/>
                    <a:ext cx="3276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4"/>
          <p:cNvGraphicFramePr/>
          <p:nvPr/>
        </p:nvGraphicFramePr>
        <p:xfrm>
          <a:off x="1523880" y="4114800"/>
          <a:ext cx="3124440" cy="2036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4114800"/>
                    <a:ext cx="3124440" cy="20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ven the graph on the right of y = f(x), which of the below numbers is most positiv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: f(2) – f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: the average rate of change of f from x = 0 to x =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: the average rate of change from x = -2 to x =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5181480" y="1905120"/>
            <a:ext cx="3505320" cy="350496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four linear functions below are graphed on the right.  Which one is the red li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: y = 4 + 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: y = 4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: y = 2 – 2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: y = 2 – 4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4647960" cy="46479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cars have the following functions that give the total cost of ownership as a function of the number of miles travel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A:  y = 15,000 + .14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B:  y = 28,000 + .20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r C:  y = 22,000 + .09 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was most expensive to purchas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car is the cheapest to operate per mil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60,000 miles, which car has had the lowest cost of ownershi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ple answers possible)  Which of the below tables shows a linear func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: None of the ab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" name="Object 2"/>
          <p:cNvGraphicFramePr/>
          <p:nvPr/>
        </p:nvGraphicFramePr>
        <p:xfrm>
          <a:off x="3505320" y="2916360"/>
          <a:ext cx="2286000" cy="1716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916360"/>
                    <a:ext cx="2286000" cy="1716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4" name="Object 3"/>
          <p:cNvGraphicFramePr/>
          <p:nvPr/>
        </p:nvGraphicFramePr>
        <p:xfrm>
          <a:off x="380880" y="2819520"/>
          <a:ext cx="2286000" cy="190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819520"/>
                    <a:ext cx="2286000" cy="19098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6" name="Object 4"/>
          <p:cNvGraphicFramePr/>
          <p:nvPr/>
        </p:nvGraphicFramePr>
        <p:xfrm>
          <a:off x="6400800" y="2819520"/>
          <a:ext cx="2344680" cy="1958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2344680" cy="1958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directly proportional to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which functions is y not a linear function of 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457200" y="3809880"/>
          <a:ext cx="2276640" cy="206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9880"/>
                    <a:ext cx="2276640" cy="20606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3" name="Object 3"/>
          <p:cNvGraphicFramePr/>
          <p:nvPr/>
        </p:nvGraphicFramePr>
        <p:xfrm>
          <a:off x="3200400" y="3809880"/>
          <a:ext cx="223056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3809880"/>
                    <a:ext cx="2230560" cy="202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5" name="Object 4"/>
          <p:cNvGraphicFramePr/>
          <p:nvPr/>
        </p:nvGraphicFramePr>
        <p:xfrm>
          <a:off x="5943600" y="3809880"/>
          <a:ext cx="2257560" cy="2043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3809880"/>
                    <a:ext cx="2257560" cy="204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 have been offered three different jobs: job R has a base salary of $55,000 with annual raises of $2000, job S has a base salary of $45,000 with annual raises of $3200, and job T has a base salary of $48,000 with annual raises of $2000.  Assuming you will be working at this job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an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how should you rank the jobs according to the income you will recei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) R, S, 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 S, R, 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) R, T, 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) None of the abo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6:21:45Z</dcterms:created>
  <dc:creator>Mark Schlatter</dc:creator>
  <dc:description/>
  <dc:language>en-US</dc:language>
  <cp:lastModifiedBy>LEGION</cp:lastModifiedBy>
  <dcterms:modified xsi:type="dcterms:W3CDTF">2017-07-06T06:32:08Z</dcterms:modified>
  <cp:revision>5</cp:revision>
  <dc:subject/>
  <dc:title>Concept Test</dc:title>
</cp:coreProperties>
</file>