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EE16F-CD77-47D0-B8C9-011E32EDA3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3AB08-00EE-46CA-B289-32DDDFDC8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(-3x2)3 = -3(x2)3 = -3x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(-3x2)3 = -(3x2)3 = -27x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(-3x2)3 = (-3)3(x2)3 = -27x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(-3x2)3 = -3(x2)3 = -3x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(-3x2)3 = -(3x2)3 = -27x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(-3x2)3 = (-3)3(x2)3 = -27x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closer to the 102 mark than to the 103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closer to the 103 mark than to the 102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exactly between the 102 and the 103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closer to the 102 mark than to the 103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closer to the 103 mark than to the 102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exactly between the 102 and the 103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s tr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x) is exponential and g(x) is 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f(x) is neither linear or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g(x) is neither linear or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f(x) is linear and g(x) is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s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x) is exponential and g(x) is lin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f(x) is neither linear or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g(x) is neither linear or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f(x) is linear and g(x) is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pulation of bacteria is described by y = 200(2.75)t where t is measured in days.  Which statement i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pulation of bacteria is described by y = 200(2.75)t where t is measured in days.  Which statement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5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1.1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100(1.5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2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5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1.1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100(1.5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2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100(1/8)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25(8)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30(1/2)t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8(1/2)8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100(1/8)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25(8)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30(1/2)t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8(1/2)8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4t where t is measured in day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4t where t is measured in day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log(a2) is about .0906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log(a2) is about .0906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4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It equals .25 + 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It equals .25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4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It equals .25 + e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It equals .25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many years, how should you rank the jobs according to the income you will rece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many years, how should you rank the jobs according to the income you will rece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9323-8D0A-4D4B-80E1-A7D9BF3E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13BB-8966-4731-B357-56B66D87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42D7-643A-4574-8A19-FC854A4E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58A-799F-4B7B-8B92-CEF875AD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FF21-D6AB-472B-97E0-55F4E4C3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8A2F-D5A6-4EB5-955D-AA88A10A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91C0-B2E5-49B3-9194-0B4CF7BA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B8BC-3743-4421-8347-D043DD98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B080-01E4-48BE-A9A6-E5EA7907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5B2B-62DE-461B-8E8A-23E23F1D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DEF1-CFDD-4F1D-BC3C-C3F76FB5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307B-3440-495E-897D-B0EA76A4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5BD3-6A9E-47A1-BC8A-58277FEB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751E-4489-4A81-A855-C1F2440C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E336-E7B9-4357-BB1E-5137321F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3B8E-CEDA-4B50-903F-B9FD3DFC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0DA6-6DD7-43A7-99AC-DBE83676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A0C37-D45F-4A0F-ADD3-16A89553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8A77E-9D1C-45F8-BEBF-C9CA74F9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37B52-CB1B-4C28-8881-FC30630C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94668-272D-4D6F-A470-18282369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FCF40-7432-4208-9C47-A3C76DF1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24D9-FD3C-4C46-8B1A-602F847B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75C12-E69B-43DE-9421-573353F7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86028-4583-444B-B3DD-FB70326A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55803-B10D-4D15-84C2-6B10C95E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50F05-9DAD-4D09-9BA8-875AC130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CBF82-4D57-4085-A444-DDAB11E6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7CF97-84BF-4F4F-8C78-8351A05B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716B2-DDC8-48CF-A48A-3B71ECEB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0D8F2-BCC0-411C-96A8-23AC0C5B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22628-ADD5-49EF-9907-F688102D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26163-9C39-4B69-A803-F9BCE116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7E58-C879-4066-B235-008DDADF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5B365-2FB5-4F63-ACA4-F7B5F668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4935E-5A7F-4F1C-AB93-2126E185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62548-2372-4059-B78D-50E4C481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E8E07-213B-4D76-8BDB-657A00AF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D36BE-42BD-404B-98BC-BB20CB74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631E2-79A8-4A8A-A4EF-7E2B405C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28315-35D7-42D5-9A05-B493E38D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67494-546B-4A06-A4C9-CAC4E533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B0FDB-289C-4B23-9FB4-1A1C4F85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750-0880-478E-A186-4DDB05AA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13C0-B013-4B9F-A675-1CE43EFA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6993-EFF3-4A90-B8AF-E21DBE46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747-3BFD-438B-A768-1DFC71E1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B220-630F-4FB0-985F-11E4D14A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252A13-1E25-483A-A1D1-44EC8970D7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32965-004C-4FF6-9102-3296DCB6B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6DC05-DCFA-4F72-8F7C-6BACBD1661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8690F-1C99-413F-B888-4CDCD9C11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61CBAA-3738-4EF3-A212-761A84B357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D6DDF-76F0-4CC5-9BF6-4FBFE861C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8101C-4C8D-462B-B9DF-8A0254DEC5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853E9-E943-4494-9B78-0ED4A32EB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4572000" y="3657600"/>
            <a:ext cx="2187720" cy="2187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2438280" y="3505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4"/>
          <a:stretch/>
        </p:blipFill>
        <p:spPr>
          <a:xfrm>
            <a:off x="6591240" y="335268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7" descr="[image]"/>
          <p:cNvPicPr/>
          <p:nvPr/>
        </p:nvPicPr>
        <p:blipFill>
          <a:blip r:embed="rId1"/>
          <a:stretch/>
        </p:blipFill>
        <p:spPr>
          <a:xfrm>
            <a:off x="5181480" y="15238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3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2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(-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2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closer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 than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closer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 than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exactly betwee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2819160" cy="2514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6"/>
          <p:cNvSpPr/>
          <p:nvPr/>
        </p:nvSpPr>
        <p:spPr>
          <a:xfrm>
            <a:off x="457200" y="1905120"/>
            <a:ext cx="4495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f(x) is exponential and g(x) is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f(x) is neither linear or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g(x) is neither linear or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: f(x) is linear and g(x) is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opulation of bacteria is described by y = 200(2.7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re t is measured in days.  Which statement is corr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.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1.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100(1.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.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4191120" y="17146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y = 100(1/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y = 25(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y = 30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/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y = 8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8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re t is measured in day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log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is about .0906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It equals .25 +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It equals .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Object 2"/>
          <p:cNvGraphicFramePr/>
          <p:nvPr/>
        </p:nvGraphicFramePr>
        <p:xfrm>
          <a:off x="533520" y="1447920"/>
          <a:ext cx="4267080" cy="252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426708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3"/>
          <p:cNvGraphicFramePr/>
          <p:nvPr/>
        </p:nvGraphicFramePr>
        <p:xfrm>
          <a:off x="5257800" y="685800"/>
          <a:ext cx="3276720" cy="5791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685800"/>
                    <a:ext cx="32767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4"/>
          <p:cNvGraphicFramePr/>
          <p:nvPr/>
        </p:nvGraphicFramePr>
        <p:xfrm>
          <a:off x="1523880" y="4114800"/>
          <a:ext cx="3124440" cy="2036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114800"/>
                    <a:ext cx="312444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647960" cy="46479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Object 2"/>
          <p:cNvGraphicFramePr/>
          <p:nvPr/>
        </p:nvGraphicFramePr>
        <p:xfrm>
          <a:off x="3505320" y="2916360"/>
          <a:ext cx="2286000" cy="17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916360"/>
                    <a:ext cx="2286000" cy="1716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4" name="Object 3"/>
          <p:cNvGraphicFramePr/>
          <p:nvPr/>
        </p:nvGraphicFramePr>
        <p:xfrm>
          <a:off x="380880" y="2819520"/>
          <a:ext cx="2286000" cy="190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819520"/>
                    <a:ext cx="2286000" cy="1909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6" name="Object 4"/>
          <p:cNvGraphicFramePr/>
          <p:nvPr/>
        </p:nvGraphicFramePr>
        <p:xfrm>
          <a:off x="6400800" y="2819520"/>
          <a:ext cx="2344680" cy="1958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819520"/>
                    <a:ext cx="2344680" cy="1958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Object 2"/>
          <p:cNvGraphicFramePr/>
          <p:nvPr/>
        </p:nvGraphicFramePr>
        <p:xfrm>
          <a:off x="457200" y="3809880"/>
          <a:ext cx="2276640" cy="206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9880"/>
                    <a:ext cx="2276640" cy="2060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3" name="Object 3"/>
          <p:cNvGraphicFramePr/>
          <p:nvPr/>
        </p:nvGraphicFramePr>
        <p:xfrm>
          <a:off x="3200400" y="3809880"/>
          <a:ext cx="2230560" cy="2022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809880"/>
                    <a:ext cx="2230560" cy="202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5" name="Object 4"/>
          <p:cNvGraphicFramePr/>
          <p:nvPr/>
        </p:nvGraphicFramePr>
        <p:xfrm>
          <a:off x="5943600" y="3809880"/>
          <a:ext cx="2257560" cy="2043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809880"/>
                    <a:ext cx="2257560" cy="204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ars, how should you rank the jobs according to the income you will recei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6:21:45Z</dcterms:created>
  <dc:creator>Mark Schlatter</dc:creator>
  <dc:description/>
  <dc:language>en-US</dc:language>
  <cp:lastModifiedBy>LEGION</cp:lastModifiedBy>
  <dcterms:modified xsi:type="dcterms:W3CDTF">2017-07-06T06:32:08Z</dcterms:modified>
  <cp:revision>5</cp:revision>
  <dc:subject/>
  <dc:title>Concept Test</dc:title>
</cp:coreProperties>
</file>