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18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CE6D9C-5820-47A2-A21D-E060083646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5085E0-9856-4EEA-97A0-FA1A4262E4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jogger runs away from campus at a steady rate, stops to talk to some friends, runs away from campus for a little longer, and then returns to campus.  Which graph below could show the jogger’s distance as a function of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jogger runs away from campus at a steady rate, stops to talk to some friends, runs away from campus for a little longer, and then returns to campus.  Which graph below could show the jogger’s distance as a function of tim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wo linear equations, how many solutions can the system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Exactly one solution or no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Exactly one solution or infinitely many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Exactly one solution, no solutions, or infinitely many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Any number of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wo linear equations, how many solutions can the system ha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Exactly one solution or no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Exactly one solution or infinitely many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Exactly one solution, no solutions, or infinitely many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Any number of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ph on the right shows three different tax systems as a function of income.  Which represents a progressive tax (that is, where richer people pay a higher percentage of their income on taxe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ph on the right shows three different tax systems as a function of income.  Which represents a progressive tax (that is, where richer people pay a higher percentage of their income on taxes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tatement below is corr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(-3x2)3 = -3(x2)3 = -3x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(-3x2)3 = -(3x2)3 = -27x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(-3x2)3 = (-3)3(x2)3 = -27x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tatement below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(-3x2)3 = -3(x2)3 = -3x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(-3x2)3 = -(3x2)3 = -27x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(-3x2)3 = (-3)3(x2)3 = -27x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your logarithmic scale of time, where does 500 years ago f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closer to the 102 mark than to the 103 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closer to the 103 mark than to the 102 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exactly between the 102 and the 103 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your logarithmic scale of time, where does 500 years ago f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closer to the 102 mark than to the 103 m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closer to the 103 mark than to the 102 m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exactly between the 102 and the 103 m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 following is tru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f(x) is exponential and g(x) is lin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f(x) is neither linear or expon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g(x) is neither linear or expon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f(x) is linear and g(x) is expon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 following is tru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f(x) is exponential and g(x) is lin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f(x) is neither linear or expon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g(x) is neither linear or expon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f(x) is linear and g(x) is expon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pulation of bacteria is described by y = 200(2.75)t where t is measured in days.  Which statement is corr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The population is growing at 75% per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The population is growing at 275% per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The population is growing at 175% per h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pulation of bacteria is described by y = 200(2.75)t where t is measured in days.  Which statement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The population is growing at 75% per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The population is growing at 275% per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The population is growing at 175% per hou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ll functions below are graphed, which graph is the blue gra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.5)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1.1)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100(1.5)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.2)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ll functions below are graphed, which graph is the blue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.5)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1.1)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100(1.5)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.2)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 below functions has a half life of 8 days?  (In all functions, t measures days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y = 100(1/8)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y = 25(8)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y = 30(1/2)t/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y = 8(1/2)8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 below functions has a half life of 8 days?  (In all functions, t measures days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y = 100(1/8)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y = 25(8)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y = 30(1/2)t/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y = 8(1/2)8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ill the half-life be for the equation  y = 50(.5)4t where t is measured in day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25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e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ill the half-life be for the equation  y = 50(.5)4t where t is measured in day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25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e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know that log a is about .301, which of the following statements is tru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log(100a) is about 2.3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log(a2) is about .0906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Both A and B are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either A nor B are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know that log a is about .301, which of the following statements is tru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log(100a) is about 2.3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log(a2) is about .0906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Both A and B are tr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either A nor B are tr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se the average rate of change of jobs in Caddo Parish with respect to time is 10,000 jobs/year for the period from 1995 to 2005. Which statement is most accu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year, the number of jobs increased by 10,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jobs never decrea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h A) and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A) nor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se the average rate of change of jobs in Caddo Parish with respect to time is 10,000 jobs/year for the period from 1995 to 2005. Which statement is most accurat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year, the number of jobs increased by 10,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jobs never decrea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h A) and 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A) nor 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se you know that ln(a) equals .25.  What can you say about ln(ae4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It equals 4.2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It equals .25 + e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It equals .25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se you know that ln(a) equals .25.  What can you say about ln(ae4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It equals 4.2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It equals .25 + e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It equals .25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: Which slope is larg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: Which slope is large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he graph on the right of y = f(x), which of the below numbers is most posi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f(2) – f(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the average rate of change of f from x = 0 to x 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the average rate of change from x = -2 to x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he graph on the right of y = f(x), which of the below numbers is most posit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f(2) – f(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the average rate of change of f from x = 0 to x =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the average rate of change from x = -2 to x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four linear functions below are graphed on the right.  Which one is the red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y = 4 +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y = 4 – 2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y = 2 – 2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y = 2 – 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four linear functions below are graphed on the right.  Which one is the red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y = 4 +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y = 4 – 2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y = 2 – 2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y = 2 – 4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pre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cars have the following functions that give the total cost of ownership as a function of the number of miles travel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A:  y = 15,000 + .14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B:  y = 28,000 + .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C:  y = 22,000 + .09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car was most expensive to purcha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car is the cheapest to operate per mi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60,000 miles, which car has had the lowest cost of ownershi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pre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cars have the following functions that give the total cost of ownership as a function of the number of miles travel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A:  y = 15,000 + .14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B:  y = 28,000 + .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C:  y = 22,000 + .09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car was most expensive to purcha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car is the cheapest to operate per mi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60,000 miles, which car has had the lowest cost of ownership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Multiple answers possible)  Which of the below tables shows a linear fun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Multiple answers possible)  Which of the below tables shows a linear func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which functions is y not directly proportional to x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which functions is y not a linear function of x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which functions is y not directly proportional to x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which functions is y not a linear function of x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have been offered three different jobs: job R has a base salary of $55,000 with annual raises of $2000, job S has a base salary of $45,000 with annual raises of $3200, and job T has a base salary of $48,000 with annual raises of $2000.  Assuming you will be working at this job for many years, how should you rank the jobs according to the income you will rece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R, S, 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S, R,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R, T, 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None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have been offered three different jobs: job R has a base salary of $55,000 with annual raises of $2000, job S has a base salary of $45,000 with annual raises of $3200, and job T has a base salary of $48,000 with annual raises of $2000.  Assuming you will be working at this job for many years, how should you rank the jobs according to the income you will rece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R, S, 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S, R,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R, T, 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None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632D-5829-42C8-9998-7059B390F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02FB-5D81-47C7-BA31-DA0B9740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BAE3-3D9B-4A53-9D82-33097A825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26D1-7326-4EA6-A130-74FB73272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3A24-90E8-45A7-8068-A90042B35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C133-B672-4BDE-9ECB-F819B89E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6484-AA36-42C2-BE8B-AB52599E8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35EB-7BA5-4B55-9383-58370C4B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37A4-3450-4C82-9CC5-CA5E8720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480D-8FAB-4D91-ABFE-189FE46C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1BF7-9504-4D83-9204-889B2DB2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2AC8-6FEA-45BA-BBFC-9646E2B5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60E3-4BA6-49C1-BA80-3BF0C789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9F085-5F6E-4F49-B687-B1704764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9131-4D01-45F9-BE65-8FED8ACB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10584-4E54-49EB-8AF8-A97A30E07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039BA-7959-44FD-8BDE-075673DE6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79D04-8BDB-4399-81EB-3E03A4321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D0286-464E-4988-93A3-961A9AE9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EDDE2-1DAE-46D6-86B9-C678DDE1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EF911-1B0C-4113-A390-F0A31487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055FF-169A-4531-8151-93DF2A2E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88F4-D654-4ABF-A536-317D7098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07118-5276-4BEE-BA39-355E4150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20343-6F18-429E-9F8C-AD9F2FA0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CD57A-5DAA-4A4F-B6A1-1A667CEB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2797B-BD79-4AC6-BF63-9DE8DEB9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A53CA-5C89-4F51-B85E-707D3E87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BA0E3-46BC-4C8A-8FBB-337198B86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55205-2D30-4ECC-8E49-07FD4165E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50695-7E4F-49D6-B286-459C5E4D1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80262-F6C3-4420-88C8-D0E07A78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59719-E841-48CC-B6C5-D633CE25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A888-727E-41AF-8C49-65EB598F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87ADD-6507-4478-B1F4-0E0CA82E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CA303-0C97-4C72-B38D-1E9C55325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78F70-774C-42C8-9DBF-A533A0BB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36988-9A09-44F2-9BF2-52985330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95B27-B968-49EB-A535-AB5F9EC9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7124E-2B4D-4088-83BC-3FE04BB3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D7190-34FB-4057-BEAD-EEADC151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F8EC9-C9A2-4F93-A3E9-796F59419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2F638-77EE-4535-8F79-0B8CA2E38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8E63-883F-4E6D-8DBA-97F93266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A42C-FF74-422A-A9EA-DBFCAB7B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7129-7941-417C-B315-25832143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9A67-F911-4439-BC85-3101A168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0E4C-E8E7-44D4-AABC-31E5B053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872872-2E7A-49A6-8AC4-361D01C805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6868E0-ACE3-4A5D-946D-DEA7892857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C84A13-D83B-409C-981D-C3081A59A1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1881BC-A8A5-4A56-8274-2ADFF9F3E3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C7E944-E13A-4961-B033-50049927EF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840137-31C9-4CE7-A80E-8506C20526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A2B27C-52B1-4442-87FC-6B2FC1275C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2A6618-632D-46C7-A8F9-F0F777F099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jogger runs away from campus at a steady rate, stops to talk to some friends, runs away from campus for a little longer, and then returns to campus.  Which graph below could show the jogger’s distance as a function of tim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304920" y="3657600"/>
            <a:ext cx="2185920" cy="2185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4572000" y="3657600"/>
            <a:ext cx="2187720" cy="2187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3"/>
          <a:stretch/>
        </p:blipFill>
        <p:spPr>
          <a:xfrm>
            <a:off x="2438280" y="350532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"/>
          <p:cNvPicPr/>
          <p:nvPr/>
        </p:nvPicPr>
        <p:blipFill>
          <a:blip r:embed="rId4"/>
          <a:stretch/>
        </p:blipFill>
        <p:spPr>
          <a:xfrm>
            <a:off x="6591240" y="3352680"/>
            <a:ext cx="2552760" cy="255276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 two linear equations, how many solutions can the system h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Exactly one solution or no 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Exactly one solution or infinitely many sol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Exactly one solution, no solutions, or infinitely many sol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Any number of sol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graph on the right shows three different tax systems as a function of income.  Which represents a progressive tax (that is, where richer people pay a higher percentage of their income on taxes)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7" descr="[image]"/>
          <p:cNvPicPr/>
          <p:nvPr/>
        </p:nvPicPr>
        <p:blipFill>
          <a:blip r:embed="rId1"/>
          <a:stretch/>
        </p:blipFill>
        <p:spPr>
          <a:xfrm>
            <a:off x="5181480" y="152388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statement below is correc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(-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-3(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-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(-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-(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-2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 (-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(-3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-2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your logarithmic scale of time, where does 500 years ago f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closer to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 than to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closer to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 than to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 exactly between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5791320" y="2286000"/>
            <a:ext cx="2819160" cy="25146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6"/>
          <p:cNvSpPr/>
          <p:nvPr/>
        </p:nvSpPr>
        <p:spPr>
          <a:xfrm>
            <a:off x="457200" y="1905120"/>
            <a:ext cx="44956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is tru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f(x) is exponential and g(x) is 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f(x) is neither linear or expon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: g(x) is neither linear or expon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: f(x) is linear and g(x) is expon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opulation of bacteria is described by y = 200(2.7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ere t is measured in days.  Which statement is correc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: The population is growing at 75% per 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: The population is growing at 275% per 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: The population is growing at 175% per ho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all functions below are graphed, which graph is the blue graph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 = 200(.5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 = 200(1.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 = 100(1.5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 = 200(.2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4191120" y="171468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of the below functions has a half life of 8 days?  (In all functions, t measures days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y = 100(1/8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y = 25(8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 y = 30(1/2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/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 y = 8(1/2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8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ill the half-life be for the equation  y = 50(.5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4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here t is measured in day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25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0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e of the ab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know that log a is about .301, which of the following statements is tru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log(100a) is about 2.3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log(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is about .0906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 Both A and B are tr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 Neither A nor B are tr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se the average rate of change of jobs in Caddo Parish with respect to time is 10,000 jobs/year for the period from 1995 to 2005. Which statement is most accurat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year, the number of jobs increased by 10,00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number of jobs never decrea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A) and 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ither A) nor 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se you know that ln(a) equals .25.  What can you say about ln(a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It equals 4.2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It equals .25 +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 It equals .2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ncept Test: Which slope is larges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2" name="Object 2"/>
          <p:cNvGraphicFramePr/>
          <p:nvPr/>
        </p:nvGraphicFramePr>
        <p:xfrm>
          <a:off x="533520" y="1447920"/>
          <a:ext cx="4267080" cy="252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4267080" cy="25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3"/>
          <p:cNvGraphicFramePr/>
          <p:nvPr/>
        </p:nvGraphicFramePr>
        <p:xfrm>
          <a:off x="5257800" y="685800"/>
          <a:ext cx="3276720" cy="5791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685800"/>
                    <a:ext cx="32767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Object 4"/>
          <p:cNvGraphicFramePr/>
          <p:nvPr/>
        </p:nvGraphicFramePr>
        <p:xfrm>
          <a:off x="1523880" y="4114800"/>
          <a:ext cx="3124440" cy="20368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8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4114800"/>
                    <a:ext cx="3124440" cy="20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n the graph on the right of y = f(x), which of the below numbers is most positiv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: f(2) – f(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: the average rate of change of f from x = 0 to x =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: the average rate of change from x = -2 to x =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5181480" y="1905120"/>
            <a:ext cx="3505320" cy="350496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four linear functions below are graphed on the right.  Which one is the red lin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: y = 4 + 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: y = 4 – 2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: y = 2 – 2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: y = 2 – 4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4647960" cy="464796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pre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ee cars have the following functions that give the total cost of ownership as a function of the number of miles travele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r A:  y = 15,000 + .14 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r B:  y = 28,000 + .20 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r C:  y = 22,000 + .09 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car was most expensive to purcha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car is the cheapest to operate per mi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60,000 miles, which car has had the lowest cost of ownershi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Multiple answers possible)  Which of the below tables shows a linear func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2" name="Object 2"/>
          <p:cNvGraphicFramePr/>
          <p:nvPr/>
        </p:nvGraphicFramePr>
        <p:xfrm>
          <a:off x="3505320" y="2916360"/>
          <a:ext cx="2286000" cy="171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916360"/>
                    <a:ext cx="2286000" cy="1716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4" name="Object 3"/>
          <p:cNvGraphicFramePr/>
          <p:nvPr/>
        </p:nvGraphicFramePr>
        <p:xfrm>
          <a:off x="380880" y="2819520"/>
          <a:ext cx="2286000" cy="1909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819520"/>
                    <a:ext cx="2286000" cy="1909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6" name="Object 4"/>
          <p:cNvGraphicFramePr/>
          <p:nvPr/>
        </p:nvGraphicFramePr>
        <p:xfrm>
          <a:off x="6400800" y="2819520"/>
          <a:ext cx="2344680" cy="1958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2819520"/>
                    <a:ext cx="2344680" cy="1958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which functions is y not directly proportional to x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which functions is y not a linear function of x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1" name="Object 2"/>
          <p:cNvGraphicFramePr/>
          <p:nvPr/>
        </p:nvGraphicFramePr>
        <p:xfrm>
          <a:off x="457200" y="3809880"/>
          <a:ext cx="2276640" cy="206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9880"/>
                    <a:ext cx="2276640" cy="2060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3" name="Object 3"/>
          <p:cNvGraphicFramePr/>
          <p:nvPr/>
        </p:nvGraphicFramePr>
        <p:xfrm>
          <a:off x="3200400" y="3809880"/>
          <a:ext cx="2230560" cy="2022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3809880"/>
                    <a:ext cx="2230560" cy="202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5" name="Object 4"/>
          <p:cNvGraphicFramePr/>
          <p:nvPr/>
        </p:nvGraphicFramePr>
        <p:xfrm>
          <a:off x="5943600" y="3809880"/>
          <a:ext cx="2257560" cy="20433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1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3809880"/>
                    <a:ext cx="2257560" cy="2043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have been offered three different jobs: job R has a base salary of $55,000 with annual raises of $2000, job S has a base salary of $45,000 with annual raises of $3200, and job T has a base salary of $48,000 with annual raises of $2000.  Assuming you will be working at this job f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an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ears, how should you rank the jobs according to the income you will receiv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) R, S, 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) S, R, 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) R, T, 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) None of the abo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6:21:45Z</dcterms:created>
  <dc:creator>Mark Schlatter</dc:creator>
  <dc:description/>
  <dc:language>en-US</dc:language>
  <cp:lastModifiedBy>LEGION</cp:lastModifiedBy>
  <dcterms:modified xsi:type="dcterms:W3CDTF">2017-07-06T06:32:08Z</dcterms:modified>
  <cp:revision>5</cp:revision>
  <dc:subject/>
  <dc:title>Concept Test</dc:title>
</cp:coreProperties>
</file>