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0529-BACC-4B34-A3D1-D109BA8BBF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AB3D-DA82-47E1-983E-A120ADC5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2AB1-AE5B-4852-99C9-AE9EBA94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A903-01F9-4CD4-A354-09FF2673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6DBD-B96F-4DD1-89A1-42F4012D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A76F-1E81-4030-9EB2-D8BA38FC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0099-56A6-469C-90B9-73D66383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987D-2159-4674-9C1D-07E67D75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B515-D650-4DC6-B688-BA252EAF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B04C-3421-4130-B41E-E0AF6EAC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584C-C7A4-4E4F-970A-2C946039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6E7D-6B04-4CAE-ACD2-85470069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BC43-2ABC-47B1-BEC8-FA672BDA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03DC-DDDD-418F-836F-2D3F44D2E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weight(w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directly proportional to acceleration due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w=m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Pressure(P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P=F/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2ccf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requency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124080" y="39625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f=1/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Acceleration(a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is direct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inverse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048120" y="48006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a=F/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048120" y="4952880"/>
            <a:ext cx="464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= (</a:t>
            </a: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2514600" y="831960"/>
                <a:ext cx="3962520" cy="36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Text Box 7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0"/>
          <p:cNvSpPr/>
          <p:nvPr/>
        </p:nvSpPr>
        <p:spPr>
          <a:xfrm flipV="1">
            <a:off x="3505320" y="1600200"/>
            <a:ext cx="1828800" cy="5335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3505320" y="3124080"/>
            <a:ext cx="160020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1523880" y="1828800"/>
                <a:ext cx="60199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 flipV="1">
            <a:off x="2819520" y="2514600"/>
            <a:ext cx="2361960" cy="76320"/>
          </a:xfrm>
          <a:prstGeom prst="line">
            <a:avLst/>
          </a:prstGeom>
          <a:ln w="572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2971800" y="1752480"/>
            <a:ext cx="3352680" cy="533520"/>
            <a:chOff x="2971800" y="1752480"/>
            <a:chExt cx="3352680" cy="533520"/>
          </a:xfrm>
        </p:grpSpPr>
        <p:sp>
          <p:nvSpPr>
            <p:cNvPr id="62" name="Line 9"/>
            <p:cNvSpPr/>
            <p:nvPr/>
          </p:nvSpPr>
          <p:spPr>
            <a:xfrm flipV="1">
              <a:off x="2971800" y="1752480"/>
              <a:ext cx="2666880" cy="5335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5562720" y="1828800"/>
              <a:ext cx="761760" cy="4572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2286000" y="1295280"/>
                <a:ext cx="4495680" cy="33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3200400" y="2666880"/>
            <a:ext cx="2819520" cy="5335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3200400" y="2819520"/>
            <a:ext cx="190512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4d4f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5:42:34Z</dcterms:created>
  <dc:creator>administrator</dc:creator>
  <dc:description/>
  <dc:language>en-US</dc:language>
  <cp:lastModifiedBy>LEGION</cp:lastModifiedBy>
  <dcterms:modified xsi:type="dcterms:W3CDTF">2017-07-06T06:32:40Z</dcterms:modified>
  <cp:revision>10</cp:revision>
  <dc:subject/>
  <dc:title>Directly and inversely proportional</dc:title>
</cp:coreProperties>
</file>