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6092-79AB-4E15-BCD3-CDC7B2662F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C19C-1B9D-461F-9961-7F839BF4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FF1C-AB06-44CE-8943-D05EE259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BB1A-8B61-4A73-BCE9-ABDABA0D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1FDF-225B-4AA5-B27C-E4508B66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D54-6562-4D76-9D27-C58168C5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6C54-C98C-4570-B996-17784F7A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46FE-EC1F-476A-A9DE-F476647C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E05C-4510-4E83-BFD2-9663FA1B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D7F6-B3D9-4EE6-A81D-8F9CE1E6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4758-BA74-4804-9858-F34E81E3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DA25-958B-440B-AE82-D99CD2BB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639A-5C07-4581-B597-6AEB535B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63FE-BB6F-4928-B7C6-CFD822632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weight(w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directly proportional to acceleration due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w=m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Pressure(P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P=F/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2ccf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requency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124080" y="39625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f=1/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Acceleration(a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is direct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inverse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048120" y="48006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a=F/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048120" y="4952880"/>
            <a:ext cx="464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= (</a:t>
            </a: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2514600" y="831960"/>
                <a:ext cx="3962520" cy="36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Text Box 7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0"/>
          <p:cNvSpPr/>
          <p:nvPr/>
        </p:nvSpPr>
        <p:spPr>
          <a:xfrm flipV="1">
            <a:off x="3505320" y="1600200"/>
            <a:ext cx="1828800" cy="5335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3505320" y="3124080"/>
            <a:ext cx="160020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1523880" y="1828800"/>
                <a:ext cx="60199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 flipV="1">
            <a:off x="2819520" y="2514600"/>
            <a:ext cx="2361960" cy="76320"/>
          </a:xfrm>
          <a:prstGeom prst="line">
            <a:avLst/>
          </a:prstGeom>
          <a:ln w="572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2971800" y="1752480"/>
            <a:ext cx="3352680" cy="533520"/>
            <a:chOff x="2971800" y="1752480"/>
            <a:chExt cx="3352680" cy="533520"/>
          </a:xfrm>
        </p:grpSpPr>
        <p:sp>
          <p:nvSpPr>
            <p:cNvPr id="62" name="Line 9"/>
            <p:cNvSpPr/>
            <p:nvPr/>
          </p:nvSpPr>
          <p:spPr>
            <a:xfrm flipV="1">
              <a:off x="2971800" y="1752480"/>
              <a:ext cx="2666880" cy="5335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5562720" y="1828800"/>
              <a:ext cx="761760" cy="4572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2286000" y="1295280"/>
                <a:ext cx="4495680" cy="33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3200400" y="2666880"/>
            <a:ext cx="2819520" cy="5335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3200400" y="2819520"/>
            <a:ext cx="190512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4d4f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5:42:34Z</dcterms:created>
  <dc:creator>administrator</dc:creator>
  <dc:description/>
  <dc:language>en-US</dc:language>
  <cp:lastModifiedBy>LEGION</cp:lastModifiedBy>
  <dcterms:modified xsi:type="dcterms:W3CDTF">2017-07-06T06:32:40Z</dcterms:modified>
  <cp:revision>10</cp:revision>
  <dc:subject/>
  <dc:title>Directly and inversely proportional</dc:title>
</cp:coreProperties>
</file>