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9DFB-4AD6-4D57-A65C-6D2AB537F1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38F-F001-40C1-9B7C-5FB534F6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D2C-099F-4075-B690-7AEAA9C5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F2C-72CD-4E62-864F-0C217932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48C-203A-45B3-BFBC-2C7BE25E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F4C-886C-4C55-9843-8408C735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F076-97CA-4FA1-8D54-42840717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DA1-16A9-4A8D-A56B-C93499E0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04C-9BA1-4504-A5F3-B342605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2F4-B17E-4F9E-AB5D-98879007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E92-532D-4ED6-B85A-2A188FE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8BF-2C3A-439C-9F9F-A762BCC1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D28-7446-494C-AE94-736BFE1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FE44-D571-4052-9971-3C2B28A32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2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LEGION</cp:lastModifiedBy>
  <dcterms:modified xsi:type="dcterms:W3CDTF">2017-07-06T06:32:40Z</dcterms:modified>
  <cp:revision>10</cp:revision>
  <dc:subject/>
  <dc:title>Directly and inversely proportional</dc:title>
</cp:coreProperties>
</file>