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B7C8-3A89-4945-980A-0553DD350E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x reminds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our set contains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that looks like an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a c sticking its tongue 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s, belongs to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belong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put 11 in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was 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uld not get for y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some number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y, such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belongs to 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x is between –3 and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x be any real numb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happen i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could never be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 to be 0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x have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x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values are th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y-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y when x is 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y is 4 when x is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what is y when                             x is –1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x       and still have the function         make sens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ould have the set of numbers we call the domain                          of the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main is the set                   that contains all the                    input values                                   for a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760-9177-4F4A-8CC6-240946D9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E9A3-453B-4D1E-AFA4-6A47F27C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700F-C870-45A4-B011-F916D5487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DDD-6E47-4295-8A77-F107C4BC1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7823-FABD-4E5F-BE22-2AB5435D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902-2648-4CEA-8707-D4175EB3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A5D-55BD-4272-9122-7E89D050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6B9-13FF-4882-BFC5-4E548296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A29B-6C25-46A4-8DC7-7C5855BC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663E-C74A-4B23-9E5D-745386F4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DCD-3082-48DC-9E93-73679FDB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4AB2-F3AE-439D-9499-601CBC20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d2d2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8CCB-B203-42B5-B58F-65F0874A6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297240" y="380880"/>
            <a:ext cx="254808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mai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3792600" y="2211480"/>
            <a:ext cx="15573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0" name="WordArt 4"/>
          <p:cNvSpPr txBox="1"/>
          <p:nvPr/>
        </p:nvSpPr>
        <p:spPr>
          <a:xfrm>
            <a:off x="3733920" y="4040280"/>
            <a:ext cx="2547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ang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8" presetSubtype="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use the symbols of algebra,                    we could write the domain 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2514600" y="2438280"/>
                <a:ext cx="412740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3" name="Text Box 5"/>
          <p:cNvSpPr/>
          <p:nvPr/>
        </p:nvSpPr>
        <p:spPr>
          <a:xfrm>
            <a:off x="0" y="4038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oes that look like a foreign languag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0" y="405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t’s translat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urly brace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1187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ust tell us we have a set of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2519280" y="3247920"/>
                <a:ext cx="41054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reminds 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our set contain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2514600" y="3247920"/>
                <a:ext cx="406224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colon say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2514600" y="3247920"/>
                <a:ext cx="401940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Object 6"/>
              <p:cNvSpPr txBox="1"/>
              <p:nvPr/>
            </p:nvSpPr>
            <p:spPr>
              <a:xfrm>
                <a:off x="2514600" y="3276720"/>
                <a:ext cx="4168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ymbol that looks like 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0" y="1143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or a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sticking its tongue out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ays,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belongs to . . 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the cursive, or script,        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2482920" y="3276720"/>
                <a:ext cx="41259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: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Text Box 5"/>
          <p:cNvSpPr/>
          <p:nvPr/>
        </p:nvSpPr>
        <p:spPr>
          <a:xfrm>
            <a:off x="0" y="19191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short for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16" presetSubtype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2575080" y="3400560"/>
                <a:ext cx="43592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             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Text Box 13"/>
          <p:cNvSpPr/>
          <p:nvPr/>
        </p:nvSpPr>
        <p:spPr>
          <a:xfrm>
            <a:off x="0" y="2073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, 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read it, “The s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7"/>
              <p:cNvSpPr txBox="1"/>
              <p:nvPr/>
            </p:nvSpPr>
            <p:spPr>
              <a:xfrm>
                <a:off x="3817800" y="3743280"/>
                <a:ext cx="21276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Text Box 11"/>
          <p:cNvSpPr/>
          <p:nvPr/>
        </p:nvSpPr>
        <p:spPr>
          <a:xfrm>
            <a:off x="1676520" y="122076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419720" y="1219320"/>
            <a:ext cx="411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longs 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5"/>
              <p:cNvSpPr txBox="1"/>
              <p:nvPr/>
            </p:nvSpPr>
            <p:spPr>
              <a:xfrm>
                <a:off x="3065400" y="3789360"/>
                <a:ext cx="57456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6"/>
              <p:cNvSpPr txBox="1"/>
              <p:nvPr/>
            </p:nvSpPr>
            <p:spPr>
              <a:xfrm>
                <a:off x="5595840" y="3611520"/>
                <a:ext cx="83052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ℜ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7"/>
              <p:cNvSpPr txBox="1"/>
              <p:nvPr/>
            </p:nvSpPr>
            <p:spPr>
              <a:xfrm>
                <a:off x="4114800" y="3768840"/>
                <a:ext cx="1298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3873600" y="3600360"/>
                <a:ext cx="1536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7"/>
              <p:cNvSpPr txBox="1"/>
              <p:nvPr/>
            </p:nvSpPr>
            <p:spPr>
              <a:xfrm>
                <a:off x="3270240" y="2558880"/>
                <a:ext cx="20574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 Box 8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n we put 11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as 17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23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17 belongs to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0" y="1157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range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of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ould not ge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3282840" y="2362320"/>
                <a:ext cx="2578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putting some number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71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609480"/>
            <a:ext cx="9144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"/>
              </a:rPr>
              <a:t>No!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at the rang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3359160" y="2362320"/>
                <a:ext cx="2425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s we study f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learn terms lik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2897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0" y="35053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 such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4357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longs to R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et of real numbers.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ead this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2433600" y="1649520"/>
                <a:ext cx="427680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and rang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2071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be any real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is not always true th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mathematic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0" y="37479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nt to study a function ov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0" y="4586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limited dom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might think abo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0" y="2909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between –3 and 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 could be writte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8"/>
              <p:cNvSpPr txBox="1"/>
              <p:nvPr/>
            </p:nvSpPr>
            <p:spPr>
              <a:xfrm>
                <a:off x="3340080" y="2133720"/>
                <a:ext cx="2463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1638360" y="5092560"/>
                <a:ext cx="60451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6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imits the domain or rang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metimes the function itsel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this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Text Box 8"/>
          <p:cNvSpPr/>
          <p:nvPr/>
        </p:nvSpPr>
        <p:spPr>
          <a:xfrm>
            <a:off x="0" y="4738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be any real numb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re 3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happen if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0" y="3900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n we would have to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Text Box 7"/>
          <p:cNvSpPr/>
          <p:nvPr/>
        </p:nvSpPr>
        <p:spPr>
          <a:xfrm>
            <a:off x="0" y="38862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never                           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 from the domain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we would have to elimina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3505320" y="237492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Text Box 6"/>
          <p:cNvSpPr/>
          <p:nvPr/>
        </p:nvSpPr>
        <p:spPr>
          <a:xfrm>
            <a:off x="0" y="3886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domain would b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7"/>
              <p:cNvSpPr txBox="1"/>
              <p:nvPr/>
            </p:nvSpPr>
            <p:spPr>
              <a:xfrm>
                <a:off x="3416400" y="5105520"/>
                <a:ext cx="23112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4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800"/>
                            </p:stCondLst>
                            <p:childTnLst>
                              <p:par>
                                <p:cTn id="428" nodeType="afterEffect" fill="hold" presetClass="entr" presetID="17" presetSubtype="10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4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ich could not belong to the range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an you think of a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505320" y="2984400"/>
                <a:ext cx="213336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Text Box 5"/>
          <p:cNvSpPr/>
          <p:nvPr/>
        </p:nvSpPr>
        <p:spPr>
          <a:xfrm>
            <a:off x="0" y="4559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could never be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0" y="4572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7"/>
          <p:cNvSpPr/>
          <p:nvPr/>
        </p:nvSpPr>
        <p:spPr>
          <a:xfrm>
            <a:off x="0" y="4006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number we can divide 1 by to get 0, so 0 cannot            belong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o be 0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would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have to 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3505320" y="2362320"/>
                <a:ext cx="2133360" cy="13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4" name="Text Box 5"/>
          <p:cNvSpPr/>
          <p:nvPr/>
        </p:nvSpPr>
        <p:spPr>
          <a:xfrm>
            <a:off x="0" y="4003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range of the function is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6"/>
              <p:cNvSpPr txBox="1"/>
              <p:nvPr/>
            </p:nvSpPr>
            <p:spPr>
              <a:xfrm>
                <a:off x="3365640" y="5410080"/>
                <a:ext cx="241272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:</m:t>
                        </m:r>
                        <m:r>
                          <m:t xml:space="preserve">y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limit the domain of functions ar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most common rules of algebr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762120" y="274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Rule 1:  You can’t divide by 0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11"/>
          <p:cNvGrpSpPr/>
          <p:nvPr/>
        </p:nvGrpSpPr>
        <p:grpSpPr>
          <a:xfrm>
            <a:off x="762120" y="3625920"/>
            <a:ext cx="9144000" cy="2288160"/>
            <a:chOff x="762120" y="3625920"/>
            <a:chExt cx="9144000" cy="2288160"/>
          </a:xfrm>
        </p:grpSpPr>
        <p:sp>
          <p:nvSpPr>
            <p:cNvPr id="201" name="Text Box 8"/>
            <p:cNvSpPr/>
            <p:nvPr/>
          </p:nvSpPr>
          <p:spPr>
            <a:xfrm>
              <a:off x="762120" y="3625920"/>
              <a:ext cx="914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Rule 2:  You can’t take th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2895480" y="4357800"/>
              <a:ext cx="6248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square root of a            negative number.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0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10" nodeType="afterEffect" fill="hold" presetClass="entr" presetID="2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123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f Rule 1:  You can’t divide by 0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’ve already seen an examp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In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0" y="10684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put into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0" y="1982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0" y="29844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Output values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re the 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39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at come out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0" y="481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y are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-value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12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You can’t take the square root        of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nk about Rule 2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8"/>
              <p:cNvSpPr txBox="1"/>
              <p:nvPr/>
            </p:nvSpPr>
            <p:spPr>
              <a:xfrm>
                <a:off x="3638520" y="3778200"/>
                <a:ext cx="18669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Text Box 9"/>
          <p:cNvSpPr/>
          <p:nvPr/>
        </p:nvSpPr>
        <p:spPr>
          <a:xfrm>
            <a:off x="0" y="4510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the doma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0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5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2863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quare root of 16 is 4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3708360" y="14479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6" name="Text Box 6"/>
          <p:cNvSpPr/>
          <p:nvPr/>
        </p:nvSpPr>
        <p:spPr>
          <a:xfrm>
            <a:off x="0" y="3733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4 when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Object 7"/>
              <p:cNvSpPr txBox="1"/>
              <p:nvPr/>
            </p:nvSpPr>
            <p:spPr>
              <a:xfrm>
                <a:off x="3733920" y="1447920"/>
                <a:ext cx="1955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8" name="Text Box 8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6 belongs to the domain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0" y="5272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 4 belongs to the rang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nodeType="clickEffect" fill="hold">
                      <p:stCondLst>
                        <p:cond delay="0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7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1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79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ut what is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when                          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–16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0" y="2863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hat number do you square           to get –16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"/>
              <p:cNvSpPr txBox="1"/>
              <p:nvPr/>
            </p:nvSpPr>
            <p:spPr>
              <a:xfrm>
                <a:off x="3708360" y="213372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"/>
              <p:cNvSpPr txBox="1"/>
              <p:nvPr/>
            </p:nvSpPr>
            <p:spPr>
              <a:xfrm>
                <a:off x="3695760" y="2133720"/>
                <a:ext cx="24001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5" name="Text Box 7"/>
          <p:cNvSpPr/>
          <p:nvPr/>
        </p:nvSpPr>
        <p:spPr>
          <a:xfrm>
            <a:off x="0" y="4495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d you say –4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4" dur="1" fill="hold">
                                    <p:stCondLst>
                                      <p:cond delay="400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3"/>
          <p:cNvSpPr/>
          <p:nvPr/>
        </p:nvSpPr>
        <p:spPr>
          <a:xfrm>
            <a:off x="0" y="1447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not  –16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5"/>
              <p:cNvSpPr txBox="1"/>
              <p:nvPr/>
            </p:nvSpPr>
            <p:spPr>
              <a:xfrm>
                <a:off x="1682640" y="609480"/>
                <a:ext cx="5778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9" name="Text Box 6"/>
          <p:cNvSpPr/>
          <p:nvPr/>
        </p:nvSpPr>
        <p:spPr>
          <a:xfrm>
            <a:off x="0" y="22096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re is no real number we can square to get a negative numb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0" y="3809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no negative number can belong        t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8"/>
              <p:cNvSpPr txBox="1"/>
              <p:nvPr/>
            </p:nvSpPr>
            <p:spPr>
              <a:xfrm>
                <a:off x="3733920" y="5562720"/>
                <a:ext cx="1726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0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0" y="19051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o the domain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0" y="3657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6"/>
              <p:cNvSpPr txBox="1"/>
              <p:nvPr/>
            </p:nvSpPr>
            <p:spPr>
              <a:xfrm>
                <a:off x="3708360" y="2971800"/>
                <a:ext cx="1727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6" name="Text Box 7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smallest number for which     we can find a square root is 0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8"/>
              <p:cNvSpPr txBox="1"/>
              <p:nvPr/>
            </p:nvSpPr>
            <p:spPr>
              <a:xfrm>
                <a:off x="3384720" y="4648320"/>
                <a:ext cx="23238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nd the domain of each function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7"/>
              <p:cNvSpPr txBox="1"/>
              <p:nvPr/>
            </p:nvSpPr>
            <p:spPr>
              <a:xfrm>
                <a:off x="457200" y="1523880"/>
                <a:ext cx="2984400" cy="13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8"/>
              <p:cNvSpPr txBox="1"/>
              <p:nvPr/>
            </p:nvSpPr>
            <p:spPr>
              <a:xfrm>
                <a:off x="457200" y="3276720"/>
                <a:ext cx="36194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9"/>
              <p:cNvSpPr txBox="1"/>
              <p:nvPr/>
            </p:nvSpPr>
            <p:spPr>
              <a:xfrm>
                <a:off x="419040" y="4178160"/>
                <a:ext cx="346716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10"/>
              <p:cNvSpPr txBox="1"/>
              <p:nvPr/>
            </p:nvSpPr>
            <p:spPr>
              <a:xfrm>
                <a:off x="457200" y="4965840"/>
                <a:ext cx="36576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0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6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609480" y="380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swer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3"/>
              <p:cNvSpPr txBox="1"/>
              <p:nvPr/>
            </p:nvSpPr>
            <p:spPr>
              <a:xfrm>
                <a:off x="1143000" y="1778040"/>
                <a:ext cx="350532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7"/>
              <p:cNvSpPr txBox="1"/>
              <p:nvPr/>
            </p:nvSpPr>
            <p:spPr>
              <a:xfrm>
                <a:off x="1098720" y="2819520"/>
                <a:ext cx="33778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8"/>
              <p:cNvSpPr txBox="1"/>
              <p:nvPr/>
            </p:nvSpPr>
            <p:spPr>
              <a:xfrm>
                <a:off x="1095480" y="4711680"/>
                <a:ext cx="337824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9"/>
              <p:cNvSpPr txBox="1"/>
              <p:nvPr/>
            </p:nvSpPr>
            <p:spPr>
              <a:xfrm>
                <a:off x="1101600" y="3797280"/>
                <a:ext cx="3556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r>
                          <m:t xml:space="preserve">−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0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6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iven the function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Text Box 6"/>
          <p:cNvSpPr/>
          <p:nvPr/>
        </p:nvSpPr>
        <p:spPr>
          <a:xfrm>
            <a:off x="0" y="16444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choose any value                   we want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0" y="38116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uppose we choose 11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0" y="4724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can put 11 into the function      by substituting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4373640" y="3416400"/>
                <a:ext cx="19047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8"/>
              <p:cNvSpPr txBox="1"/>
              <p:nvPr/>
            </p:nvSpPr>
            <p:spPr>
              <a:xfrm>
                <a:off x="4362480" y="3416400"/>
                <a:ext cx="193032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7"/>
              <p:cNvSpPr txBox="1"/>
              <p:nvPr/>
            </p:nvSpPr>
            <p:spPr>
              <a:xfrm>
                <a:off x="4373640" y="3429000"/>
                <a:ext cx="27306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3"/>
              <p:cNvSpPr txBox="1"/>
              <p:nvPr/>
            </p:nvSpPr>
            <p:spPr>
              <a:xfrm>
                <a:off x="3168720" y="3606840"/>
                <a:ext cx="1104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1"/>
              <p:cNvSpPr txBox="1"/>
              <p:nvPr/>
            </p:nvSpPr>
            <p:spPr>
              <a:xfrm>
                <a:off x="4464000" y="3416400"/>
                <a:ext cx="7365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2"/>
              <p:cNvSpPr txBox="1"/>
              <p:nvPr/>
            </p:nvSpPr>
            <p:spPr>
              <a:xfrm>
                <a:off x="2438280" y="2057400"/>
                <a:ext cx="2679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f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2" dur="1" fill="hold"/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we wrote down every            number we could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till have the function         make sense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312264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would have the set of numbers we call 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                      of the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1522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is the set                   that contains all the                    input values                                   for a functio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our functio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3289320" y="1068480"/>
                <a:ext cx="2565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4"/>
          <p:cNvSpPr/>
          <p:nvPr/>
        </p:nvSpPr>
        <p:spPr>
          <a:xfrm>
            <a:off x="0" y="1720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s there any number we could                        not put in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0" y="3429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2880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Because we could substitute                             any real number                                        for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0" y="327492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e say the domain                                             of the function                                     is the set of real number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6:11:46Z</dcterms:created>
  <dc:creator>Bob Greer</dc:creator>
  <dc:description/>
  <dc:language>en-US</dc:language>
  <cp:lastModifiedBy>LEGION</cp:lastModifiedBy>
  <dcterms:modified xsi:type="dcterms:W3CDTF">2017-07-06T06:33:07Z</dcterms:modified>
  <cp:revision>4</cp:revision>
  <dc:subject/>
  <dc:title>PowerPoint Presentation</dc:title>
</cp:coreProperties>
</file>