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FF3A-99B9-48C6-9989-8745E3F53B9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ouping, Trinomials, Binomials, GCF &amp; Solving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ouping, Trinomials, Binomials, GCF &amp; Solv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this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3x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b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factors of the first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factors of the last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on the diagonal and add to see if you get the middle term of the trinomial.  If so, you’re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try thi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3x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factors of the firs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factors of the las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on the diagonal and add to see if you get the middle term of the trinomial.  If so, you’re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actoring using a difference of square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2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 sign between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terms must be perfect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3 of the above are true, write tw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), one with a + sign and one with a – sign : (   +   ) (   -   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actoring using a difference of square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2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sign betwee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erms must be perfec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3 of the above are true, write tw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), one with a + sign and one with a – sign : (   +   ) (   -    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a2 –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x2 –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4y2 –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9y2 –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 3r2 – 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2a2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a2 –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x2 –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4y2 –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9y2 –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3r2 –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2a2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actoring using perfect square trinomial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term must be 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nd last terms must be perfect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three of the above are true, write one (    )2 using the sign of the middle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actoring using perfect square trinomial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 must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nd last terms must be perfec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three of the above are true, write one (    )2 using the sign of the middl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.  a2 – 8a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2.  x2 + 10x +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3.  4y2 + 16y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4.  9y2 + 30y +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5.  3r2 – 18r +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6.  2a2 + 8a -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.  a2 – 8a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.  x2 + 10x +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.  4y2 + 16y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4.  9y2 + 30y +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.  3r2 – 18r +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.  2a2 + 8a -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’ve learned all the types of factoring, we need to remember to use them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ever it says to factor, you must break down the expression into the smallest possi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review all the ways to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learned all the types of factoring, we need to remember to use them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it says to factor, you must break down the expression into the smallest possi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review all the ways to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GCF fir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 the number of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terms – factor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erms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perfect square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, try diamond or b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terms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y ( ) still has an exponent of 2 or more, see if you can factor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GCF fir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 the number of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terms – factor by grou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erms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perfect square trinom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ot, try diamond or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rms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( ) still has an exponent of 2 or more, see if you can factor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polynomials contain four terms, it is sometimes easier to group like terms in order to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goal is to create a common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move terms around in the polynomial to create a common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makes you better in recognizing common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lynomials contain four terms, it is sometimes easier to group like terms in order to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goal is to create a common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also move terms around in the polynomial to create a common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makes you better in recognizing common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that an equation must be solved for the un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to now, we have only solved equations with a degree of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 + 8 = 4x 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x + 8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x =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know that an equation must be solved for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now, we have only solved equations with a degree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8 = 4x 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x + 8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x =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equation has a degree of 2 or higher, we cannot solve it until it has been facto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rst get “0” on one side of the = sign before you try any fact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have “0” on one side, use all your rules for factoring to make 2 ( ) or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ation has a degree of 2 or higher, we cannot solve it until it has been fact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first get “0” on one side of the = sign before you try any fac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“0” on one side, use all your rules for factoring to make 2 ( ) or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set each factor = 0 and solve for the un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= 0      Factor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(x + 12) = 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et each factor = 0, &amp; sol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x + 12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= - 1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ow have 2 answers, x = 0 and x = -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set each factor = 0 and solve for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= 0      Factor 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x + 12) = 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t each factor = 0, &amp; sol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x + 12 =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 = - 1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ow have 2 answers, x = 0 and x = -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Four Term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Four Term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3xy - 21y + 5x – 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y - 21y = 3y (x –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5x - 35 = 5 (x –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- 7) (3y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3xy - 21y + 5x –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y - 21y = 3y (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x - 35 = 5 (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- 7) (3y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6mx – 4m + 3rx – 2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mx – 4m = 2m (3x -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3rx – 2r = r (3x -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 - 2)  (2m + 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ample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6mx – 4m + 3rx – 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mx – 4m = 2m (3x -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rx – 2r = r (3x -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 - 2)  (2m +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  Exampl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 15x – 3xy + 4y –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x – 3xy = 3x (5 – 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4y –20 = 4 (y –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opposites so change the sign on th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 (-y + 5) or – 4 (5 - 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5 – y) (3x –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  Example 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 15x – 3xy + 4y –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 – 3xy = 3x (5 – 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4y –20 = 4 (y –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opposites so change the sign on th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4 (-y + 5) or – 4 (5 - 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 – y) (3x –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rinomials have a degree of “2”, they are known as quadra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earned earlier to use the “diamond” to factor trinomials that had a “1” in front of the squared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7)(x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rinomials have a degree of “2”, they are known as quadra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earned earlier to use the “diamond” to factor trinomials that had a “1” in front of the squared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+ 7)(x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is a coefficient larger than “1” in front of the squared term, we can use a modified diamond or square to find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remember to look for a GCF before you do ANY other fact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coefficient larger than “1” in front of the squared term, we can use a modified diamond or square to find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remember to look for a GCF before you do ANY other fac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2ABD-EA87-4C29-8E2C-2156CE06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37D9-D086-45D7-969B-562C874F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383E-EFA3-4308-A0DF-9751FDBA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9B9-59C1-4B71-A832-5AF03792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E10D-0CD6-478A-84E4-24A9A2F8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27D5-B34A-4E23-9FE1-C2B7CCA3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206A-1623-4915-90C6-2A0F99F8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4F64-4799-4DC2-A000-1F6DD7DC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DE9D-1C92-47C6-87F9-88F9813E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7CF8-EFE1-4EB5-80B3-48FDC831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9046-D33C-462F-B8E9-D1C970CF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107F-95FF-4526-8171-561550B4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4572-BA50-4584-8688-72E7F634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0662-8B00-498F-830C-57AE6D9F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0DEF-4B64-4CE1-AFD3-030857F8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E60E-89A6-4A6E-920C-2D23BFE1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E348-DCF2-452A-98D2-FA83B393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C274-4338-408F-B9C5-DECEF95D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5A56-0D5E-4C02-82F1-E59416EC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B625-21AF-490C-B9F6-A69AB8BE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3961-0861-4298-A919-FE2EC2C6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EC0-02B0-40A4-8174-EBC0A7F8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1661-31FB-4791-9039-DA40B616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2F0C-B4C4-440A-8067-0857DAFA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F1DD-2060-48F2-94AA-0B7E9AD36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1027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1028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029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1030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31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32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033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34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35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036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037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038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039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040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041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042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043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044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1045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1046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1047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048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FE2F-EE84-4979-917E-91DB1FFA1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126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676520" y="4114800"/>
            <a:ext cx="58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, Trinomials, Binomials, GCF &amp; Solving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try this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fir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la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y on the diagonal and add to see if you get the middle term of the trinomial.  If so, you’re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886200" y="3124080"/>
            <a:ext cx="1371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464832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3886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a difference of square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ly 2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us sign betwee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h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3 of the above are true, write tw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), one with a + sign and one with a – sign : (   +   ) (   -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849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perfect square trinomial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t term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mu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e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nd last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three of the above are true, write one (    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sing the sign of the middle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3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that we’ve learned all the types of factoring, we need to remember to use them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ever it says to factor, you must break down the expression into the smallest poss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review all the ways to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ypes of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GCF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nt the number of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terms – factor by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perfect square tr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not, try diamond or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terms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difference of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y ( ) still has an exponent of 2 or more, see if you can factor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polynomials contain four terms, it is sometimes easier to group like terms in order to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goal is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 also move terms around in the polynomial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e makes you better in recognizing common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720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olving Equations by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know that an equation must be solved for the un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now, we have only solved equations with a degree of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 equation has a degree of 2 or higher, we cannot solve it until it has been fac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ust first get “0” on one side of the = sign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try any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ce you have “0” on one side, use all your rules for factoring to make 2 ( ) or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, set each factor = 0 and solve for the unkn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     Factor G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et each factor = 0, &amp; sol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                    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 = - 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now have 2 answers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-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Four Term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Picture 3" descr="PE02097_"/>
          <p:cNvPicPr/>
          <p:nvPr/>
        </p:nvPicPr>
        <p:blipFill>
          <a:blip r:embed="rId1"/>
          <a:stretch/>
        </p:blipFill>
        <p:spPr>
          <a:xfrm>
            <a:off x="2590920" y="3389400"/>
            <a:ext cx="433224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1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+ 5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35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7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2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3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: 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+ 4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20 =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–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The green parentheses are opposites so change the sign on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-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+ 5) o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– 4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(5 -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ing Trinominal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rinomials have a degree of “2”, they are known a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quadratic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learned earlier to use the “diamond” to factor trinomials that had a “1” in front of the squared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3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)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here is a coefficient larger than “1” in front of the squared term, we can use a modified diamond or square to find the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ways remember to look for a GC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do ANY other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21:25:54Z</dcterms:created>
  <dc:creator>June Hilton</dc:creator>
  <dc:description/>
  <dc:language>en-US</dc:language>
  <cp:lastModifiedBy>LEGION</cp:lastModifiedBy>
  <dcterms:modified xsi:type="dcterms:W3CDTF">2017-07-06T06:33:27Z</dcterms:modified>
  <cp:revision>23</cp:revision>
  <dc:subject/>
  <dc:title>SECTION 7.3:  Factor By Grouping</dc:title>
</cp:coreProperties>
</file>