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1396-94DD-4991-9A96-6C3BB23D10B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ouping, Trinomials, Binomials, GCF &amp; Solving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ouping, Trinomials, Binomials, GCF &amp; Solv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this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3x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b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factors of the first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factors of the last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 on the diagonal and add to see if you get the middle term of the trinomial.  If so, you’re d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try this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3x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factors of the first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factors of the last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on the diagonal and add to see if you get the middle term of the trinomial.  If so, you’re d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actoring using a difference of square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2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 sign between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terms must be perfect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3 of the above are true, write tw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), one with a + sign and one with a – sign : (   +   ) (   -   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actoring using a difference of square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2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sign betwee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erms must be perfec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3 of the above are true, write two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), one with a + sign and one with a – sign : (   +   ) (   -    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a2 –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x2 –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 4y2 –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9y2 –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 3r2 – 8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2a2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a2 –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x2 –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4y2 –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9y2 –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3r2 –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2a2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actoring using perfect square trinomial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term must be 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nd last terms must be perfect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three of the above are true, write one (    )2 using the sign of the middle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actoring using perfect square trinomial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 must be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nd last terms must be perfec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three of the above are true, write one (    )2 using the sign of the middl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.  a2 – 8a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2.  x2 + 10x +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3.  4y2 + 16y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4.  9y2 + 30y +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5.  3r2 – 18r +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6.  2a2 + 8a -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.  a2 – 8a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.  x2 + 10x +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.  4y2 + 16y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4.  9y2 + 30y +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.  3r2 – 18r +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.  2a2 + 8a -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’ve learned all the types of factoring, we need to remember to use them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ever it says to factor, you must break down the expression into the smallest possi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review all the ways to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learned all the types of factoring, we need to remember to use them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it says to factor, you must break down the expression into the smallest possi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review all the ways to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GCF fir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 the number of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terms – factor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erms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perfect square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ot, try diamond or b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terms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y ( ) still has an exponent of 2 or more, see if you can factor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GCF fir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 the number of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terms – factor by grou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erms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perfect square trinom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ot, try diamond or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erms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( ) still has an exponent of 2 or more, see if you can factor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polynomials contain four terms, it is sometimes easier to group like terms in order to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goal is to create a common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move terms around in the polynomial to create a common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makes you better in recognizing common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olynomials contain four terms, it is sometimes easier to group like terms in order to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goal is to create a common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also move terms around in the polynomial to create a common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 makes you better in recognizing common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that an equation must be solved for the unkn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to now, we have only solved equations with a degree of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 + 8 = 4x 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x + 8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x =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know that an equation must be solved for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now, we have only solved equations with a degree of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8 = 4x 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x + 8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x =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equation has a degree of 2 or higher, we cannot solve it until it has been facto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rst get “0” on one side of the = sign before you try any fact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have “0” on one side, use all your rules for factoring to make 2 ( ) or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ation has a degree of 2 or higher, we cannot solve it until it has been facto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first get “0” on one side of the = sign before you try any fact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“0” on one side, use all your rules for factoring to make 2 ( ) or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set each factor = 0 and solve for the unkn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= 0      Factor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(x + 12) = 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et each factor = 0, &amp; sol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x + 12 = 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= - 1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ow have 2 answers, x = 0 and x = -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, set each factor = 0 and solve for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= 0      Factor 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(x + 12) = 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t each factor = 0, &amp; sol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x + 12 =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 = - 1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ow have 2 answers, x = 0 and x = -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Four Term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Four Term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3xy - 21y + 5x – 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y - 21y = 3y (x –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5x - 35 = 5 (x –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- 7) (3y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3xy - 21y + 5x – 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y - 21y = 3y (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x - 35 = 5 (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- 7) (3y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6mx – 4m + 3rx – 2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mx – 4m = 2m (3x -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3rx – 2r = r (3x -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 - 2)  (2m + 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ample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6mx – 4m + 3rx – 2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mx – 4m = 2m (3x -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rx – 2r = r (3x -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 - 2)  (2m +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  Exampl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 15x – 3xy + 4y –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x – 3xy = 3x (5 – 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4y –20 = 4 (y –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opposites so change the sign on th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4 (-y + 5) or – 4 (5 - 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5 – y) (3x –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  Example 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 15x – 3xy + 4y –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 – 3xy = 3x (5 – 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4y –20 = 4 (y –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opposites so change the sign on th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4 (-y + 5) or – 4 (5 - 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5 – y) (3x –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rinomials have a degree of “2”, they are known as quadra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earned earlier to use the “diamond” to factor trinomials that had a “1” in front of the squared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+ 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7)(x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rinomials have a degree of “2”, they are known as quadra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earned earlier to use the “diamond” to factor trinomials that had a “1” in front of the squared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+ 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+ 7)(x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re is a coefficient larger than “1” in front of the squared term, we can use a modified diamond or square to find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remember to look for a GCF before you do ANY other fact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coefficient larger than “1” in front of the squared term, we can use a modified diamond or square to find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remember to look for a GCF before you do ANY other fact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F575-0B38-46C1-8180-BF74AB67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FD32-149F-48A9-928F-B9570BDD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DF3B-F457-4750-AD51-1A61BFF8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B717-FED7-42DC-81C9-66F2D946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6D78-4B51-4460-ADDE-4B5F6BC0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6CF8-0286-4753-9676-EE6C48CC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7556-49AF-498E-8979-B3642751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BB40-7A12-4E1E-BF5D-C5EBC744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A1FD-7205-4063-A111-FA5E622F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D1D7-319D-49C5-BF1D-7EE38C14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0E95-7D91-4F84-A9F0-D0AFDD07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AB30-3943-46DB-8ADA-5C7BC8BD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9BF9-EB9D-4922-87A7-8EA919B4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B323-EDE3-4A95-8D8B-EA26ED9F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F8E6-8BBA-4DCB-92B1-0E1E9700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DE3B-FE49-40DD-A455-1CD47A70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4273-0A73-4534-9A25-0D632DC4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62EF-D721-4763-9543-BCF5D29F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EABF-0E76-453A-80F6-7F47E63E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F28B-6343-437C-8CA9-42BD2972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0526-2475-478B-A456-54840495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F253-0A76-4A52-A1EC-411A2373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FB92-3D68-4CFD-9D3F-F1C8E5E6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0DD1-6230-4825-9CD1-902F1EC9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1ADE-8E68-4428-AACD-6F36492B2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1027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1028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1029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1030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31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32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033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34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35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036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037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038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039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040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041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042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043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044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1045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1046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1047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1048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BE95-865F-493B-BC82-88C69F447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126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Poly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676520" y="4114800"/>
            <a:ext cx="58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, Trinomials, Binomials, GCF &amp; Solving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re 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’s try this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1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factors of the first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factors of the last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y on the diagonal and add to see if you get the middle term of the trinomial.  If so, you’re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886200" y="3124080"/>
            <a:ext cx="13716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4648320" y="3124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3886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ifference of Squa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ifference of Squa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factoring using a difference of squares, look for the following three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ly 2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us sign betwee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h terms must be perfect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ll 3 of the above are true, write tw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), one with a + sign and one with a – sign : (   +   ) (   -   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ry The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 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erfect Square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2849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erfect Square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factoring using perfect square trinomials, look for the following three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t term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mu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e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and last terms must be perfect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ll three of the above are true, write one (    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sing the sign of the middle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ry The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3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 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Complete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Complete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that we’ve learned all the types of factoring, we need to remember to use them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ever it says to factor, you must break down the expression into the smallest poss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review all the ways to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ypes of Factor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GCF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nt the number of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terms – factor by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terms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-293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perfect square tr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-293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not, try diamond or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terms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difference of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ny ( ) still has an exponent of 2 or more, see if you can factor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polynomials contain four terms, it is sometimes easier to group like terms in order to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goal is to create a common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can also move terms around in the polynomial to create a common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e makes you better in recognizing common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720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Solving Equations by Factor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know that an equation must be solved for the un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now, we have only solved equations with a degree of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8 = 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8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n equation has a degree of 2 or higher, we cannot solve it until it has been fact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must first get “0” on one side of the = sign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try any 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ce you have “0” on one side, use all your rules for factoring to make 2 ( ) or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, set each factor = 0 and solve for the unkn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      Factor G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1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et each factor = 0, &amp; sol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12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                            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 = - 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now have 2 answers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-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Four Term Poly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Picture 3" descr="PE02097_"/>
          <p:cNvPicPr/>
          <p:nvPr/>
        </p:nvPicPr>
        <p:blipFill>
          <a:blip r:embed="rId1"/>
          <a:stretch/>
        </p:blipFill>
        <p:spPr>
          <a:xfrm>
            <a:off x="2590920" y="3389400"/>
            <a:ext cx="4332240" cy="34686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br>
              <a:rPr sz="4800"/>
            </a:b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1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: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- 21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+ 5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2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–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35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–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The green parentheses are the same so it’s the commo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7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br>
              <a:rPr sz="48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2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: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6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m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m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+ 3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r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2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The green parentheses are the same so it’s the commo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3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:  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15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– 3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xy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+ 4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–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 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5 –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20 =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–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The green parentheses are opposites so change the sign on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-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+ 5) o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– 4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(5 -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5 –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ing Trinominal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trinomials have a degree of “2”, they are known a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quadratic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learned earlier to use the “diamond” to factor trinomials that had a “1” in front of the squared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1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3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)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re 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there is a coefficient larger than “1” in front of the squared term, we can use a modified diamond or square to find the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ways remember to look for a GC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do ANY other 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21:25:54Z</dcterms:created>
  <dc:creator>June Hilton</dc:creator>
  <dc:description/>
  <dc:language>en-US</dc:language>
  <cp:lastModifiedBy>LEGION</cp:lastModifiedBy>
  <dcterms:modified xsi:type="dcterms:W3CDTF">2017-07-06T06:33:27Z</dcterms:modified>
  <cp:revision>23</cp:revision>
  <dc:subject/>
  <dc:title>SECTION 7.3:  Factor By Grouping</dc:title>
</cp:coreProperties>
</file>