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5529-FFEE-446C-A5E5-FCAE038E8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D4C-2F99-4923-B56D-0E8682E6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561-F5C8-4126-B545-9707CDB9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CC9-84CA-4122-B3FA-36F29C23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61A-1D89-49C6-8677-C1F96B13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4F2-D869-4EAB-9FBD-89648F06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BE3-3554-4E20-AEF4-DB37BE98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DA8-331D-4C1D-8714-C6DF6977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402-AFA1-4C0A-A460-FB7A33A7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43C-42E5-4795-8365-BD383B64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3FC-7F7F-41B9-B79B-837D2AEF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A63-074F-478A-9AE8-49A6696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FF1-6338-4A14-BF6B-DF3B30E1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80DC-C61F-45F2-A01B-AFDC4F7E8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ing Reduced Basis for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h/Csc 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85800" y="838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5800" y="18288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oring polynomials with  rational coeffe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533520" y="3276720"/>
          <a:ext cx="3962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3962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1"/>
          <p:cNvSpPr/>
          <p:nvPr/>
        </p:nvSpPr>
        <p:spPr>
          <a:xfrm>
            <a:off x="457200" y="44956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2"/>
          <p:cNvGraphicFramePr/>
          <p:nvPr/>
        </p:nvGraphicFramePr>
        <p:xfrm>
          <a:off x="3048120" y="4267080"/>
          <a:ext cx="415908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7080"/>
                    <a:ext cx="4159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2057400" y="5181480"/>
          <a:ext cx="104472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81480"/>
                    <a:ext cx="1044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9480" y="60948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724280" y="4267080"/>
          <a:ext cx="316260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162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746520" y="4267080"/>
          <a:ext cx="4572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6520" y="4267080"/>
                    <a:ext cx="457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6"/>
          <p:cNvGraphicFramePr/>
          <p:nvPr/>
        </p:nvGraphicFramePr>
        <p:xfrm>
          <a:off x="2819520" y="5029200"/>
          <a:ext cx="869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029200"/>
                    <a:ext cx="869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60948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cd of all coeffecien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6019920" y="3429000"/>
          <a:ext cx="16700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429000"/>
                    <a:ext cx="1670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5334120" y="5029200"/>
          <a:ext cx="7635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029200"/>
                    <a:ext cx="76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9"/>
          <p:cNvGraphicFramePr/>
          <p:nvPr/>
        </p:nvGraphicFramePr>
        <p:xfrm>
          <a:off x="3352680" y="1447920"/>
          <a:ext cx="6415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447920"/>
                    <a:ext cx="641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8380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ultaneous Diophantin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44792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2362320" y="1600200"/>
          <a:ext cx="7110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711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124080" y="1600200"/>
          <a:ext cx="137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00200"/>
                    <a:ext cx="137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486400" y="1600200"/>
          <a:ext cx="1098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600200"/>
                    <a:ext cx="1098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057400" y="2286000"/>
          <a:ext cx="16956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86000"/>
                    <a:ext cx="169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219320" y="2895480"/>
          <a:ext cx="271116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895480"/>
                    <a:ext cx="2711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1219320" y="4343400"/>
          <a:ext cx="160020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3434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430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15238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et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i’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191120" y="1676520"/>
          <a:ext cx="180972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180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581280" y="2286000"/>
          <a:ext cx="20066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86000"/>
                    <a:ext cx="2006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914400" y="3048120"/>
          <a:ext cx="2514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251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7160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s of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447920" y="167652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47920" y="685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bc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1523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   defin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371600" y="1676520"/>
          <a:ext cx="12510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12510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2286000" y="2362320"/>
          <a:ext cx="220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220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30481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838080" y="3581280"/>
          <a:ext cx="23749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81280"/>
                    <a:ext cx="2374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685800" y="4191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x&gt;1 there exists only finitely many a,b,c with gcd(a,b,c) = 1 and a + b = c such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838080" y="5181480"/>
          <a:ext cx="2076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076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0"/>
          <p:cNvSpPr/>
          <p:nvPr/>
        </p:nvSpPr>
        <p:spPr>
          <a:xfrm>
            <a:off x="914400" y="594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990720"/>
            <a:ext cx="7924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is “reasonably” shor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762120" y="297180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762120" y="3581280"/>
          <a:ext cx="22096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2209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762120" y="4343400"/>
          <a:ext cx="16002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1600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6"/>
          <p:cNvSpPr/>
          <p:nvPr/>
        </p:nvSpPr>
        <p:spPr>
          <a:xfrm>
            <a:off x="6094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duced basis, 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7696080" y="1752480"/>
          <a:ext cx="4892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1752480"/>
                    <a:ext cx="489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762120" y="5105520"/>
          <a:ext cx="350496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105520"/>
                    <a:ext cx="35049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5335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57200" y="4572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gorithm term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457200" y="1219320"/>
          <a:ext cx="32958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295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57200" y="1905120"/>
          <a:ext cx="230832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308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2971800" y="2057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457200" y="2895480"/>
          <a:ext cx="238752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89548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533520" y="3886200"/>
          <a:ext cx="10094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886200"/>
                    <a:ext cx="100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533520" y="472428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ly if some bi* is changed, which only occurs at case 1 of the algorithm. The number               is reduced by a factor of ¾ since       is, while th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6172200" y="5105520"/>
          <a:ext cx="5335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510552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1"/>
          <p:cNvGraphicFramePr/>
          <p:nvPr/>
        </p:nvGraphicFramePr>
        <p:xfrm>
          <a:off x="4800600" y="5486400"/>
          <a:ext cx="4255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486400"/>
                    <a:ext cx="4255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182880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533520" y="53352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685800" y="1676520"/>
          <a:ext cx="426708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2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09480" y="2590920"/>
          <a:ext cx="17528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90920"/>
                    <a:ext cx="1752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7"/>
          <p:cNvSpPr/>
          <p:nvPr/>
        </p:nvSpPr>
        <p:spPr>
          <a:xfrm>
            <a:off x="685800" y="335268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685800" y="457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4495680" y="1981080"/>
          <a:ext cx="13906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1390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"/>
          <p:cNvSpPr/>
          <p:nvPr/>
        </p:nvSpPr>
        <p:spPr>
          <a:xfrm>
            <a:off x="762120" y="274320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6553080" y="1371600"/>
          <a:ext cx="723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723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5"/>
          <p:cNvSpPr/>
          <p:nvPr/>
        </p:nvSpPr>
        <p:spPr>
          <a:xfrm>
            <a:off x="685800" y="2133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6553080" y="2209680"/>
          <a:ext cx="142884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209680"/>
                    <a:ext cx="1428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553080" y="2819520"/>
          <a:ext cx="15051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819520"/>
                    <a:ext cx="1505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2438280" y="3505320"/>
          <a:ext cx="31496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3149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838080" y="4191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we have         valu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3886200" y="4267080"/>
          <a:ext cx="6159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26708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038480" y="5029200"/>
          <a:ext cx="615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3505320" y="5715000"/>
          <a:ext cx="6159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57150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914400" y="53352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257800" y="2743200"/>
          <a:ext cx="15811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743200"/>
                    <a:ext cx="15811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676520" y="914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808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029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1143000" y="4732200"/>
          <a:ext cx="36576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732200"/>
                    <a:ext cx="3657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80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exists a basis b1,b2,…,bn of     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752480" y="2666880"/>
          <a:ext cx="438156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43815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1"/>
          <p:cNvGraphicFramePr/>
          <p:nvPr/>
        </p:nvGraphicFramePr>
        <p:xfrm>
          <a:off x="7162920" y="914400"/>
          <a:ext cx="488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914400"/>
                    <a:ext cx="488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3276720" y="1828800"/>
          <a:ext cx="5331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53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4"/>
          <p:cNvGraphicFramePr/>
          <p:nvPr/>
        </p:nvGraphicFramePr>
        <p:xfrm>
          <a:off x="4572000" y="5257800"/>
          <a:ext cx="990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257800"/>
                    <a:ext cx="990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7"/>
          <p:cNvSpPr/>
          <p:nvPr/>
        </p:nvSpPr>
        <p:spPr>
          <a:xfrm flipV="1">
            <a:off x="3998880" y="888480"/>
            <a:ext cx="1800" cy="384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40000" y="3006720"/>
            <a:ext cx="5278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4017960" y="21081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052880" y="302436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4952880" y="32004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2"/>
          <p:cNvSpPr/>
          <p:nvPr/>
        </p:nvSpPr>
        <p:spPr>
          <a:xfrm>
            <a:off x="5229360" y="2030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1720800" y="27543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4"/>
          <p:cNvSpPr/>
          <p:nvPr/>
        </p:nvSpPr>
        <p:spPr>
          <a:xfrm>
            <a:off x="6229440" y="2322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353200" y="211788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3929040" y="29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2766960" y="393048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3029040" y="273996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9"/>
          <p:cNvSpPr/>
          <p:nvPr/>
        </p:nvSpPr>
        <p:spPr>
          <a:xfrm>
            <a:off x="4219560" y="17971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0"/>
          <p:cNvSpPr/>
          <p:nvPr/>
        </p:nvSpPr>
        <p:spPr>
          <a:xfrm>
            <a:off x="2911320" y="26766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3008160" y="183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V="1">
            <a:off x="2722680" y="301788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2624040" y="38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5086440" y="32814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5970600" y="34592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3641760" y="4127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1622520" y="36068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780000" y="417996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9"/>
          <p:cNvSpPr/>
          <p:nvPr/>
        </p:nvSpPr>
        <p:spPr>
          <a:xfrm>
            <a:off x="4673520" y="43830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 flipV="1">
            <a:off x="5029200" y="235440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 flipV="1">
            <a:off x="3733920" y="327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1752480" y="36576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4343400" y="18288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V="1">
            <a:off x="4724280" y="35053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6095880" y="25909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00800" y="236232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7294680" y="2565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380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ucting lat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86200" y="533520"/>
          <a:ext cx="25909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33520"/>
                    <a:ext cx="2590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3"/>
          <p:cNvSpPr/>
          <p:nvPr/>
        </p:nvSpPr>
        <p:spPr>
          <a:xfrm>
            <a:off x="609480" y="457200"/>
            <a:ext cx="65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45720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-Schm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295280" y="457200"/>
          <a:ext cx="17463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"/>
                    <a:ext cx="174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990720" y="26668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9907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71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4792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34340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4724280" y="26668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724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81480" y="2819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019920" y="2666880"/>
            <a:ext cx="1440" cy="10670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5410080" y="3809880"/>
          <a:ext cx="857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09880"/>
                    <a:ext cx="857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6"/>
          <p:cNvSpPr/>
          <p:nvPr/>
        </p:nvSpPr>
        <p:spPr>
          <a:xfrm>
            <a:off x="762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4197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601992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62940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609480" y="4495680"/>
            <a:ext cx="3429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990720" y="5943600"/>
            <a:ext cx="87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762120" y="5943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9907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6"/>
          <p:cNvGraphicFramePr/>
          <p:nvPr/>
        </p:nvGraphicFramePr>
        <p:xfrm>
          <a:off x="1152360" y="4637160"/>
          <a:ext cx="1590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637160"/>
                    <a:ext cx="159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8"/>
          <p:cNvGraphicFramePr/>
          <p:nvPr/>
        </p:nvGraphicFramePr>
        <p:xfrm>
          <a:off x="5029200" y="990720"/>
          <a:ext cx="996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99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9"/>
          <p:cNvGraphicFramePr/>
          <p:nvPr/>
        </p:nvGraphicFramePr>
        <p:xfrm>
          <a:off x="4800600" y="3733920"/>
          <a:ext cx="29520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33920"/>
                    <a:ext cx="295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6"/>
          <p:cNvGraphicFramePr/>
          <p:nvPr/>
        </p:nvGraphicFramePr>
        <p:xfrm>
          <a:off x="1143000" y="5943600"/>
          <a:ext cx="34596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943600"/>
                    <a:ext cx="345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609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4267080" y="1295280"/>
          <a:ext cx="9334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933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267080" y="1893960"/>
          <a:ext cx="17528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93960"/>
                    <a:ext cx="1752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573120" y="2819520"/>
          <a:ext cx="270180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2819520"/>
                    <a:ext cx="270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2"/>
          <p:cNvGraphicFramePr/>
          <p:nvPr/>
        </p:nvGraphicFramePr>
        <p:xfrm>
          <a:off x="533520" y="3429000"/>
          <a:ext cx="21333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13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4"/>
          <p:cNvGraphicFramePr/>
          <p:nvPr/>
        </p:nvGraphicFramePr>
        <p:xfrm>
          <a:off x="380880" y="4800600"/>
          <a:ext cx="142236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800600"/>
                    <a:ext cx="1422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1"/>
          <p:cNvSpPr/>
          <p:nvPr/>
        </p:nvSpPr>
        <p:spPr>
          <a:xfrm>
            <a:off x="1752480" y="4800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thogonal 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3733920" y="2819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5410080" y="2819520"/>
          <a:ext cx="4381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819520"/>
                    <a:ext cx="438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4267080" y="2362320"/>
          <a:ext cx="281304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362320"/>
                    <a:ext cx="2813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600200"/>
            <a:ext cx="8381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s b1,..,bn of a lattic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066680" y="2819520"/>
          <a:ext cx="91440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9144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1143000" y="3505320"/>
          <a:ext cx="4349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434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5"/>
          <p:cNvSpPr/>
          <p:nvPr/>
        </p:nvSpPr>
        <p:spPr>
          <a:xfrm>
            <a:off x="4572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2971800" y="2895480"/>
          <a:ext cx="18288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95480"/>
                    <a:ext cx="1828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27:15Z</dcterms:created>
  <dc:creator>Ido Heskia</dc:creator>
  <dc:description/>
  <dc:language>en-US</dc:language>
  <cp:lastModifiedBy>LEGION</cp:lastModifiedBy>
  <dcterms:modified xsi:type="dcterms:W3CDTF">2017-07-06T06:34:10Z</dcterms:modified>
  <cp:revision>61</cp:revision>
  <dc:subject/>
  <dc:title>Factoring polynomials with rational coeffecients</dc:title>
</cp:coreProperties>
</file>