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1E91-7573-490E-9092-DAE26A41F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DAF-D709-4547-B097-BF023567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E40-A911-4A6F-9AC1-66A128F4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BA2-90B0-4604-BC1C-F814B2C1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220-6A53-419B-AE8A-109C0F55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2289-3721-4282-8E50-A9A91DE8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4D5C-84FF-4D0F-8329-BB75BC62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E1A4-D141-49ED-AEC8-FCE2CC25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544B-5D44-4097-B0AA-78D5C471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F69A-921C-4928-9895-1C4602B1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57C2-AFD9-444D-84F1-ACBF2BB0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569F-64E7-4703-B044-E66DD266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5C6-C8D4-4178-A659-2EA1B7B3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A714-EF10-4444-AE79-9C4E4E01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C608-C076-4442-A688-3F8B6125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D4AF-AFBF-4544-9EFB-BAF5E071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66F8-073F-4CD6-A851-103960AF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40B6-9EE8-4106-AB88-36A74845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03AD-4D17-4AE4-B3FC-BA85AA73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E2B6-B722-450C-9528-FC9EEE22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874D-9704-45CC-BE17-302F0DA1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45AC-9D66-4584-974F-F620E813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878A-7133-49C2-AD17-1AC6A915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CB7-1109-48DD-A7B3-C1645086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7F5C3-4888-4F51-B479-B5796209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2FA21-8C24-417D-BC62-9C5AC084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0183-BB59-4B60-A8E6-2DABCA2D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6094-F8E7-4B48-81BA-8149A473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85C2-5CAC-4820-9388-CC708B55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5977-43D7-40D6-B04C-3ECCA3AB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D063-A5AC-425D-8344-47511EA6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22F78-AE6D-4A0F-BFA3-D3BF823F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61B1-BDAD-4005-B790-23A2A263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94713-9D0B-4D46-93A0-FD403AC6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D30-C2F2-4933-A84C-C299D13E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85FC-F772-492A-960A-E5A0A1C3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F987E-E0FC-4B24-8D14-B3359302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ACCF2-D597-41EA-8E23-399DDB13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670E0-EBE1-4BF4-BE72-164B115D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4C64-FDB0-4446-907A-87873A7D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43F1D-B49A-412B-85FD-5F5C6033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B7CAF-C21B-4A2E-8FE2-CF70FE5F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67674-5CAF-4577-99CB-8B3841EA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36F5F-B2A8-491C-B8A4-F842160E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5BBD-89AB-4FD4-8061-F730E2B0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2BA-A312-4DC0-AC4F-9E81B934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5BA55-DC04-47B3-B252-DFC710F1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A7D56-0FD6-47E2-AEA2-DBDF1526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15807-05B4-410B-85F4-4FABDBAE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5650-38D9-4005-AE1A-A2B711B6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5BE3A-4A98-4D00-AC04-C61C6CA2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B8D8B-18C0-4FC3-BC79-22D295B2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BCCD-407B-49F6-B4ED-A7D2ACE5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60616-F74C-4513-AC41-343FC6F8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7F0E6-68C5-4126-8B7E-685FFAEA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10ACB-832B-4DD2-A7CA-20D4CFA2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FAF-F8B8-4E1F-B143-58A54E55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21282-C39C-4F28-8D58-A0BB60E0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DE6CF-A716-47BB-9EAA-316C09FC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22CDC-B990-4534-8C9C-522E4359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3CAC-AFA0-420D-828A-966D587E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46087-4400-45B6-83D0-6A75E697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0D69D-64F4-40BB-8151-7116275D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BE2BB-4B3F-45BB-824F-C2EE7F51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47999-BF96-4E61-B0BA-A532128C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C4883-6DC2-4DBB-B331-6A57E379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C9484-94CB-405F-A76C-FB876FD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9E5-836D-4A01-88BF-E73F7207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44A2D-9BA2-4C20-94FD-232E8DAB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B84AC-6619-4D74-AA8B-0E4E8624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7DF88-76AB-415A-A1AE-7AAB55F2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379B6-6576-4195-B471-FC25092E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73F81-6858-4944-BA06-5187F262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53A1D-1DA0-4D88-9FFD-1C1250E4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AF098-8010-481F-B712-19B0F179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50EE9-2EEE-4ED5-AF5F-1020D56D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BBD965-B0A1-4363-91DD-7823E2A0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D81FB-51B3-497B-9EEF-34990313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24D-9CA6-4716-B8AD-DCE7FC43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6DC39-BDC1-47FB-AB06-64333D55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BEF57A-A852-46FD-A0FC-E0BAA42C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C21FC-8773-479C-A260-F7AF6CCF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4E436-3B3B-4925-A305-FF77D254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6825E-B04B-4532-9635-7516BFB5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A1238-320C-409B-A9EF-2777063D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8DA0C-FC3E-49E6-AEF0-AF013E76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AFFD1-A663-4FD3-8F34-F69CB3D4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12FCF-2D85-45DA-B0BF-A54C6449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8967A-1520-4B0E-9B62-505D029B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DDE-E988-4DC1-8DE7-53F2183E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ECCA7-14E5-4B05-8833-8F524834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EA56F-35E8-410D-A263-F26464AF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59CFD-EF93-4D1E-BB4D-CBC0FBFB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89257-9FF8-4C16-9247-C0DA0D68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C0549-9B5E-4A20-9EFC-5DE9ED0B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4E821-B174-48E2-94E7-A3E61A74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BD643-7AEC-4043-BDE8-BEFBBF7B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6B19-5B0D-482E-BAEF-A17C38B26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7E27-8CC4-4016-A486-AB00D8F2D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48E1-291B-4ADE-8F70-CB6ADFE8A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B36B-0FCC-46DF-83B0-C6DBB6495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C565-7CAF-4FD6-8DED-723A89E36FC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8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8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3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3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4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1681-B944-45CC-BD83-CA9C44640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9BAD-2847-4640-B06E-20AD12DB9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6AC0-C75E-486E-B128-DCFF53A347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 Transformations Un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o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n Algebra 2 Cours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Project Funded by the National Science Found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ritten by Kirk Tay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6" name="Picture 5" descr="Pupfish"/>
          <p:cNvPicPr/>
          <p:nvPr/>
        </p:nvPicPr>
        <p:blipFill>
          <a:blip r:embed="rId1"/>
          <a:stretch/>
        </p:blipFill>
        <p:spPr>
          <a:xfrm>
            <a:off x="1066680" y="1219320"/>
            <a:ext cx="1086120" cy="63792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7495E-006 C 0.02292 -0.01781 0.04584 -0.03539 0.06372 -0.04395 C 0.0816 -0.05251 0.09393 -0.05043 0.10764 -0.05136 C 0.12136 -0.05228 0.13247 -0.05621 0.14618 -0.04974 C 0.1599 -0.04326 0.17344 -0.02822 0.19011 -0.0118 C 0.20677 0.00462 0.2316 0.0384 0.24618 0.04834 C 0.26077 0.05829 0.26459 0.05019 0.27795 0.04834 C 0.29132 0.04649 0.31476 0.04464 0.32639 0.03655 C 0.33802 0.02845 0.34063 0.01018 0.34722 2.07495E-006 C 0.35382 -0.01018 0.35955 -0.0199 0.3658 -0.02498 C 0.37205 -0.03007 0.37882 -0.02984 0.38455 -0.03077 C 0.39028 -0.03169 0.39028 -0.03401 0.4 -0.03077 C 0.40972 -0.02753 0.43316 -0.01573 0.44288 -0.0118 C 0.45261 -0.00787 0.44931 -0.01203 0.45816 -0.0074 C 0.46702 -0.00278 0.48577 0.01203 0.49549 0.01596 C 0.50521 0.01989 0.50938 0.02567 0.5165 0.01596 C 0.52361 0.00624 0.53247 -0.03031 0.53837 -0.04257 C 0.54427 -0.05483 0.5467 -0.05297 0.55157 -0.05714 C 0.55643 -0.0613 0.56233 -0.0657 0.56806 -0.06732 C 0.57379 -0.06894 0.5783 -0.06755 0.58559 -0.06732 C 0.59288 -0.06709 0.60643 -0.06662 0.61198 -0.06593 C 0.61754 -0.06523 0.61754 -0.06338 0.61858 -0.06292 E">
                                      <p:cBhvr>
                                        <p:cTn id="4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Practice makes pretty good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99"/>
                </a:solidFill>
                <a:latin typeface="Tahoma"/>
              </a:rPr>
              <a:t>Evening Enrichment Opportuniti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AutoShape 4"/>
          <p:cNvSpPr/>
          <p:nvPr/>
        </p:nvSpPr>
        <p:spPr>
          <a:xfrm rot="21024600">
            <a:off x="1836360" y="2614680"/>
            <a:ext cx="1290600" cy="1092240"/>
          </a:xfrm>
          <a:prstGeom prst="smileyFace">
            <a:avLst>
              <a:gd name="adj" fmla="val 1296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AutoShape 5"/>
          <p:cNvSpPr/>
          <p:nvPr/>
        </p:nvSpPr>
        <p:spPr>
          <a:xfrm rot="648000">
            <a:off x="5857920" y="2704680"/>
            <a:ext cx="1295280" cy="1067040"/>
          </a:xfrm>
          <a:prstGeom prst="smileyFace">
            <a:avLst>
              <a:gd name="adj" fmla="val 1370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c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684920" cy="1193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pperplate Gothic Bold"/>
              </a:rPr>
              <a:t>Assess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acher Observation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of ske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teraction and peer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lass demonstration and presentation of studen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C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zes an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A.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371600" y="4267080"/>
            <a:ext cx="1295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038480" y="43434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477120" y="4343400"/>
            <a:ext cx="1295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7339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73392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Albertus Extra Bold"/>
              </a:rPr>
              <a:t>FTU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371600" y="388620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s and Polynomial Func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248520" y="3962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ekton"/>
              </a:rPr>
              <a:t>Exponential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733920" y="1600200"/>
            <a:ext cx="16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ITC Avant Garde Gothic"/>
              </a:rPr>
              <a:t>Symbolic Language Fluenc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WordArt 12"/>
          <p:cNvSpPr txBox="1"/>
          <p:nvPr/>
        </p:nvSpPr>
        <p:spPr>
          <a:xfrm>
            <a:off x="1805040" y="2971800"/>
            <a:ext cx="581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ow Does an FTU Fit In?</a:t>
            </a:r>
            <a:endParaRPr b="0" lang="en-US" sz="3200" spc="1" strike="noStrike">
              <a:ln w="28440">
                <a:solidFill>
                  <a:srgbClr val="0066ff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2076497200030222410lSThCs_ph"/>
          <p:cNvPicPr/>
          <p:nvPr/>
        </p:nvPicPr>
        <p:blipFill>
          <a:blip r:embed="rId1"/>
          <a:srcRect l="14508" t="14381" r="16469" b="18469"/>
          <a:stretch/>
        </p:blipFill>
        <p:spPr>
          <a:xfrm>
            <a:off x="304920" y="1143000"/>
            <a:ext cx="6705360" cy="4800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85800" y="380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Thanks! It was great!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6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CTM Standards and California Content Standards call for all students to have skill in function transform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 Algebra 2 curriculums teach it, but not as a cohesive and comprehensive set of princip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gives students the power and knowledge to transform many types of fun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 rot="21260400">
            <a:off x="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ransform = </a:t>
            </a:r>
            <a:r>
              <a:rPr b="0" lang="en-US" sz="3600" spc="-1" strike="noStrike">
                <a:solidFill>
                  <a:srgbClr val="40458c"/>
                </a:solidFill>
                <a:latin typeface="Snap ITC"/>
              </a:rPr>
              <a:t>Chan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228600" y="19810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phs are pictures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3" name="Picture 4" descr="worldpop2050"/>
          <p:cNvPicPr/>
          <p:nvPr/>
        </p:nvPicPr>
        <p:blipFill>
          <a:blip r:embed="rId1"/>
          <a:stretch/>
        </p:blipFill>
        <p:spPr>
          <a:xfrm>
            <a:off x="838080" y="2438280"/>
            <a:ext cx="2667240" cy="2381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daln195l"/>
          <p:cNvPicPr/>
          <p:nvPr/>
        </p:nvPicPr>
        <p:blipFill>
          <a:blip r:embed="rId2"/>
          <a:stretch/>
        </p:blipFill>
        <p:spPr>
          <a:xfrm>
            <a:off x="4952880" y="2362320"/>
            <a:ext cx="2743200" cy="2098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533520" y="4876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s is a symbolic language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1828800" y="5410080"/>
                <a:ext cx="53341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ach the rules of FT as a single comprehensive set of princi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t add time to the Algebra 2 cale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simple, low-technology and graphing calculators to give students confidence with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increase their fluency with function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 Learning Objectives for the FT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re math vocabulary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symptote, increasing/decreasing function, odd/even function, inflection point, point symmetry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more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tter curve-sketch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foundations for further stu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6" name="Group 15"/>
          <p:cNvGrpSpPr/>
          <p:nvPr/>
        </p:nvGrpSpPr>
        <p:grpSpPr>
          <a:xfrm>
            <a:off x="2133720" y="2895480"/>
            <a:ext cx="3885840" cy="1447920"/>
            <a:chOff x="2133720" y="2895480"/>
            <a:chExt cx="3885840" cy="1447920"/>
          </a:xfrm>
        </p:grpSpPr>
        <p:grpSp>
          <p:nvGrpSpPr>
            <p:cNvPr id="517" name="Group 5"/>
            <p:cNvGrpSpPr/>
            <p:nvPr/>
          </p:nvGrpSpPr>
          <p:grpSpPr>
            <a:xfrm>
              <a:off x="2133720" y="2895480"/>
              <a:ext cx="3885840" cy="1389960"/>
              <a:chOff x="2133720" y="2895480"/>
              <a:chExt cx="3885840" cy="138996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2133720" y="3550320"/>
                <a:ext cx="38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2448720" y="2895480"/>
                <a:ext cx="3150720" cy="1389960"/>
              </a:xfrm>
              <a:custGeom>
                <a:avLst/>
                <a:gdLst/>
                <a:ahLst/>
                <a:rect l="l" t="t" r="r" b="b"/>
                <a:pathLst>
                  <a:path w="4320" h="2880">
                    <a:moveTo>
                      <a:pt x="0" y="0"/>
                    </a:moveTo>
                    <a:cubicBezTo>
                      <a:pt x="312" y="1272"/>
                      <a:pt x="624" y="2544"/>
                      <a:pt x="1152" y="2592"/>
                    </a:cubicBezTo>
                    <a:cubicBezTo>
                      <a:pt x="1680" y="2640"/>
                      <a:pt x="2640" y="240"/>
                      <a:pt x="3168" y="288"/>
                    </a:cubicBezTo>
                    <a:cubicBezTo>
                      <a:pt x="3696" y="336"/>
                      <a:pt x="4008" y="1608"/>
                      <a:pt x="4320" y="28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>
                <a:off x="2807640" y="4079880"/>
                <a:ext cx="94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>
                <a:off x="4353840" y="302760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2" name="Line 10"/>
              <p:cNvSpPr/>
              <p:nvPr/>
            </p:nvSpPr>
            <p:spPr>
              <a:xfrm flipH="1">
                <a:off x="4233600" y="2904840"/>
                <a:ext cx="80892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3" name="Line 11"/>
              <p:cNvSpPr/>
              <p:nvPr/>
            </p:nvSpPr>
            <p:spPr>
              <a:xfrm>
                <a:off x="4528800" y="2904840"/>
                <a:ext cx="71388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2734560" y="3884400"/>
                <a:ext cx="83988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2912400" y="3906720"/>
                <a:ext cx="94500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26" name="Line 14"/>
            <p:cNvSpPr/>
            <p:nvPr/>
          </p:nvSpPr>
          <p:spPr>
            <a:xfrm>
              <a:off x="4059000" y="2895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troducing the Big 6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Quadratic   </a:t>
            </a:r>
            <a:r>
              <a:rPr b="1" lang="en-US" sz="2000" spc="-1" strike="noStrike">
                <a:solidFill>
                  <a:srgbClr val="40458c"/>
                </a:solidFill>
                <a:latin typeface="Bradley Hand ITC"/>
              </a:rPr>
              <a:t>Sketching Techniq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ubic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tencil"/>
              </a:rPr>
              <a:t>Generalizing       </a:t>
            </a:r>
            <a:r>
              <a:rPr b="0" lang="en-US" sz="2400" spc="-1" strike="noStrike">
                <a:solidFill>
                  <a:srgbClr val="40458c"/>
                </a:solidFill>
                <a:latin typeface="Impact"/>
              </a:rPr>
              <a:t>power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bsolute Valu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quare Roo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Exponential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4648320" y="5334120"/>
                <a:ext cx="380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nctio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uided Inquiry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52252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Work collaboratively under well-define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ake conclusions and conjectures based 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676520" y="1752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tudent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Guided Inquiry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clear rules for collabo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time limi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mmarize points of the activ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ss students’ understanding and modify lessons as necessar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eacher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39" name="Picture 5" descr="20060704kaisertop"/>
          <p:cNvPicPr/>
          <p:nvPr/>
        </p:nvPicPr>
        <p:blipFill>
          <a:blip r:embed="rId6">
            <a:lum contrast="-42000"/>
          </a:blip>
          <a:stretch/>
        </p:blipFill>
        <p:spPr>
          <a:xfrm>
            <a:off x="4952880" y="1371600"/>
            <a:ext cx="2629080" cy="19717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1:54:05Z</dcterms:created>
  <dc:creator>Ed_user</dc:creator>
  <dc:description/>
  <dc:language>en-US</dc:language>
  <cp:lastModifiedBy>LEGION</cp:lastModifiedBy>
  <dcterms:modified xsi:type="dcterms:W3CDTF">2017-07-06T06:34:21Z</dcterms:modified>
  <cp:revision>17</cp:revision>
  <dc:subject/>
  <dc:title>Function Transformations Unit</dc:title>
</cp:coreProperties>
</file>