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DE0F-3F1C-46A5-9807-74E98836A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1F3-6B60-4ED0-A0F7-AEE9D0DE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3FC-A8FE-40AD-B87B-C4E94829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525-AFE1-4963-A59A-35EBB301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C50-D743-4C0D-B530-35E768A0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A0AA-5251-416A-BE1A-481E5846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70A2-20FA-4A4C-9EE8-AAAAC1E0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5260-A556-420C-8D8B-8F0FA029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806E-E686-4585-B5B0-F7AA66FC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9DD5-70C3-412F-9BCB-4C5650C5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FC49-2BFB-4D82-9705-89E852C9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FBDC-4578-49C8-BD9F-8832DAC4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AC6D-A8A6-4813-AD5C-78C78DBF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B960-2455-410B-81E3-EF0C7B63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99DC-ED71-43DE-A68B-7B2712BD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7B09-D5CD-46DA-A96A-9F8DCD03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EA9D-FA34-4791-AF03-0531C15A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1CD0-74CF-4281-A51E-E0B05A28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B421A-6F1A-402B-B716-4CA17265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BDEA7-43C7-4D86-A256-228090C2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23ADE-2C3E-48DD-8A1A-E393A36C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3F90-AE07-4F12-8959-97BFEA9B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E876F-F34B-4B6E-8D1A-4EF67248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82F-279E-4E7C-860E-62AD258D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12850-F68A-41A7-B628-8D8B138E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346BF-98C9-40EE-9E2A-EAA5F914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D6913-33CD-4945-896D-10B9EC67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A5DED-A027-4A03-B423-896AAE65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71776-CC74-4A42-8F23-E96EE278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73FC4-4BFB-4429-BC5C-54F37BC2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A8104-2B78-4E30-A390-39B313AD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304A1-68F9-4209-A2EA-AEE03B60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7C8D2-4AF9-41D4-AD10-FE7BA0FC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23372-D6A9-43D0-9155-2AC15CC3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0D5-2DCC-4E29-8164-FD9AAD8F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AEADF-B7C3-4D9D-9D1B-CA0C52AC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B34FF-6125-477D-8C75-3E3CD3E4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79472-DA9E-4DF7-97D7-88203A4A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DEA50-F315-4EFF-826B-6AABD598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5B7B0-1280-46AF-8BE8-186FF791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A6BF7-10C7-4A87-AAD1-66BFED9C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17E61-31E3-4226-B6FD-5C10635A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7B8D9-2D7B-466B-AA9A-65F0E079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EDD6E-B844-4572-BEA2-980ADB1D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C489B-8D85-4A14-B1A8-4DE22C5E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EAA-9BD0-434A-BEF1-DE66FEC4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64D0B-2719-4372-8521-E7624B80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CFABC-5046-46F4-9DE1-DE08D07A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97795-C8B4-4705-8CA8-2EA2C984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E1B1E-755B-4069-8331-A06B7A5B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7B639-4B81-46EA-A315-5AE5BB88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2F1CF-84A2-4AD4-BA75-9842F3A0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C52B9-CAE8-4C4C-8DEA-43111975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5D46F-02C5-4739-BB1D-540A9A2E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52EA0-247A-42EE-898E-EEA6F553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3599B-85E6-45E0-B7F0-DA13CC2D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E1E-5F08-48AB-B9CA-DACA5578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E8E97-C209-4B9D-ADFE-F50AB78F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8A77A-06B1-47FD-9C1C-64DE907F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C3AFD-152D-4007-A7F2-62C453E9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6FC3D-68BE-4014-92DF-F29891F9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AA49A-4680-4AA6-AC87-09727E4A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ECDCE-03D1-40F9-88CC-FD146466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D56D6-57E4-4201-A08B-E7B4ACC1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E2C1C-ACCD-4F94-A85E-811FA77E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22E26-5C70-4AB0-ACB3-0ACA6847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A9D24-BF16-4578-BAC8-739A137C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325-B60D-463E-9786-A2AF39E8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EC275-98E9-4C2A-B0D3-A914C7D2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33EFC-2140-46C5-95DA-F2B55064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0E03F-B5DC-4094-A644-28BCF7CE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946CE0-F5F8-4DA6-B260-B7028FA7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9F2FC3-B23B-4681-88AF-15B89843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469DB8-E999-451A-A9C0-D42AEE76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7DA976-99BD-40B3-8D57-7188B0DE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7E2E9D-1219-4D32-B2BD-1C8B4A79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E19DB-E2E9-4D47-89A4-DA2687AA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2C9906-3EA2-4BAA-B906-D3ACE72D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C95-C4DB-4358-BBCB-712E5BC6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85A7C1-8C6A-4B7A-BCDA-25C2C1DE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093F3C-3448-4A97-B34E-419588C4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71BF7F-B61F-4968-9AB1-43CEE29C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07300-3198-409E-9614-BCE7CEC6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95099D-4ADD-4D02-B407-B100823F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4C02D-1C3A-4D33-91B0-432CB92B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78E74-F88B-45A2-B77B-52B77987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23505-8EB7-4C7B-85CE-95FADA37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EB936-2CA1-424D-A8FB-EB8074D8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F8CF5-5BD6-470B-A0B7-5C3EF3B7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9B5-638A-4535-996F-F361623B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4AADC-4E48-4472-9EE8-A49C388E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FCA14-895A-4709-A5F6-299F8A1D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1D744-3148-42D2-9709-6639C09F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9E388-AE57-463D-BFA8-A8BAFD48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4E13B-29C8-444E-A5BF-5558A0A5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00951-64CE-4A25-B3B6-34A066AD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FD24F-5A73-4044-BD3A-07033C7F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AADB-F83B-4D30-9605-9BD46F6B1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5E28-C698-48DD-87E5-635B2EF00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2824-ACBD-4503-9BED-1D915DB52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E535-09BF-453E-BABE-1A7D7299A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2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BF4B-9902-4B0C-BD80-C93B7A88FEC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8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8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8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28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3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33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4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34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8657-4E3F-4FEB-9D8E-EE7516A01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0DAB-9EB4-41CD-8292-05C603305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3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DAE8-D6F7-4696-AF15-2D4A45EA622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tion Transformations Uni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90720" y="30477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For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n Algebra 2 Cours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Project Funded by the National Science Foundatio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written by Kirk Tayl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96" name="Picture 5" descr="Pupfish"/>
          <p:cNvPicPr/>
          <p:nvPr/>
        </p:nvPicPr>
        <p:blipFill>
          <a:blip r:embed="rId1"/>
          <a:stretch/>
        </p:blipFill>
        <p:spPr>
          <a:xfrm>
            <a:off x="1066680" y="1219320"/>
            <a:ext cx="1086120" cy="63792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7495E-006 C 0.02292 -0.01781 0.04584 -0.03539 0.06372 -0.04395 C 0.0816 -0.05251 0.09393 -0.05043 0.10764 -0.05136 C 0.12136 -0.05228 0.13247 -0.05621 0.14618 -0.04974 C 0.1599 -0.04326 0.17344 -0.02822 0.19011 -0.0118 C 0.20677 0.00462 0.2316 0.0384 0.24618 0.04834 C 0.26077 0.05829 0.26459 0.05019 0.27795 0.04834 C 0.29132 0.04649 0.31476 0.04464 0.32639 0.03655 C 0.33802 0.02845 0.34063 0.01018 0.34722 2.07495E-006 C 0.35382 -0.01018 0.35955 -0.0199 0.3658 -0.02498 C 0.37205 -0.03007 0.37882 -0.02984 0.38455 -0.03077 C 0.39028 -0.03169 0.39028 -0.03401 0.4 -0.03077 C 0.40972 -0.02753 0.43316 -0.01573 0.44288 -0.0118 C 0.45261 -0.00787 0.44931 -0.01203 0.45816 -0.0074 C 0.46702 -0.00278 0.48577 0.01203 0.49549 0.01596 C 0.50521 0.01989 0.50938 0.02567 0.5165 0.01596 C 0.52361 0.00624 0.53247 -0.03031 0.53837 -0.04257 C 0.54427 -0.05483 0.5467 -0.05297 0.55157 -0.05714 C 0.55643 -0.0613 0.56233 -0.0657 0.56806 -0.06732 C 0.57379 -0.06894 0.5783 -0.06755 0.58559 -0.06732 C 0.59288 -0.06709 0.60643 -0.06662 0.61198 -0.06593 C 0.61754 -0.06523 0.61754 -0.06338 0.61858 -0.06292 E">
                                      <p:cBhvr>
                                        <p:cTn id="40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Practice makes pretty good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99"/>
                </a:solidFill>
                <a:latin typeface="Tahoma"/>
              </a:rPr>
              <a:t>Evening Enrichment Opportunitie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AutoShape 4"/>
          <p:cNvSpPr/>
          <p:nvPr/>
        </p:nvSpPr>
        <p:spPr>
          <a:xfrm rot="21024600">
            <a:off x="1836360" y="2614680"/>
            <a:ext cx="1290600" cy="1092240"/>
          </a:xfrm>
          <a:prstGeom prst="smileyFace">
            <a:avLst>
              <a:gd name="adj" fmla="val 1296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AutoShape 5"/>
          <p:cNvSpPr/>
          <p:nvPr/>
        </p:nvSpPr>
        <p:spPr>
          <a:xfrm rot="648000">
            <a:off x="5857920" y="2704680"/>
            <a:ext cx="1295280" cy="1067040"/>
          </a:xfrm>
          <a:prstGeom prst="smileyFace">
            <a:avLst>
              <a:gd name="adj" fmla="val 1370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c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684920" cy="1193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pperplate Gothic Bold"/>
              </a:rPr>
              <a:t>Assess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 observ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eacher Observations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of ske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interaction and peer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sessment Too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-class demonstration and presentation of student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CF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zes and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Assess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A. Rub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371600" y="4267080"/>
            <a:ext cx="12952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4038480" y="434340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6477120" y="4343400"/>
            <a:ext cx="12952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733920" y="1447920"/>
            <a:ext cx="1523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3733920" y="40384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58c"/>
                </a:solidFill>
                <a:latin typeface="Albertus Extra Bold"/>
              </a:rPr>
              <a:t>FTU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1371600" y="388620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s and Polynomial Func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248520" y="3962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ekton"/>
              </a:rPr>
              <a:t>Exponential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3733920" y="1600200"/>
            <a:ext cx="167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ITC Avant Garde Gothic"/>
              </a:rPr>
              <a:t>Symbolic Language Fluency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WordArt 12"/>
          <p:cNvSpPr txBox="1"/>
          <p:nvPr/>
        </p:nvSpPr>
        <p:spPr>
          <a:xfrm>
            <a:off x="1805040" y="2971800"/>
            <a:ext cx="581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8440">
                  <a:solidFill>
                    <a:srgbClr val="0066ff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How Does an FTU Fit In?</a:t>
            </a:r>
            <a:endParaRPr b="0" lang="en-US" sz="3200" spc="1" strike="noStrike">
              <a:ln w="28440">
                <a:solidFill>
                  <a:srgbClr val="0066ff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2076497200030222410lSThCs_ph"/>
          <p:cNvPicPr/>
          <p:nvPr/>
        </p:nvPicPr>
        <p:blipFill>
          <a:blip r:embed="rId1"/>
          <a:srcRect l="14508" t="14381" r="16469" b="18469"/>
          <a:stretch/>
        </p:blipFill>
        <p:spPr>
          <a:xfrm>
            <a:off x="304920" y="1143000"/>
            <a:ext cx="6705360" cy="48006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6"/>
          <p:cNvSpPr/>
          <p:nvPr/>
        </p:nvSpPr>
        <p:spPr>
          <a:xfrm>
            <a:off x="685800" y="3808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ahoma"/>
              </a:rPr>
              <a:t>Thanks! It was great!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6" presetSubtype="16">
                                  <p:stCondLst>
                                    <p:cond delay="8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CTM Standards and California Content Standards call for all students to have skill in function transforma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st Algebra 2 curriculums teach it, but not as a cohesive and comprehensive set of princip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gives students the power and knowledge to transform many types of func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 rot="21260400">
            <a:off x="0" y="838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ransform = </a:t>
            </a:r>
            <a:r>
              <a:rPr b="0" lang="en-US" sz="3600" spc="-1" strike="noStrike">
                <a:solidFill>
                  <a:srgbClr val="40458c"/>
                </a:solidFill>
                <a:latin typeface="Snap ITC"/>
              </a:rPr>
              <a:t>Chang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228600" y="19810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raphs are pictures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3" name="Picture 4" descr="worldpop2050"/>
          <p:cNvPicPr/>
          <p:nvPr/>
        </p:nvPicPr>
        <p:blipFill>
          <a:blip r:embed="rId1"/>
          <a:stretch/>
        </p:blipFill>
        <p:spPr>
          <a:xfrm>
            <a:off x="838080" y="2438280"/>
            <a:ext cx="2667240" cy="2381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daln195l"/>
          <p:cNvPicPr/>
          <p:nvPr/>
        </p:nvPicPr>
        <p:blipFill>
          <a:blip r:embed="rId2"/>
          <a:stretch/>
        </p:blipFill>
        <p:spPr>
          <a:xfrm>
            <a:off x="4952880" y="2362320"/>
            <a:ext cx="2743200" cy="209844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6"/>
          <p:cNvSpPr/>
          <p:nvPr/>
        </p:nvSpPr>
        <p:spPr>
          <a:xfrm>
            <a:off x="533520" y="48769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thematics is a symbolic language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7"/>
              <p:cNvSpPr txBox="1"/>
              <p:nvPr/>
            </p:nvSpPr>
            <p:spPr>
              <a:xfrm>
                <a:off x="1828800" y="5410080"/>
                <a:ext cx="533412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ach the rules of FT as a single comprehensive set of princip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t add time to the Algebra 2 cale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simple, low-technology and graphing calculators to give students confidence with fun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increase their fluency with function n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ther Learning Objectives for the FTU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re math vocabulary: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asymptote, increasing/decreasing function, odd/even function, inflection point, point symmetry,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more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tter curve-sketching techniq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ablish foundations for further stu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16" name="Group 15"/>
          <p:cNvGrpSpPr/>
          <p:nvPr/>
        </p:nvGrpSpPr>
        <p:grpSpPr>
          <a:xfrm>
            <a:off x="2133720" y="2895480"/>
            <a:ext cx="3885840" cy="1447920"/>
            <a:chOff x="2133720" y="2895480"/>
            <a:chExt cx="3885840" cy="1447920"/>
          </a:xfrm>
        </p:grpSpPr>
        <p:grpSp>
          <p:nvGrpSpPr>
            <p:cNvPr id="517" name="Group 5"/>
            <p:cNvGrpSpPr/>
            <p:nvPr/>
          </p:nvGrpSpPr>
          <p:grpSpPr>
            <a:xfrm>
              <a:off x="2133720" y="2895480"/>
              <a:ext cx="3885840" cy="1389960"/>
              <a:chOff x="2133720" y="2895480"/>
              <a:chExt cx="3885840" cy="1389960"/>
            </a:xfrm>
          </p:grpSpPr>
          <p:sp>
            <p:nvSpPr>
              <p:cNvPr id="518" name="Line 6"/>
              <p:cNvSpPr/>
              <p:nvPr/>
            </p:nvSpPr>
            <p:spPr>
              <a:xfrm>
                <a:off x="2133720" y="3550320"/>
                <a:ext cx="38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9" name="Freeform 7"/>
              <p:cNvSpPr/>
              <p:nvPr/>
            </p:nvSpPr>
            <p:spPr>
              <a:xfrm>
                <a:off x="2448720" y="2895480"/>
                <a:ext cx="3150720" cy="1389960"/>
              </a:xfrm>
              <a:custGeom>
                <a:avLst/>
                <a:gdLst/>
                <a:ahLst/>
                <a:rect l="l" t="t" r="r" b="b"/>
                <a:pathLst>
                  <a:path w="4320" h="2880">
                    <a:moveTo>
                      <a:pt x="0" y="0"/>
                    </a:moveTo>
                    <a:cubicBezTo>
                      <a:pt x="312" y="1272"/>
                      <a:pt x="624" y="2544"/>
                      <a:pt x="1152" y="2592"/>
                    </a:cubicBezTo>
                    <a:cubicBezTo>
                      <a:pt x="1680" y="2640"/>
                      <a:pt x="2640" y="240"/>
                      <a:pt x="3168" y="288"/>
                    </a:cubicBezTo>
                    <a:cubicBezTo>
                      <a:pt x="3696" y="336"/>
                      <a:pt x="4008" y="1608"/>
                      <a:pt x="4320" y="28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0" name="Line 8"/>
              <p:cNvSpPr/>
              <p:nvPr/>
            </p:nvSpPr>
            <p:spPr>
              <a:xfrm>
                <a:off x="2807640" y="4079880"/>
                <a:ext cx="94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1" name="Line 9"/>
              <p:cNvSpPr/>
              <p:nvPr/>
            </p:nvSpPr>
            <p:spPr>
              <a:xfrm>
                <a:off x="4353840" y="3027600"/>
                <a:ext cx="83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2" name="Line 10"/>
              <p:cNvSpPr/>
              <p:nvPr/>
            </p:nvSpPr>
            <p:spPr>
              <a:xfrm flipH="1">
                <a:off x="4233600" y="2904840"/>
                <a:ext cx="808920" cy="30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3" name="Line 11"/>
              <p:cNvSpPr/>
              <p:nvPr/>
            </p:nvSpPr>
            <p:spPr>
              <a:xfrm>
                <a:off x="4528800" y="2904840"/>
                <a:ext cx="71388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4" name="Line 12"/>
              <p:cNvSpPr/>
              <p:nvPr/>
            </p:nvSpPr>
            <p:spPr>
              <a:xfrm>
                <a:off x="2734560" y="3884400"/>
                <a:ext cx="83988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5" name="Line 13"/>
              <p:cNvSpPr/>
              <p:nvPr/>
            </p:nvSpPr>
            <p:spPr>
              <a:xfrm flipV="1">
                <a:off x="2912400" y="3906720"/>
                <a:ext cx="94500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26" name="Line 14"/>
            <p:cNvSpPr/>
            <p:nvPr/>
          </p:nvSpPr>
          <p:spPr>
            <a:xfrm>
              <a:off x="4059000" y="2895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it 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troducing the Big 6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Quadratic   </a:t>
            </a:r>
            <a:r>
              <a:rPr b="1" lang="en-US" sz="2000" spc="-1" strike="noStrike">
                <a:solidFill>
                  <a:srgbClr val="40458c"/>
                </a:solidFill>
                <a:latin typeface="Bradley Hand ITC"/>
              </a:rPr>
              <a:t>Sketching Techniqu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ubic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tencil"/>
              </a:rPr>
              <a:t>Generalizing       </a:t>
            </a:r>
            <a:r>
              <a:rPr b="0" lang="en-US" sz="2400" spc="-1" strike="noStrike">
                <a:solidFill>
                  <a:srgbClr val="40458c"/>
                </a:solidFill>
                <a:latin typeface="Impact"/>
              </a:rPr>
              <a:t>power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bsolute Valu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Square Roo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Exponential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4"/>
              <p:cNvSpPr txBox="1"/>
              <p:nvPr/>
            </p:nvSpPr>
            <p:spPr>
              <a:xfrm>
                <a:off x="4648320" y="5334120"/>
                <a:ext cx="380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nctio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75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425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225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Guided Inquiry Activ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52252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Work collaboratively under well-defined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Make conclusions and conjectures based on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676520" y="1752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tudent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Guided Inquiry Activ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clear rules for collabora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time limi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mmarize points of the activit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ess students’ understanding and modify lessons as necessar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Teacher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39" name="Picture 5" descr="20060704kaisertop"/>
          <p:cNvPicPr/>
          <p:nvPr/>
        </p:nvPicPr>
        <p:blipFill>
          <a:blip r:embed="rId6">
            <a:lum contrast="-42000"/>
          </a:blip>
          <a:stretch/>
        </p:blipFill>
        <p:spPr>
          <a:xfrm>
            <a:off x="4952880" y="1371600"/>
            <a:ext cx="2629080" cy="197172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21:54:05Z</dcterms:created>
  <dc:creator>Ed_user</dc:creator>
  <dc:description/>
  <dc:language>en-US</dc:language>
  <cp:lastModifiedBy>LEGION</cp:lastModifiedBy>
  <dcterms:modified xsi:type="dcterms:W3CDTF">2017-07-06T06:34:21Z</dcterms:modified>
  <cp:revision>17</cp:revision>
  <dc:subject/>
  <dc:title>Function Transformations Unit</dc:title>
</cp:coreProperties>
</file>