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3E74-4E1D-48C5-AB23-D2C320D09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88F-C449-4CC0-8362-61AA8ED3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47D-9774-4C16-BDAD-A281D5A7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A22-AF3C-4314-B661-751A7324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8BA-0033-49EE-BCE7-3E115829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A6C-32A6-48D4-87AA-E2166F08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B65-0DDA-4F15-91A8-A1DD524A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E83-0C10-478C-B888-3DC4F862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70D-126E-44E3-875C-98193FF5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6FE-A9BB-41C3-9515-F2FC7226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686-0240-477B-A5B9-DA8931A4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E55-D6B3-47F5-A94E-11E29959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FF6-FA68-48E2-A56A-DB8BD479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4DF1-4D5C-4418-BE46-6931E5E91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763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76320"/>
            <a:ext cx="8048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5840" y="304920"/>
            <a:ext cx="8553240" cy="129528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4360" y="387360"/>
            <a:ext cx="8296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130480" y="5330880"/>
            <a:ext cx="6864120" cy="1289160"/>
          </a:xfrm>
          <a:prstGeom prst="rect">
            <a:avLst/>
          </a:prstGeom>
          <a:solidFill>
            <a:srgbClr val="cccc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252520" y="5407200"/>
            <a:ext cx="6620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1930680" cy="1320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228600" y="2057400"/>
            <a:ext cx="8763120" cy="2927520"/>
          </a:xfrm>
          <a:prstGeom prst="rect">
            <a:avLst/>
          </a:prstGeom>
          <a:solidFill>
            <a:srgbClr val="cc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58920" y="2141640"/>
            <a:ext cx="850248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4080" y="3430440"/>
            <a:ext cx="411156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49120" y="3479760"/>
            <a:ext cx="392112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4920" y="152280"/>
            <a:ext cx="8458200" cy="1295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34880" y="160200"/>
            <a:ext cx="8197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497480" y="3430440"/>
            <a:ext cx="449244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92520" y="3479760"/>
            <a:ext cx="430236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54080" y="1601640"/>
            <a:ext cx="8835840" cy="17496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49120" y="1650960"/>
            <a:ext cx="86457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ddition to working problems, you shoul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know and underst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definitions of  these words and phras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54080" y="1754280"/>
            <a:ext cx="8835840" cy="49496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49120" y="1803240"/>
            <a:ext cx="86457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4080" y="1754280"/>
            <a:ext cx="8835840" cy="50259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49120" y="1803240"/>
            <a:ext cx="86457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interval containing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l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up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g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down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77760" y="1297080"/>
            <a:ext cx="8988480" cy="5254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73160" y="1346040"/>
            <a:ext cx="879768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44440" y="1569960"/>
            <a:ext cx="86551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52280" y="152280"/>
            <a:ext cx="8839440" cy="1143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82600" y="236520"/>
            <a:ext cx="8578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54080" y="1297080"/>
            <a:ext cx="8835840" cy="5406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49120" y="1346040"/>
            <a:ext cx="86457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(x) = 3x - 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s “f of x equals three times x subtract 4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side parenthesis is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utside parenthesis is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2:05:02Z</dcterms:created>
  <dc:creator>DCMOORC</dc:creator>
  <dc:description/>
  <dc:language>en-US</dc:language>
  <cp:lastModifiedBy>LEGION</cp:lastModifiedBy>
  <dcterms:modified xsi:type="dcterms:W3CDTF">2017-07-06T06:34:35Z</dcterms:modified>
  <cp:revision>3</cp:revision>
  <dc:subject/>
  <dc:title>PowerPoint Presentation</dc:title>
</cp:coreProperties>
</file>