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ADF0D-7BE3-4D6E-BA23-7E73CB94C0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. Claude S. Moo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 and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, domain, independent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, increasing/decreasing, even/od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r. Claude S. Moo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unctions and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unction, domain, independent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raph, increasing/decreasing, even/od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of Functional N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al n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al 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ddition to working problems, you should know and understand the definitions of  these words and phras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of Functional N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al n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al 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ddition to working problems, you should know and understand the definitions of  these words and phras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ical Line Test for a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et of points in a coordinate plane is the graph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as a function of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d only if no vertical line intersects the graph at more than one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ical Line Test for a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et of points in a coordinate plane is the graph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as a function of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d only if no vertical line intersects the graph at more than one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interval containing x1 &lt; x2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f(x) is increasing if f(x1) &lt; f(x2)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 of f(x) goes up to the r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f(x) is decreasing if f(x1) &gt; f(x2)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 of f(x) goes down to the r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any interval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f(x) is constant if f(x1) = f(x2)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 of f(x) is horizont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ing, Decreasing, and Constant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interval containing x1 &lt; x2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f(x) is increasing if f(x1) &lt; f(x2)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 of f(x) goes up to the r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f(x) is decreasing if f(x1) &gt; f(x2)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 of f(x) goes down to the r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any interval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f(x) is constant if f(x1) = f(x2)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 of f(x) is horizont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ing, Decreasing, and Constant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function given by y = f(x) is even if, for each x in the domain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-x) = f(x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 function given by y = f(x) is odd if, for each x in the domain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-x) = - f(x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and Odd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function given by y = f(x) is even if, for each x in the domain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-x) = f(x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 function given by y = f(x) is odd if, for each x in the domain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-x) = - f(x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and Odd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unction f from set A to set B is a rule of correspondence that assigns to each element x in set A exactly one element y in set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 A is the domain (or set of inputs) of the function f, and set B contains range (or set of output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: 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unction f from set A to set B is a rule of correspondence that assigns to each element x in set A exactly one element y in set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 A is the domain (or set of inputs) of the function f, and set B contains range (or set of output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: 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Each element in A (domain) must be matched with an element of B (rang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Each element in A is matched to not more than one element in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Some elements in B may not be matched with any element in 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Two or more elements of A may be matched with the same element of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of a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Each element in A (domain) must be matched with an element of B (rang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Each element in A is matched to not more than one element in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Some elements in B may not be matched with any element in 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Two or more elements of A may be matched with the same element of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of a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  f(x) = 3x - 4 as “f of x equals three times x subtract 4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inside parenthesis is 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vari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outside parenthesis is 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 vari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function f(x) = 3x - 4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5) = 3(5) - 4 = 15 - 4 = 11, an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-2) = 3(-2) - 4 = - 6 - 4 = -1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al N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  f(x) = 3x - 4 as “f of x equals three times x subtract 4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inside parenthesis is 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vari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outside parenthesis is 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 vari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function f(x) = 3x - 4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5) = 3(5) - 4 = 15 - 4 = 11, an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-2) = 3(-2) - 4 = - 6 - 4 = -1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al N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“piecewise function” defines the function in pieces (or part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function below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x is less than or equal to zero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= 2x - 1; otherwise, f(x) = x2 -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ece-Wise Defined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“piecewise function” defines the function in pieces (or part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function below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x is less than or equal to zero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= 2x - 1; otherwise, f(x) = x2 -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ece-Wise Defined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unction f from set A to set B is a rule of correspondence that assigns to each element x in set A exactly one element y in set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 A is the domain (or set of inputs) of the function f, and set B contains range (or set of output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: 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unction f from set A to set B is a rule of correspondence that assigns to each element x in set A exactly one element y in set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 A is the domain (or set of inputs) of the function f, and set B contains range (or set of output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: 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“piecewise function” defines the function in pieces (or part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function below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x is less than or equal to zero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= 2x - 1; otherwise, f(x) = x2 -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ece-Wise Defined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“piecewise function” defines the function in pieces (or part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function below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x is less than or equal to zero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= 2x - 1; otherwise, f(x) = x2 -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ece-Wise Defined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, the domain is implied to be the set of all real numbers that yield a real number functional value (in the rang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restrictions to doma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Denominator cannot equal zero (0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Radicand must be greater than or equal to zero (0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Practical problems may limit dom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ain of a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, the domain is implied to be the set of all real numbers that yield a real number functional value (in the rang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restrictions to doma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Denominator cannot equal zero (0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Radicand must be greater than or equal to zero (0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Practical problems may limit dom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ain of a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, the domain is implied to be the set of all real numbers that yield a real number functional value (in the rang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restrictions to doma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Denominator cannot equal zero (0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Radicand must be greater than or equal to zero (0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Practical problems may limit dom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ain of a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, the domain is implied to be the set of all real numbers that yield a real number functional value (in the rang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restrictions to doma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Denominator cannot equal zero (0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Radicand must be greater than or equal to zero (0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Practical problems may limit dom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ain of a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BF12-3719-4DB1-9676-881261FEC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7F02-EB22-44A7-8A8C-C697326D5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7D2D-0820-4B82-B677-3CE1587B8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C001-C46C-4A8F-846F-618EC5FC9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1914-9331-490F-91A1-A441016E2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D12F-6D4B-49C6-8428-4559B10C7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CC75-885B-4529-8AA1-F70C39DC1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67AF-D845-48CB-8A69-15C75CE0A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D721-5D83-452D-918A-350F4452B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2F63-A266-4F05-A944-E7A1B77D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A5FD-59AF-40F8-92E3-8439BB32E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D258-07E3-415E-A5C2-CBD1813F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D7BAF-481C-4713-B7F8-8BEFA51EC8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457200" y="76320"/>
            <a:ext cx="82296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457200" y="76320"/>
            <a:ext cx="80485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285840" y="304920"/>
            <a:ext cx="8553240" cy="1295280"/>
          </a:xfrm>
          <a:prstGeom prst="rect">
            <a:avLst/>
          </a:prstGeom>
          <a:solidFill>
            <a:srgbClr val="ffff66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414360" y="387360"/>
            <a:ext cx="82962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PRECALCULUS 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2130480" y="5330880"/>
            <a:ext cx="6864120" cy="1289160"/>
          </a:xfrm>
          <a:prstGeom prst="rect">
            <a:avLst/>
          </a:prstGeom>
          <a:solidFill>
            <a:srgbClr val="ccccff"/>
          </a:soli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2252520" y="5407200"/>
            <a:ext cx="662004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Dr. Claude S. Moore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Danville Community Colle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8" descr=""/>
          <p:cNvPicPr/>
          <p:nvPr/>
        </p:nvPicPr>
        <p:blipFill>
          <a:blip r:embed="rId1"/>
          <a:stretch/>
        </p:blipFill>
        <p:spPr>
          <a:xfrm>
            <a:off x="152280" y="5334120"/>
            <a:ext cx="1930680" cy="1320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9"/>
          <p:cNvSpPr/>
          <p:nvPr/>
        </p:nvSpPr>
        <p:spPr>
          <a:xfrm>
            <a:off x="228600" y="2057400"/>
            <a:ext cx="8763120" cy="2927520"/>
          </a:xfrm>
          <a:prstGeom prst="rect">
            <a:avLst/>
          </a:prstGeom>
          <a:solidFill>
            <a:srgbClr val="ccff99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0"/>
          <p:cNvSpPr/>
          <p:nvPr/>
        </p:nvSpPr>
        <p:spPr>
          <a:xfrm>
            <a:off x="358920" y="2141640"/>
            <a:ext cx="8502480" cy="28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Functions and Graph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nction, domain, independent 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aph, increasing/decreasing, even/o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154080" y="3430440"/>
            <a:ext cx="4111560" cy="334980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249120" y="3479760"/>
            <a:ext cx="3921120" cy="32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pendent vari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dependent vari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om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304920" y="152280"/>
            <a:ext cx="8458200" cy="129564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434880" y="160200"/>
            <a:ext cx="819792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ummary of Functional 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4497480" y="3430440"/>
            <a:ext cx="4492440" cy="334980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4592520" y="3479760"/>
            <a:ext cx="4302360" cy="32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nctional no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nctional valu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mplied dom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154080" y="1601640"/>
            <a:ext cx="8835840" cy="174960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249120" y="1650960"/>
            <a:ext cx="864576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addition to working problems, you should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know and understa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the definitions of  these words and phrases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304920" y="152280"/>
            <a:ext cx="8458200" cy="144792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434880" y="236520"/>
            <a:ext cx="81979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Vertical Line Test for a F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154080" y="1754280"/>
            <a:ext cx="8835840" cy="494964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249120" y="1803240"/>
            <a:ext cx="8645760" cy="48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set of points in a coordinate plane is the graph of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 as a function of 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f and only if no vertical line intersects the graph at more than one poin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0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154080" y="1754280"/>
            <a:ext cx="8835840" cy="502596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249120" y="1803240"/>
            <a:ext cx="864576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n the interval containing 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&lt; 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f(x) i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creasin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f f(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&lt; f(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 of f(x)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oes up to the righ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f(x) i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creasin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f f(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&gt; f(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 of f(x)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oes down to the righ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n any interval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 f(x) i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nstan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f f(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f(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 of f(x) i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orizontal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304920" y="152280"/>
            <a:ext cx="8458200" cy="144792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434880" y="236520"/>
            <a:ext cx="81979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8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ncreasing, Decreasing, and Constant F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0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77760" y="1297080"/>
            <a:ext cx="8988480" cy="525456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173160" y="1346040"/>
            <a:ext cx="8797680" cy="51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A function given by y = f(x) is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ve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if, for each x in the domain,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(-x) = f(x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A function given by y = f(x) is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d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if, for each x in the domain,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(-x) = - f(x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04920" y="152280"/>
            <a:ext cx="8458200" cy="91440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434880" y="236520"/>
            <a:ext cx="81979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Even and Odd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0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154080" y="1830240"/>
            <a:ext cx="8835840" cy="472140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249120" y="1879560"/>
            <a:ext cx="8645760" cy="46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unction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from set A to set B is a rule of correspondence that assigns to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ach element x in set A exactly one element y in set B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is the domai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(or set of inputs) of the function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and set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 contains rang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(or set of outputs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304920" y="152280"/>
            <a:ext cx="8458200" cy="144792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434880" y="236520"/>
            <a:ext cx="81979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Definition:  Func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152280" y="1523880"/>
            <a:ext cx="8839440" cy="51055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244440" y="1569960"/>
            <a:ext cx="8655120" cy="50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Each element in A (domain) must be matched with an element of B (range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Each element in A is matched to not more than one element in B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 Some elements in B may not be matched with any element in 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. Two or more elements of A may be matched with the same element of B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152280" y="152280"/>
            <a:ext cx="8839440" cy="114300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282600" y="236520"/>
            <a:ext cx="857880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Characteristics of a Fun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154080" y="1297080"/>
            <a:ext cx="8835840" cy="540684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249120" y="1346040"/>
            <a:ext cx="864576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ad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(x) = 3x - 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s “f of x equals three times x subtract 4.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nside parenthesis is th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variab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outside parenthesis is th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penden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variab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 the function f(x) = 3x - 4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(5) = 3(5) - 4 = 15 - 4 = 11,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(-2) = 3(-2) - 4 = - 6 - 4 = -10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304920" y="152280"/>
            <a:ext cx="8458200" cy="99072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434880" y="236520"/>
            <a:ext cx="81979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Functional 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154080" y="1220760"/>
            <a:ext cx="8835840" cy="548316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249120" y="1270080"/>
            <a:ext cx="8645760" cy="53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“piecewise function” defines the function in pieces (or parts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the function below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f x is less than or equal to zero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(x) = 2x - 1; otherwise, f(x) = 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- 1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304920" y="152280"/>
            <a:ext cx="8458200" cy="99072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434880" y="236520"/>
            <a:ext cx="81979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Piece-Wise Defined Fun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6"/>
              <p:cNvSpPr txBox="1"/>
              <p:nvPr/>
            </p:nvSpPr>
            <p:spPr>
              <a:xfrm>
                <a:off x="1828800" y="4648320"/>
                <a:ext cx="5327640" cy="16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f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 </m:t>
                              </m:r>
                              <m:r>
                                <m:t xml:space="preserve">≤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f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154080" y="1830240"/>
            <a:ext cx="8835840" cy="472140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249120" y="1879560"/>
            <a:ext cx="8645760" cy="46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unction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from set A to set B is a rule of correspondence that assigns to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ach element x in set A exactly one element y in set B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is the domai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(or set of inputs) of the function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and set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 contains rang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(or set of outputs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304920" y="152280"/>
            <a:ext cx="8458200" cy="144792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434880" y="236520"/>
            <a:ext cx="81979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Definition:  Func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154080" y="1220760"/>
            <a:ext cx="8835840" cy="548316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249120" y="1270080"/>
            <a:ext cx="8645760" cy="53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“piecewise function” defines the function in pieces (or parts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the function below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f x is less than or equal to zero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(x) = 2x - 1; otherwise, f(x) = 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- 1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304920" y="152280"/>
            <a:ext cx="8458200" cy="99072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434880" y="236520"/>
            <a:ext cx="81979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Piece-Wise Defined Fun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6"/>
              <p:cNvSpPr txBox="1"/>
              <p:nvPr/>
            </p:nvSpPr>
            <p:spPr>
              <a:xfrm>
                <a:off x="1828800" y="4648320"/>
                <a:ext cx="5327640" cy="16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f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 </m:t>
                              </m:r>
                              <m:r>
                                <m:t xml:space="preserve">≤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f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154080" y="1220760"/>
            <a:ext cx="8835840" cy="555948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49120" y="1270080"/>
            <a:ext cx="8645760" cy="54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enerally, the domain is implied to be the set of all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al number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that yield a real number functional value (in the range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me restrictions to domai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nominato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cannot equal zero (0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adica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must be greater than or equal to zero (0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actical problem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may limit domai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304920" y="152280"/>
            <a:ext cx="8458200" cy="91440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434880" y="236520"/>
            <a:ext cx="81979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Domain of a F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154080" y="1220760"/>
            <a:ext cx="8835840" cy="555948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249120" y="1270080"/>
            <a:ext cx="8645760" cy="54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enerally, the domain is implied to be the set of all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al number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that yield a real number functional value (in the range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me restrictions to domai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nominato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cannot equal zero (0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adica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must be greater than or equal to zero (0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actical problem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may limit domai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304920" y="152280"/>
            <a:ext cx="8458200" cy="91440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434880" y="236520"/>
            <a:ext cx="81979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Domain of a F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0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8T12:05:02Z</dcterms:created>
  <dc:creator>DCMOORC</dc:creator>
  <dc:description/>
  <dc:language>en-US</dc:language>
  <cp:lastModifiedBy>LEGION</cp:lastModifiedBy>
  <dcterms:modified xsi:type="dcterms:W3CDTF">2017-07-06T06:34:35Z</dcterms:modified>
  <cp:revision>3</cp:revision>
  <dc:subject/>
  <dc:title>PowerPoint Presentation</dc:title>
</cp:coreProperties>
</file>