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BD44-7ABE-4329-AE8D-13C11A1F3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1560" y="684360"/>
            <a:ext cx="4574880" cy="34318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r. Claude S. Moore</a:t>
            </a:r>
            <a:br>
              <a:rPr sz="1200"/>
            </a:b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anville Community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ddition to working problems, you should know and understand the definitions of  these words and phrase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the interval containing x1 &lt; x2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f(x) is increasing if f(x1) &l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up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f(x) is decreasing if f(x1) &gt;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goes down to the righ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f(x) is constant if f(x1) = f(x2)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(x) is horizo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function given by y = f(x) is even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A function given by y = f(x) is odd if, for each x in the domain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 f(x) = 3x - 4 as “f of x equals three times x subtract 4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inside parenthesis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outside parenthesis is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pendent vari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f from set A to set B is a rule of correspondence that assigns to each element x in set A exactly one element y in set 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t A is the domain (or set of inputs) of the function f, and set B contains range (or set of outpu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x) = 2x - 1; otherwise, f(x) = x2 -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real numbers that yield a real number functional value (in the rang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restrictions to domai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Denominator cannot equal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adicand must be greater than or equal to zero (0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actical problems may limit dom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5473-3C64-4782-9B02-7260A9CB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BC71-61C7-471E-9310-73FFC4972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054-0BEB-43B4-95D6-45F11F351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718A-BD5C-4A35-AFEB-07953F024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4033-49EE-4D42-98AD-19209DD4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8922-3519-4375-86F8-2C03C0593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9813-575D-4E13-81B6-B67F0DDA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E5A8-6266-4728-8B05-63E6CA73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3381-EEFC-42E4-BB3D-9568DC51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ED09-527B-42EC-9FAB-B57F4CE4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1699-73C2-4CDA-B775-326E3695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F875-4EDE-4EDB-AF67-3D8BE7C3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7FE2-2CD8-4906-8FA0-896871D2F6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457200" y="76320"/>
            <a:ext cx="82296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457200" y="76320"/>
            <a:ext cx="80485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85840" y="304920"/>
            <a:ext cx="8553240" cy="1295280"/>
          </a:xfrm>
          <a:prstGeom prst="rect">
            <a:avLst/>
          </a:prstGeom>
          <a:solidFill>
            <a:srgbClr val="ffff66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414360" y="387360"/>
            <a:ext cx="829620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PRECALCULUS 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130480" y="5330880"/>
            <a:ext cx="6864120" cy="1289160"/>
          </a:xfrm>
          <a:prstGeom prst="rect">
            <a:avLst/>
          </a:prstGeom>
          <a:solidFill>
            <a:srgbClr val="ccccff"/>
          </a:solidFill>
          <a:ln w="507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2252520" y="5407200"/>
            <a:ext cx="6620040" cy="11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r. Claude S. Moore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Book Antiqua"/>
              </a:rPr>
              <a:t>Danville Community Colle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8" descr=""/>
          <p:cNvPicPr/>
          <p:nvPr/>
        </p:nvPicPr>
        <p:blipFill>
          <a:blip r:embed="rId1"/>
          <a:stretch/>
        </p:blipFill>
        <p:spPr>
          <a:xfrm>
            <a:off x="152280" y="5334120"/>
            <a:ext cx="1930680" cy="13208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9"/>
          <p:cNvSpPr/>
          <p:nvPr/>
        </p:nvSpPr>
        <p:spPr>
          <a:xfrm>
            <a:off x="228600" y="2057400"/>
            <a:ext cx="8763120" cy="2927520"/>
          </a:xfrm>
          <a:prstGeom prst="rect">
            <a:avLst/>
          </a:prstGeom>
          <a:solidFill>
            <a:srgbClr val="ccff99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58920" y="2141640"/>
            <a:ext cx="8502480" cy="286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Functions and Graph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unction, domain, independent 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ph, increasing/decreasing, even/o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4080" y="3430440"/>
            <a:ext cx="411156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49120" y="3479760"/>
            <a:ext cx="392112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t vari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ng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04920" y="152280"/>
            <a:ext cx="8458200" cy="129564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434880" y="160200"/>
            <a:ext cx="8197920" cy="11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ummary of 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4497480" y="3430440"/>
            <a:ext cx="4492440" cy="33498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4592520" y="3479760"/>
            <a:ext cx="4302360" cy="32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nctional valu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ied dom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154080" y="1601640"/>
            <a:ext cx="8835840" cy="17496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249120" y="1650960"/>
            <a:ext cx="8645760" cy="16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addition to working problems, you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know and underst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e definitions of  these words and phrase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0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6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Vertical Line Test for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154080" y="1754280"/>
            <a:ext cx="8835840" cy="49496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249120" y="1803240"/>
            <a:ext cx="8645760" cy="48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set of points in a coordinate plane is the graph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y as a function of 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f and only if no vertical line intersects the graph at more than one poi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4080" y="1754280"/>
            <a:ext cx="8835840" cy="50259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49120" y="1803240"/>
            <a:ext cx="86457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the interval containing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&lt; 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l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up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creasing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&gt;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oes down to the righ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n any interval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onsta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f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= f(x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f(x)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rizont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ncreasing, Decreasing, and Constant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77760" y="1297080"/>
            <a:ext cx="8988480" cy="52545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173160" y="1346040"/>
            <a:ext cx="8797680" cy="51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1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ve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. A function given by y = f(x) is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d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f, for each x in the domain,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(-x) = - f(x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Even and Odd F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152280" y="1523880"/>
            <a:ext cx="8839440" cy="51055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244440" y="1569960"/>
            <a:ext cx="865512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Each element in A (domain) must be matched with an element of B (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Each element in A is matched to not more than one element in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Some elements in B may not be matched with any element in 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. Two or more elements of A may be matched with the same element of 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52280" y="152280"/>
            <a:ext cx="8839440" cy="11430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282600" y="236520"/>
            <a:ext cx="8578800" cy="9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Characteristics of a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0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154080" y="1297080"/>
            <a:ext cx="8835840" cy="540684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49120" y="1346040"/>
            <a:ext cx="864576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ad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(x) = 3x - 4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as “f of x equals three times x subtract 4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nside parenthesis is the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outside parenthesis is the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penden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variabl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the function f(x) = 3x - 4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5) = 3(5) - 4 = 15 - 4 = 11,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-2) = 3(-2) - 4 = - 6 - 4 = -10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Functional No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154080" y="1830240"/>
            <a:ext cx="8835840" cy="472140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249120" y="1879560"/>
            <a:ext cx="8645760" cy="46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unction 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rom set A to set B is a rule of correspondence that assigns to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ach element x in set A exactly one element y in set 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is the doma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inputs) of the functio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, and set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 contains rang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(or set of output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304920" y="152280"/>
            <a:ext cx="8458200" cy="14479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434880" y="236520"/>
            <a:ext cx="8197920" cy="12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Definition:  Functio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4080" y="1220760"/>
            <a:ext cx="8835840" cy="548316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49120" y="1270080"/>
            <a:ext cx="864576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piecewise function” defines the function in pieces (or part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 the function below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f x is less than or equal to zero,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(x) = 2x - 1; otherwise, f(x) =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- 1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04920" y="152280"/>
            <a:ext cx="8458200" cy="99072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434880" y="236520"/>
            <a:ext cx="819792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Piece-Wise Defined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1828800" y="4648320"/>
                <a:ext cx="5327640" cy="16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2</m:t>
                              </m:r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 </m:t>
                              </m:r>
                              <m:r>
                                <m:t xml:space="preserve">≤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r>
                                <m:t xml:space="preserve">x</m:t>
                              </m:r>
                              <m:r>
                                <m:t xml:space="preserve">&gt;</m:t>
                              </m:r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54080" y="1220760"/>
            <a:ext cx="8835840" cy="5559480"/>
          </a:xfrm>
          <a:prstGeom prst="rect">
            <a:avLst/>
          </a:prstGeom>
          <a:solidFill>
            <a:srgbClr val="ccff99"/>
          </a:solidFill>
          <a:ln w="1260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49120" y="1270080"/>
            <a:ext cx="8645760" cy="54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ly, the domain is implied to be the set of all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al number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that yield a real number functional value (in the rang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ome restrictions to domai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enominator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annot equal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adican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ust be greater than or equal to zero (0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ractical problems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may limit domai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304920" y="152280"/>
            <a:ext cx="8458200" cy="914400"/>
          </a:xfrm>
          <a:prstGeom prst="rect">
            <a:avLst/>
          </a:prstGeom>
          <a:solidFill>
            <a:srgbClr val="ffffcc"/>
          </a:solidFill>
          <a:ln w="7632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434880" y="236520"/>
            <a:ext cx="81979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97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omain of a Fun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0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8T12:05:02Z</dcterms:created>
  <dc:creator>DCMOORC</dc:creator>
  <dc:description/>
  <dc:language>en-US</dc:language>
  <cp:lastModifiedBy>LEGION</cp:lastModifiedBy>
  <dcterms:modified xsi:type="dcterms:W3CDTF">2017-07-06T06:34:35Z</dcterms:modified>
  <cp:revision>3</cp:revision>
  <dc:subject/>
  <dc:title>PowerPoint Presentation</dc:title>
</cp:coreProperties>
</file>