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8E1-6B2B-460E-8F36-B4E9E8D34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Correspond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one-to-one corresponde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r bijection)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:X→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t is both one-to-one and o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Linear functions: f(x)=ax+b when a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Exponential functions: f(x)=bx 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 and co-domain R+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Logarithmic functions: f(x)=logbx 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with domain R+ and co-domain 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orem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se F: X→Y is a one-to-one correspond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there is a function  F-1: Y→X defined as follow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n any element in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-1(y) = the unique element x in 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unction F-1 is called the inverse function for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 (b&gt;0, b 1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inverse of the exponential function with base 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and 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A function f from a set X to a set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element of X is related to a unique element of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oted f:X→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is called domain of f; Y is called co-domain of 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X=Z, Y=Z  and f : x → 2∙x / 2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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X   ! yY such that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(x) is called f of x (or image of x under f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nge of f = {yY | y=f(x) for some x in X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y = {xX | f(x)=y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(cont.): range of f = all even integers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 of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ing function:  f : x → 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ant function:  f : x → 3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function:  f : x → 3x+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ial function: f : n → n!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equence can be consider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function defined on a set of integ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,  sequence  2,5,8,11,14,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function from Z+ to Z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ed as follows f : n → 3n-1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lean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(n-place) Boolean function is a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se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whose co-doma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:   f : (x,y,z) → (~x  y)  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-to-on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e-to-one (or in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ll elements x1, x2  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F(x1)=F(x2) then x1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R → R by f(x)=x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to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 is onto (or surjective) if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ny element y  Y there is a x 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that  F(x)=y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Define f : Z → Z by f(n)=2n+3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: Z → Z by f(n)=n-2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onenti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 to R+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b(x) = 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0=1   b-x = 1/b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bv = bu+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u)v = bu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c)u = buc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arithmic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b&gt;0, b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the following function from R+  to 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(x) = the exponent to which b mu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mbolically, logbx = y    by = x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AFA8-8371-48BA-A3C5-8C836A1BF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F74E0-5C12-412C-B4A8-C42A81DC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F993-06CD-4255-8B63-02C0D52D8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2E0C-A71E-4ACC-A8CF-01BC9D5F5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401E-FB31-47A5-B364-58C087731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5D2E-4A38-4C79-A5CD-D0D3960D0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4C46-9E65-4359-B428-0AB512DA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64EB-E9AE-45D3-8EF2-B4A35297C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D184-9244-4ED7-A362-1B78C6C74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97F6-BFE4-46B4-9135-CB6F3D0A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088-C80A-42DC-9F6C-EC77B953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5778-98D1-431A-B7A0-220B3B68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3AF38-F83A-48FC-B72C-2D7542A51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663300"/>
                </a:solidFill>
                <a:latin typeface="Comic Sans MS"/>
              </a:rPr>
              <a:t>Functio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Correspond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106668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-to-one correspond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je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rom a set X to a set 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function f: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at is both one-to-one and on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Linear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ax+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a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Exponential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b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Logarithmic functions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f(x)=log</a:t>
            </a:r>
            <a:r>
              <a:rPr b="0" lang="en-US" sz="2800" spc="-1" strike="noStrike" baseline="-25000">
                <a:solidFill>
                  <a:srgbClr val="6633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b&gt;0, b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with 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co-domai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Invers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orem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se F: 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Y is a one-to-one correspond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n there is a function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: 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→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defined as follo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iven any element in Y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(y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the unique element x in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unction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F</a:t>
            </a:r>
            <a:r>
              <a:rPr b="0" lang="en-US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-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called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 func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or 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ampl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garithmi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  (b&gt;0, 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the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  <a:ea typeface="Arial"/>
              </a:rPr>
              <a:t>in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of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function with base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Definition and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function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rom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a set </a:t>
            </a: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elationship between elements of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the property th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X is related to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niq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ement of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noted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f:X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→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; Y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co-dom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X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, Y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nd f : x → 2∙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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 /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 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such that f(x)=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(x) is call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 of 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or image of x under f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nge of 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y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| y=f(x) for some x in X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verse image of 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{x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| f(x)=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xample(cont.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ange of f = all even integers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erse image of 4 = {3, 4}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amples of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ring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x</a:t>
            </a:r>
            <a:r>
              <a:rPr b="0" lang="en-US" sz="2800" spc="-1" strike="noStrike" baseline="30000">
                <a:solidFill>
                  <a:srgbClr val="663300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stant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inear function: 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x → 3x+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ctorial function: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n!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n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equ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can be conside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s a function defined on a set of integer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.g.,  sequence  2,5,8,11,14,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s a function from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 Z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        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fined as follows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f : n → 3n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truth tab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considered as a function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omain is the 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all ordered couples of 0 and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-domain is {0,1}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09680" y="1523880"/>
          <a:ext cx="4114800" cy="3160800"/>
        </p:xfrm>
        <a:graphic>
          <a:graphicData uri="http://schemas.openxmlformats.org/drawingml/2006/table">
            <a:tbl>
              <a:tblPr/>
              <a:tblGrid>
                <a:gridCol w="1447920"/>
                <a:gridCol w="1219320"/>
                <a:gridCol w="144756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p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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53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Boolean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(n-place)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oolean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of all ordered n-tuples of 0’s and 1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hos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o-dom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set {0,1}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 : (x,y,z)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~x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)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e-to-one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F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e-to-o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in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elements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=F(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then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f is one-to-one, and g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Onto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 a function from set X to set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is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on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or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surjec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if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element y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Y there is a x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uch tha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F(x)=y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xamples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efine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2n+3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f(n)=n-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n g is onto, and f is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3300"/>
                </a:solidFill>
                <a:latin typeface="Comic Sans MS"/>
              </a:rPr>
              <a:t>Exponential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xponential function with bas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xp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1/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+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c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Comic Sans MS"/>
              </a:rPr>
              <a:t>Logarithm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arithmic function with base 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b&gt;0, b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following function from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+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log</a:t>
            </a:r>
            <a:r>
              <a:rPr b="0" lang="en-US" sz="3200" spc="-1" strike="noStrike" baseline="-25000">
                <a:solidFill>
                  <a:srgbClr val="33339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(x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he exponent to which b mus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ed to obtain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ically, lo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x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per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4"/>
              <p:cNvSpPr txBox="1"/>
              <p:nvPr/>
            </p:nvSpPr>
            <p:spPr>
              <a:xfrm>
                <a:off x="3200400" y="4495680"/>
                <a:ext cx="243828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3276720" y="5594400"/>
                <a:ext cx="4249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y</m:t>
                        </m:r>
                        <m:r>
                          <m:t xml:space="preserve">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(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og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30T18:51:25Z</dcterms:created>
  <dc:creator>vardges</dc:creator>
  <dc:description/>
  <dc:language>en-US</dc:language>
  <cp:lastModifiedBy>LEGION</cp:lastModifiedBy>
  <dcterms:modified xsi:type="dcterms:W3CDTF">2017-07-06T06:34:51Z</dcterms:modified>
  <cp:revision>44</cp:revision>
  <dc:subject/>
  <dc:title>Functions</dc:title>
</cp:coreProperties>
</file>