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34EA-5514-472A-848C-203E44D0E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B10-8307-4FDE-8F13-23BB35BE8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E44-2116-488C-AAC8-93B1CE957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E182-13A2-46F3-870A-738CF71D1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760-8932-4E1C-8F5E-C1B043E1A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2153-E5A5-4448-99A8-D231E52E9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E914-C6F4-402C-902D-B71DBEC7C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C684-F71C-4F9C-8A5D-33869E407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863D-410A-4591-9CF1-32731DDEE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A153-D514-43F8-AFA2-11DA14D7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C621-3CE4-44C3-B18F-CC5730A0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AA82-A472-4023-AE5E-7745C5A9A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64B9-AF6F-4ABE-B7BD-33E2B5D5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D6B2-FF3F-4135-8B19-E5EB301CF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Comic Sans MS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Correspond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-to-one correspo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j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rom a set X to a set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unction f: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at is both one-to-one and o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Linear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ax+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Exponential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b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Logarithmic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log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Invers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F: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is a one-to-one correspon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there is a function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→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n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ny element in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the unique element x in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un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called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arith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  (b&gt;0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Definition and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X is related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f:X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; Y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-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f : x → 2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such that f(x)=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 of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image of x under 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nge of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| y=f(x) for some x in 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rse image of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| f(x)=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(cont.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ge of f = all even integers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ample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ing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x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ant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ar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x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ctorial function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be consid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a function defined on a set of inte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 sequence  2,5,8,11,1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function from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ed as follows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3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09680" y="1523880"/>
          <a:ext cx="4114800" cy="3160800"/>
        </p:xfrm>
        <a:graphic>
          <a:graphicData uri="http://schemas.openxmlformats.org/drawingml/2006/table">
            <a:tbl>
              <a:tblPr/>
              <a:tblGrid>
                <a:gridCol w="1447920"/>
                <a:gridCol w="1219320"/>
                <a:gridCol w="1447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(n-place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oolean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-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f : (x,y,z)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~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-to-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lement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to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ur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element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here is a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n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/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+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c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Logarithm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exponent to which b mu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,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200400" y="4495680"/>
                <a:ext cx="2438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3276720" y="5594400"/>
                <a:ext cx="4249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25Z</dcterms:created>
  <dc:creator>vardges</dc:creator>
  <dc:description/>
  <dc:language>en-US</dc:language>
  <cp:lastModifiedBy>LEGION</cp:lastModifiedBy>
  <dcterms:modified xsi:type="dcterms:W3CDTF">2017-07-06T06:34:51Z</dcterms:modified>
  <cp:revision>44</cp:revision>
  <dc:subject/>
  <dc:title>Functions</dc:title>
</cp:coreProperties>
</file>