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2045-6DAB-4C7E-A102-2963355B0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8E2-5B58-4C51-AFC9-4A9E656E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0AB-EB33-4D53-A3EA-454FB470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701-F571-418B-928F-B22C6F59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E844-B61B-4420-845C-8D098F2B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D01-8FD8-44FA-B20B-8944D121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EA5-A77B-4B6F-AE6C-7F905973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F33-2A69-46F0-B9C9-E25CB07F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B9F7-DB10-410C-819D-DE6CA4A8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8A64-C616-4C1A-AF1F-CDEAD759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B8A-0D53-4B48-B24E-AE92287A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44BC-641E-4950-9370-78055891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002-5BD3-4924-BF2F-8E9C87E0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F319-EC7C-4E9D-8B62-19AA0769B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Comic Sans MS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Correspond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-to-one correspon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j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rom a set X to a set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function f: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at is both one-to-one and o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Linear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ax+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Exponential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b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Logarithmic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log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Invers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F: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is a one-to-one correspon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n there is a function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Y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→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fin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n any element in 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the unique element x in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uncti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called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or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arith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  (b&gt;0, 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Definition and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nction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X is related 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te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f:X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; Y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-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f : x → 2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 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such that f(x)=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 of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image of x under 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nge of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| y=f(x) for some x in 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verse image of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| f(x)=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(cont.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ge of f = all even integers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amples of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ing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x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tant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ear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x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ctorial function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n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q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n be conside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 a function defined on a set of integ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,  sequence  2,5,8,11,1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a function from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ed as follows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3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09680" y="1523880"/>
          <a:ext cx="4114800" cy="3160800"/>
        </p:xfrm>
        <a:graphic>
          <a:graphicData uri="http://schemas.openxmlformats.org/drawingml/2006/table">
            <a:tbl>
              <a:tblPr/>
              <a:tblGrid>
                <a:gridCol w="1447920"/>
                <a:gridCol w="1219320"/>
                <a:gridCol w="1447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(n-place)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oolean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-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f : (x,y,z)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~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e-to-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lement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to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sur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element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there is a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n-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ponenti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/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+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c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Logarithm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exponent to which b mu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ally,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e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3200400" y="4495680"/>
                <a:ext cx="24382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3276720" y="5594400"/>
                <a:ext cx="4249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25Z</dcterms:created>
  <dc:creator>vardges</dc:creator>
  <dc:description/>
  <dc:language>en-US</dc:language>
  <cp:lastModifiedBy>LEGION</cp:lastModifiedBy>
  <dcterms:modified xsi:type="dcterms:W3CDTF">2017-07-06T06:34:51Z</dcterms:modified>
  <cp:revision>44</cp:revision>
  <dc:subject/>
  <dc:title>Functions</dc:title>
</cp:coreProperties>
</file>